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A61-1EBC-4BEF-BB8F-7EE3A6D2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FA0-F1DC-41CA-8A00-AD8B9644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B86-DA45-4855-B59B-7C51DF35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60C-6A2E-4942-9F31-1CB86467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260F-43F8-4306-85FD-697DEBF4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707B-F175-49B4-9CAE-916399E5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2034-33AF-44FD-B29A-FB247D64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92D1-86FD-4345-A193-A676E5DE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CC68-CCB3-4893-AEE2-FB87E415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3D94-BE1D-4300-A112-8C86E64F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9C42-8D5D-4F24-8B22-D3170C6F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AAD-FF79-4CCE-A480-12877A72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95EC-AF90-4030-B020-1612714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867E-2610-419A-AD9E-2BFB7321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A62C-1973-4232-A223-684FD835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B53E-A62A-4F34-AE36-55965BF4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5534-1E25-41AB-BC8A-DC6CCDF4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2C8-B66A-42A4-862A-8C0DA42C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CEC-7719-46CC-B5C8-9CA64ABF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DD4-2B7B-4C76-A5E8-303265C6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912-74F4-4A28-AC17-D45A6B42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2D6-5384-486A-9603-EBAFBD8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EE3-D5E5-4BF0-9960-42520F36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081-C07B-4468-BB88-FDDFC9D7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D65A-1317-4112-97C5-8A79BDF921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3CEB-1E41-4D0D-A3BD-D9A47172A7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3857760" y="221148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692360" y="2925720"/>
            <a:ext cx="657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端阳怀古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模板在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37152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板的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28760" y="1571760"/>
            <a:ext cx="82072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971-4DDB-4806-925E-461B3F50BD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71960" y="257184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感谢您的关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1:54Z</dcterms:created>
  <dc:creator>pc</dc:creator>
  <dc:description>www.eeppt.com;</dc:description>
  <cp:keywords>www.eeppt.com</cp:keywords>
  <dc:language>en-US</dc:language>
  <cp:lastModifiedBy>jccook</cp:lastModifiedBy>
  <dcterms:modified xsi:type="dcterms:W3CDTF">2015-08-11T14:22:37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