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8ECBF-FA97-4A2C-AA74-4B60AB9E6F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8207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820320"/>
            <a:ext cx="8207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89A34-5979-4948-84A0-25BB0D3962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88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8203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880" y="38203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5A36A-6A83-40E4-A7B7-C968F8E694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3240" y="12985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2985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8203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3240" y="38203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8203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19145-7775-48C3-9ED8-583A34696D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8360" y="1298520"/>
            <a:ext cx="82072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82072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40050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880" y="1298520"/>
            <a:ext cx="40050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842920" y="404280"/>
            <a:ext cx="583236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880" y="1298520"/>
            <a:ext cx="40050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8360" y="38203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298520"/>
            <a:ext cx="82072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A65DA-8D8F-4623-B21F-9B288A451E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40050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88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3880" y="38203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88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60" y="3820320"/>
            <a:ext cx="8207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8207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60" y="3820320"/>
            <a:ext cx="8207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88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360" y="38203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3880" y="38203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3240" y="12985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18120" y="12985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360" y="38203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3240" y="38203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18120" y="38203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82072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CD327-96DA-45AD-98DB-54810EAB4F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40050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880" y="1298520"/>
            <a:ext cx="40050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6D0E4-DEBD-4B44-846A-C93D0CB3FE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E6A37-7FDC-4F52-8CD5-9108437D0E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42920" y="404280"/>
            <a:ext cx="583236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321EC-A63A-49A0-A341-AE7B855307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880" y="1298520"/>
            <a:ext cx="40050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8203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B9665-247F-409F-82F0-87CBC366AE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40050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88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880" y="38203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C9CD1-C8B9-4ADC-9AE7-2A95E6A153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88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820320"/>
            <a:ext cx="8207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F0121-F7EF-415C-A331-45B63E8763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8" descr="bg2"/>
          <p:cNvPicPr/>
          <p:nvPr/>
        </p:nvPicPr>
        <p:blipFill>
          <a:blip r:embed="rId2"/>
          <a:stretch/>
        </p:blipFill>
        <p:spPr>
          <a:xfrm>
            <a:off x="-3636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298520"/>
            <a:ext cx="82072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45acd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99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7235640" y="64018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F974ED71-E3A3-46C2-869C-6C0D58FD3F4E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40" descr="logo"/>
          <p:cNvPicPr/>
          <p:nvPr/>
        </p:nvPicPr>
        <p:blipFill>
          <a:blip r:embed="rId3"/>
          <a:srcRect l="5396" t="5349" r="74912" b="80615"/>
          <a:stretch/>
        </p:blipFill>
        <p:spPr>
          <a:xfrm>
            <a:off x="468360" y="219240"/>
            <a:ext cx="1808280" cy="96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5" descr="bg1"/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7" descr="logo"/>
          <p:cNvPicPr/>
          <p:nvPr/>
        </p:nvPicPr>
        <p:blipFill>
          <a:blip r:embed="rId3"/>
          <a:srcRect l="5396" t="5349" r="74912" b="80615"/>
          <a:stretch/>
        </p:blipFill>
        <p:spPr>
          <a:xfrm>
            <a:off x="468360" y="219240"/>
            <a:ext cx="1808280" cy="966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68360" y="1298520"/>
            <a:ext cx="82072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45acd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99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61840" y="1988640"/>
            <a:ext cx="7815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2d050"/>
                </a:solidFill>
                <a:latin typeface="华康海报体W12(P)"/>
                <a:ea typeface="华康海报体W12(P)"/>
              </a:rPr>
              <a:t>儿童节节日</a:t>
            </a:r>
            <a:r>
              <a:rPr b="0" lang="en-US" sz="4000" spc="-1" strike="noStrike">
                <a:solidFill>
                  <a:srgbClr val="92d050"/>
                </a:solidFill>
                <a:latin typeface="华康海报体W12(P)"/>
                <a:ea typeface="华康海报体W12(P)"/>
              </a:rPr>
              <a:t>PPT</a:t>
            </a:r>
            <a:r>
              <a:rPr b="0" lang="zh-CN" sz="4000" spc="-1" strike="noStrike">
                <a:solidFill>
                  <a:srgbClr val="92d050"/>
                </a:solidFill>
                <a:latin typeface="华康海报体W12(P)"/>
                <a:ea typeface="华康海报体W12(P)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i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2110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41240" y="407196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99cc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此处添加节日的问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"/>
          <p:cNvSpPr/>
          <p:nvPr/>
        </p:nvSpPr>
        <p:spPr>
          <a:xfrm>
            <a:off x="1562040" y="1820880"/>
            <a:ext cx="6438960" cy="538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ccff"/>
              </a:gs>
              <a:gs pos="100000">
                <a:srgbClr val="45acd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此处添加节日的问候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1"/>
          <p:cNvPicPr/>
          <p:nvPr/>
        </p:nvPicPr>
        <p:blipFill>
          <a:blip r:embed="rId1"/>
          <a:stretch/>
        </p:blipFill>
        <p:spPr>
          <a:xfrm>
            <a:off x="1077840" y="1501920"/>
            <a:ext cx="735120" cy="98568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5"/>
          <p:cNvSpPr/>
          <p:nvPr/>
        </p:nvSpPr>
        <p:spPr>
          <a:xfrm>
            <a:off x="1562040" y="2708280"/>
            <a:ext cx="6438960" cy="538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ccff"/>
              </a:gs>
              <a:gs pos="100000">
                <a:srgbClr val="45acd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此处添加节日的问候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1"/>
          <p:cNvPicPr/>
          <p:nvPr/>
        </p:nvPicPr>
        <p:blipFill>
          <a:blip r:embed="rId2"/>
          <a:stretch/>
        </p:blipFill>
        <p:spPr>
          <a:xfrm>
            <a:off x="1077840" y="2389320"/>
            <a:ext cx="735120" cy="98568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7"/>
          <p:cNvSpPr/>
          <p:nvPr/>
        </p:nvSpPr>
        <p:spPr>
          <a:xfrm>
            <a:off x="1562040" y="3594240"/>
            <a:ext cx="6438960" cy="538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ccff"/>
              </a:gs>
              <a:gs pos="100000">
                <a:srgbClr val="45acd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此处添加节日的问候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1"/>
          <p:cNvPicPr/>
          <p:nvPr/>
        </p:nvPicPr>
        <p:blipFill>
          <a:blip r:embed="rId3"/>
          <a:stretch/>
        </p:blipFill>
        <p:spPr>
          <a:xfrm>
            <a:off x="1077840" y="3274920"/>
            <a:ext cx="735120" cy="98604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9"/>
          <p:cNvSpPr/>
          <p:nvPr/>
        </p:nvSpPr>
        <p:spPr>
          <a:xfrm>
            <a:off x="1562040" y="4495680"/>
            <a:ext cx="6438960" cy="538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ccff"/>
              </a:gs>
              <a:gs pos="100000">
                <a:srgbClr val="45acd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此处添加节日的问候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" descr="1"/>
          <p:cNvPicPr/>
          <p:nvPr/>
        </p:nvPicPr>
        <p:blipFill>
          <a:blip r:embed="rId4"/>
          <a:stretch/>
        </p:blipFill>
        <p:spPr>
          <a:xfrm>
            <a:off x="1077840" y="4176720"/>
            <a:ext cx="735120" cy="9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EF0D3-DE10-479A-ABA9-59EF33A6279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0"/>
          <p:cNvSpPr/>
          <p:nvPr/>
        </p:nvSpPr>
        <p:spPr>
          <a:xfrm>
            <a:off x="7236000" y="64022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32CAB0ED-185B-4BE1-9D8B-C507DECACF22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bg1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468360" y="1639800"/>
            <a:ext cx="820728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感谢观赏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Arial"/>
              </a:rPr>
              <a:t>单击添加您的公司信息（联系方式及落款）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pc</dc:creator>
  <dc:description>www.eeppt.com;</dc:description>
  <cp:keywords>www.eeppt.com</cp:keywords>
  <dc:language>en-US</dc:language>
  <cp:lastModifiedBy>jccook</cp:lastModifiedBy>
  <dcterms:modified xsi:type="dcterms:W3CDTF">2015-08-11T14:21:03Z</dcterms:modified>
  <cp:revision>156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