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730-BFA2-45F9-85C4-636B2552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03A-122F-473F-B198-89E15A79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498-EEA3-4535-B3FA-1AA60300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260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884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3672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5260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884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F01-546F-4810-A6B4-47267769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8874-16B7-47B5-A6A0-0CB18FA4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F8CE-3F5B-48C5-8CEA-E47813F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02C2-4647-47BC-A5DB-E3627377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A663-7FD3-49EE-ACA6-45F8468F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A1E8-A842-4A31-A6FF-0E6835FB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36720" y="274320"/>
            <a:ext cx="685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2E9B-202F-4966-853E-F4A86A83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4DAA-8A19-4A06-9E3A-D194B02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474-0BE4-42A1-9C47-04706737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7A06-DC13-4C2B-B193-1AE62630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A625-302C-4263-A989-B82927EF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DA91-D53A-424E-8C80-1CC7609A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EF1-F620-4C50-9717-4D5BD417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260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6884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3672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5260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6884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2D21-F4AE-43CA-BEEA-BFE865A1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1AB-ED8B-4978-8629-D40E12EA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EE2-8A5F-42CB-BDC1-7BAFC2A1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A91-B3C1-4769-B00D-2163C6C6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6720" y="274320"/>
            <a:ext cx="685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D65-FBBF-4249-961F-02C98569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2CF-9E72-4F4B-8D9E-B7132C14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1EC-8412-41ED-B34C-E9B343F9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C76-693D-406E-9846-29BC0709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BEF8-5E12-4868-A315-DE680CB0B3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DA68-F665-4D7A-A570-03FECD8BA2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59120" y="5400"/>
            <a:ext cx="1207440" cy="1638720"/>
            <a:chOff x="159120" y="5400"/>
            <a:chExt cx="1207440" cy="1638720"/>
          </a:xfrm>
        </p:grpSpPr>
        <p:sp>
          <p:nvSpPr>
            <p:cNvPr id="83" name="AutoShape 3"/>
            <p:cNvSpPr/>
            <p:nvPr/>
          </p:nvSpPr>
          <p:spPr>
            <a:xfrm rot="20700000">
              <a:off x="450720" y="593640"/>
              <a:ext cx="492120" cy="492840"/>
            </a:xfrm>
            <a:custGeom>
              <a:avLst/>
              <a:gdLst>
                <a:gd name="textAreaLeft" fmla="*/ 114840 w 492120"/>
                <a:gd name="textAreaRight" fmla="*/ 377280 w 492120"/>
                <a:gd name="textAreaTop" fmla="*/ 51840 h 492840"/>
                <a:gd name="textAreaBottom" fmla="*/ 311760 h 49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noFill/>
            <a:ln w="28440">
              <a:solidFill>
                <a:srgbClr val="a4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 rot="20700000">
              <a:off x="415800" y="4140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"/>
            <p:cNvSpPr/>
            <p:nvPr/>
          </p:nvSpPr>
          <p:spPr>
            <a:xfrm rot="20700000">
              <a:off x="235800" y="929160"/>
              <a:ext cx="36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"/>
            <p:cNvSpPr/>
            <p:nvPr/>
          </p:nvSpPr>
          <p:spPr>
            <a:xfrm rot="20700000">
              <a:off x="642960" y="9651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7"/>
            <p:cNvSpPr/>
            <p:nvPr/>
          </p:nvSpPr>
          <p:spPr>
            <a:xfrm rot="20700000">
              <a:off x="924480" y="7437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9840" y="2247840"/>
            <a:ext cx="7616880" cy="147024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Arial"/>
              </a:rPr>
              <a:t>父爱，从未走远</a:t>
            </a:r>
            <a:endParaRPr b="1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99640" y="3744720"/>
            <a:ext cx="506916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父亲节感恩模板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00" y="5805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69960" y="44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爱从未走远父亲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父爱如山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长期以来，我们总是习惯强调母爱的力量，强调母爱最崇高，但事实上，父爱的力量同样伟大。就像一只鸟两只翅膀、一个人两条腿一样，母爱和父爱是缺一不可，无法替代的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父爱同母爱一样的无私，他不求回报；父爱是一种默默无闻，寓于无形之中的一种感情，只有用心的人才能体会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小的时候，父亲的一句严厉吆喝，我们就会觉得委屈不堪，跑到母亲面前哭泣，却没发现满满的父爱原来就蕴藏在深沉的吆喝声中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我们不懂，从来就不懂父爱的伟大，以为每一位父亲都是一个冷冰的个体。但爱，需要我们体味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275760"/>
            <a:ext cx="8002440" cy="993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父亲，节日快乐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我最亲爱的父亲，今年没为你准备特别的礼物，我只想真诚的跟你说一句：“爸，节日快乐。你的爱，从未走远，我理解了。在以后的每一个平凡相依的日子里，伴随左右，分享你的快乐与忧愁。”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DAC-7CB2-457D-910B-DAA197588B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59120" y="5400"/>
            <a:ext cx="1207440" cy="1638720"/>
            <a:chOff x="159120" y="5400"/>
            <a:chExt cx="1207440" cy="1638720"/>
          </a:xfrm>
        </p:grpSpPr>
        <p:sp>
          <p:nvSpPr>
            <p:cNvPr id="101" name="AutoShape 3"/>
            <p:cNvSpPr/>
            <p:nvPr/>
          </p:nvSpPr>
          <p:spPr>
            <a:xfrm rot="20700000">
              <a:off x="450720" y="593640"/>
              <a:ext cx="492120" cy="492840"/>
            </a:xfrm>
            <a:custGeom>
              <a:avLst/>
              <a:gdLst>
                <a:gd name="textAreaLeft" fmla="*/ 114840 w 492120"/>
                <a:gd name="textAreaRight" fmla="*/ 377280 w 492120"/>
                <a:gd name="textAreaTop" fmla="*/ 51840 h 492840"/>
                <a:gd name="textAreaBottom" fmla="*/ 311760 h 49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noFill/>
            <a:ln w="28440">
              <a:solidFill>
                <a:srgbClr val="a4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 rot="20700000">
              <a:off x="415800" y="4140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 rot="20700000">
              <a:off x="235800" y="929160"/>
              <a:ext cx="36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 rot="20700000">
              <a:off x="642960" y="9651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 rot="20700000">
              <a:off x="924480" y="7437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祝父亲们节日快乐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0080" y="333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5T06:33:43Z</dcterms:created>
  <dc:creator/>
  <dc:description>www.eeppt.com;</dc:description>
  <cp:keywords>www.eeppt.com</cp:keywords>
  <dc:language>en-US</dc:language>
  <cp:lastModifiedBy>lenovo</cp:lastModifiedBy>
  <dcterms:modified xsi:type="dcterms:W3CDTF">2015-08-11T14:22:32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