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219676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840" y="303840"/>
            <a:ext cx="1097676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840" y="1783080"/>
            <a:ext cx="1097676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9840" y="4091760"/>
            <a:ext cx="1097676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840" y="303840"/>
            <a:ext cx="1097676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840" y="1783080"/>
            <a:ext cx="535644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34480" y="1783080"/>
            <a:ext cx="535644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840" y="4091760"/>
            <a:ext cx="535644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34480" y="4091760"/>
            <a:ext cx="535644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840" y="303840"/>
            <a:ext cx="1097676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840" y="1783080"/>
            <a:ext cx="35341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21080" y="1783080"/>
            <a:ext cx="35341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032320" y="1783080"/>
            <a:ext cx="35341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9840" y="4091760"/>
            <a:ext cx="35341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21080" y="4091760"/>
            <a:ext cx="35341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032320" y="4091760"/>
            <a:ext cx="35341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840" y="303840"/>
            <a:ext cx="1097676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09840" y="1783080"/>
            <a:ext cx="109767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840" y="303840"/>
            <a:ext cx="1097676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840" y="1783080"/>
            <a:ext cx="109767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840" y="303840"/>
            <a:ext cx="1097676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840" y="1783080"/>
            <a:ext cx="53564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34480" y="1783080"/>
            <a:ext cx="53564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840" y="303840"/>
            <a:ext cx="1097676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09840" y="303840"/>
            <a:ext cx="1097676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840" y="303840"/>
            <a:ext cx="1097676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840" y="1783080"/>
            <a:ext cx="535644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4480" y="1783080"/>
            <a:ext cx="53564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09840" y="4091760"/>
            <a:ext cx="535644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840" y="303840"/>
            <a:ext cx="1097676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840" y="1783080"/>
            <a:ext cx="53564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4480" y="1783080"/>
            <a:ext cx="535644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34480" y="4091760"/>
            <a:ext cx="535644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840" y="303840"/>
            <a:ext cx="1097676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840" y="1783080"/>
            <a:ext cx="535644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4480" y="1783080"/>
            <a:ext cx="535644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840" y="4091760"/>
            <a:ext cx="1097676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840" y="303840"/>
            <a:ext cx="1097676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840" y="1783080"/>
            <a:ext cx="109767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425520"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565200">
              <a:spcBef>
                <a:spcPts val="876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1800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698480" indent="-566640">
              <a:spcBef>
                <a:spcPts val="624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4" marL="2265480" indent="-1133640">
              <a:spcBef>
                <a:spcPts val="624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5" marL="2265480" indent="-1133640">
              <a:spcBef>
                <a:spcPts val="624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6" marL="2265480" indent="-1133640">
              <a:spcBef>
                <a:spcPts val="624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Group 11"/>
          <p:cNvGrpSpPr/>
          <p:nvPr/>
        </p:nvGrpSpPr>
        <p:grpSpPr>
          <a:xfrm>
            <a:off x="120600" y="2739960"/>
            <a:ext cx="11955240" cy="2142000"/>
            <a:chOff x="120600" y="2739960"/>
            <a:chExt cx="11955240" cy="2142000"/>
          </a:xfrm>
        </p:grpSpPr>
        <p:grpSp>
          <p:nvGrpSpPr>
            <p:cNvPr id="39" name="Group 5"/>
            <p:cNvGrpSpPr/>
            <p:nvPr/>
          </p:nvGrpSpPr>
          <p:grpSpPr>
            <a:xfrm>
              <a:off x="637200" y="2739960"/>
              <a:ext cx="10855080" cy="2142000"/>
              <a:chOff x="637200" y="2739960"/>
              <a:chExt cx="10855080" cy="2142000"/>
            </a:xfrm>
          </p:grpSpPr>
          <p:sp>
            <p:nvSpPr>
              <p:cNvPr id="40" name="Oval 6"/>
              <p:cNvSpPr/>
              <p:nvPr/>
            </p:nvSpPr>
            <p:spPr>
              <a:xfrm flipV="1">
                <a:off x="637200" y="2739600"/>
                <a:ext cx="10855080" cy="57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31840"/>
                    <a:tab algn="l" pos="2263680"/>
                    <a:tab algn="l" pos="3395520"/>
                    <a:tab algn="l" pos="4527720"/>
                    <a:tab algn="l" pos="5659560"/>
                    <a:tab algn="l" pos="6791400"/>
                    <a:tab algn="l" pos="7923240"/>
                    <a:tab algn="l" pos="9055080"/>
                    <a:tab algn="l" pos="1018692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Oval 7"/>
              <p:cNvSpPr/>
              <p:nvPr/>
            </p:nvSpPr>
            <p:spPr>
              <a:xfrm flipV="1">
                <a:off x="637200" y="4311360"/>
                <a:ext cx="10855080" cy="57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31840"/>
                    <a:tab algn="l" pos="2263680"/>
                    <a:tab algn="l" pos="3395520"/>
                    <a:tab algn="l" pos="4527720"/>
                    <a:tab algn="l" pos="5659560"/>
                    <a:tab algn="l" pos="6791400"/>
                    <a:tab algn="l" pos="7923240"/>
                    <a:tab algn="l" pos="9055080"/>
                    <a:tab algn="l" pos="1018692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" name="AutoShape 8"/>
            <p:cNvSpPr/>
            <p:nvPr/>
          </p:nvSpPr>
          <p:spPr>
            <a:xfrm>
              <a:off x="120600" y="2984040"/>
              <a:ext cx="11955240" cy="1656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" name="Rectangle 10"/>
          <p:cNvSpPr/>
          <p:nvPr/>
        </p:nvSpPr>
        <p:spPr>
          <a:xfrm>
            <a:off x="1847880" y="3149640"/>
            <a:ext cx="850104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spAutoFit/>
          </a:bodyPr>
          <a:p>
            <a:pPr algn="ctr">
              <a:lnSpc>
                <a:spcPct val="127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云雾下  大地上  奔跑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7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1" lang="en-US" sz="2400" spc="-1" strike="noStrike">
                <a:solidFill>
                  <a:srgbClr val="632423"/>
                </a:solidFill>
                <a:latin typeface="华文细黑"/>
                <a:ea typeface="华文细黑"/>
              </a:rPr>
              <a:t>JZJT  2008  </a:t>
            </a:r>
            <a:r>
              <a:rPr b="1" lang="zh-CN" sz="2400" spc="-1" strike="noStrike">
                <a:solidFill>
                  <a:srgbClr val="632423"/>
                </a:solidFill>
                <a:latin typeface="华文细黑"/>
                <a:ea typeface="华文细黑"/>
              </a:rPr>
              <a:t>工作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"/>
          <p:cNvSpPr/>
          <p:nvPr/>
        </p:nvSpPr>
        <p:spPr>
          <a:xfrm>
            <a:off x="-1050840" y="3201840"/>
            <a:ext cx="752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1" lang="zh-CN" sz="2500" spc="-1" strike="noStrike">
                <a:solidFill>
                  <a:srgbClr val="ffff00"/>
                </a:solidFill>
                <a:latin typeface="黑体"/>
                <a:ea typeface="黑体"/>
              </a:rPr>
              <a:t>区域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2"/>
          <p:cNvSpPr/>
          <p:nvPr/>
        </p:nvSpPr>
        <p:spPr>
          <a:xfrm>
            <a:off x="-1050840" y="4843440"/>
            <a:ext cx="752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1" lang="zh-CN" sz="2500" spc="-1" strike="noStrike">
                <a:solidFill>
                  <a:srgbClr val="ffff00"/>
                </a:solidFill>
                <a:latin typeface="黑体"/>
                <a:ea typeface="黑体"/>
              </a:rPr>
              <a:t>姓名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3"/>
          <p:cNvSpPr/>
          <p:nvPr/>
        </p:nvSpPr>
        <p:spPr>
          <a:xfrm>
            <a:off x="-1050840" y="2381400"/>
            <a:ext cx="752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1" lang="zh-CN" sz="2500" spc="-1" strike="noStrike">
                <a:solidFill>
                  <a:srgbClr val="ffff00"/>
                </a:solidFill>
                <a:latin typeface="黑体"/>
                <a:ea typeface="黑体"/>
              </a:rPr>
              <a:t>市场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4"/>
          <p:cNvSpPr/>
          <p:nvPr/>
        </p:nvSpPr>
        <p:spPr>
          <a:xfrm>
            <a:off x="-1050840" y="4022640"/>
            <a:ext cx="752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1" lang="zh-CN" sz="2500" spc="-1" strike="noStrike">
                <a:solidFill>
                  <a:srgbClr val="ffff00"/>
                </a:solidFill>
                <a:latin typeface="黑体"/>
                <a:ea typeface="黑体"/>
              </a:rPr>
              <a:t>职务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12597840" y="3203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济宁菏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12497040" y="484344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刘        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12584880" y="238140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××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山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8"/>
          <p:cNvSpPr/>
          <p:nvPr/>
        </p:nvSpPr>
        <p:spPr>
          <a:xfrm>
            <a:off x="12597840" y="4022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区域经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0600" y="70516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94280" y="172260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非常酷的工作总结幻灯片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45833E-006 5.55112E-017 L 0.34141 -0.00229 E">
                                      <p:cBhvr>
                                        <p:cTn id="6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-0.00083 L 0.30156 0.00146 E">
                                      <p:cBhvr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45833E-006 3.33333E-006 L 0.26602 -0.00229 E">
                                      <p:cBhvr>
                                        <p:cTn id="10" dur="5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" dur="1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66667E-006 L -0.35716 -0.00271 E">
                                      <p:cBhvr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125E-006 3.33333E-006 L -0.30481 0.0025 E">
                                      <p:cBhvr>
                                        <p:cTn id="16" dur="1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125E-006 5E-006 L -0.33203 -0.00562 E">
                                      <p:cBhvr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-3.33333E-006 L -0.28451 -0.00187 E">
                                      <p:cBhvr>
                                        <p:cTn id="20" dur="1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9401 -0.0025 L 0.3405 -0.0025 E">
                                      <p:cBhvr>
                                        <p:cTn id="23" dur="1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156 0.00146 L 0.49271 0.00271 E">
                                      <p:cBhvr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918 -0.00417 L 0.26485 -0.00229 E">
                                      <p:cBhvr>
                                        <p:cTn id="27" dur="1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5E-006 L 0.49219 0.00167 E">
                                      <p:cBhvr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716 -0.00271 L -0.51744 -0.00333 E">
                                      <p:cBhvr>
                                        <p:cTn id="31" dur="1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481 0.0025 L -0.51367 0.00729 E">
                                      <p:cBhvr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203 -0.00562 L -0.5125 -0.00749 E">
                                      <p:cBhvr>
                                        <p:cTn id="35" dur="1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451 -0.00187 L -0.51316 0.0025 E">
                                      <p:cBhvr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dur="indefinite" nodeType="afterEffect" fill="hold" presetClass="path" presetID="63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49297 -0.0025 L 1.18399 -0.0025 E">
                                      <p:cBhvr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path" presetID="63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49271 0.00271 L 1.18151 0.00146 E">
                                      <p:cBhvr>
                                        <p:cTn id="42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path" presetID="63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49167 -0.00417 L 1.17995 -0.00459 E">
                                      <p:cBhvr>
                                        <p:cTn id="44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path" presetID="63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49753 0.00146 L 1.18021 -0.00771 E">
                                      <p:cBhvr>
                                        <p:cTn id="46" dur="1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path" presetID="35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0.51744 -0.00333 L -1.29948 -0.00125 E">
                                      <p:cBhvr>
                                        <p:cTn id="48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path" presetID="35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0.63334 0.00375 L -1.31862 0.00812 E">
                                      <p:cBhvr>
                                        <p:cTn id="50" dur="1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path" presetID="35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0.5125 -0.00749 L -1.31471 -0.01083 E">
                                      <p:cBhvr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path" presetID="35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0.51315 0.0025 L -1.31094 0.01105 E">
                                      <p:cBhvr>
                                        <p:cTn id="54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7"/>
          <p:cNvSpPr/>
          <p:nvPr/>
        </p:nvSpPr>
        <p:spPr>
          <a:xfrm>
            <a:off x="-52560" y="7380360"/>
            <a:ext cx="500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1000" spc="-1" strike="noStrike">
                <a:solidFill>
                  <a:srgbClr val="974806"/>
                </a:solidFill>
                <a:latin typeface="Arial"/>
                <a:ea typeface="微软雅黑"/>
              </a:rPr>
              <a:t>THIS PRESENTATION IS DESIGNED BY LIUSHAN,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组合 3"/>
          <p:cNvGrpSpPr/>
          <p:nvPr/>
        </p:nvGrpSpPr>
        <p:grpSpPr>
          <a:xfrm>
            <a:off x="8105760" y="7264440"/>
            <a:ext cx="3992400" cy="375840"/>
            <a:chOff x="8105760" y="7264440"/>
            <a:chExt cx="3992400" cy="375840"/>
          </a:xfrm>
        </p:grpSpPr>
        <p:grpSp>
          <p:nvGrpSpPr>
            <p:cNvPr id="286" name="组合 8"/>
            <p:cNvGrpSpPr/>
            <p:nvPr/>
          </p:nvGrpSpPr>
          <p:grpSpPr>
            <a:xfrm>
              <a:off x="8105760" y="7264440"/>
              <a:ext cx="1936080" cy="375840"/>
              <a:chOff x="8105760" y="7264440"/>
              <a:chExt cx="1936080" cy="375840"/>
            </a:xfrm>
          </p:grpSpPr>
          <p:sp>
            <p:nvSpPr>
              <p:cNvPr id="287" name="WordArt 5"/>
              <p:cNvSpPr/>
              <p:nvPr/>
            </p:nvSpPr>
            <p:spPr>
              <a:xfrm>
                <a:off x="8105760" y="7264440"/>
                <a:ext cx="1928880" cy="223200"/>
              </a:xfrm>
              <a:custGeom>
                <a:avLst/>
                <a:gdLst>
                  <a:gd name="textAreaLeft" fmla="*/ 0 w 1928880"/>
                  <a:gd name="textAreaRight" fmla="*/ 1929240 w 1928880"/>
                  <a:gd name="textAreaTop" fmla="*/ 0 h 223200"/>
                  <a:gd name="textAreaBottom" fmla="*/ 223560 h 223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WordArt 11"/>
              <p:cNvSpPr/>
              <p:nvPr/>
            </p:nvSpPr>
            <p:spPr>
              <a:xfrm flipV="1">
                <a:off x="8112960" y="7498440"/>
                <a:ext cx="1928880" cy="141480"/>
              </a:xfrm>
              <a:custGeom>
                <a:avLst/>
                <a:gdLst>
                  <a:gd name="textAreaLeft" fmla="*/ 0 w 1928880"/>
                  <a:gd name="textAreaRight" fmla="*/ 1929240 w 1928880"/>
                  <a:gd name="textAreaTop" fmla="*/ -360 h 141480"/>
                  <a:gd name="textAreaBottom" fmla="*/ 141480 h 141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WordArt 10"/>
              <p:cNvSpPr/>
              <p:nvPr/>
            </p:nvSpPr>
            <p:spPr>
              <a:xfrm>
                <a:off x="8105760" y="7264440"/>
                <a:ext cx="1928880" cy="223200"/>
              </a:xfrm>
              <a:custGeom>
                <a:avLst/>
                <a:gdLst>
                  <a:gd name="textAreaLeft" fmla="*/ 0 w 1928880"/>
                  <a:gd name="textAreaRight" fmla="*/ 1929240 w 1928880"/>
                  <a:gd name="textAreaTop" fmla="*/ 0 h 223200"/>
                  <a:gd name="textAreaBottom" fmla="*/ 223560 h 223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WordArt 10"/>
            <p:cNvSpPr/>
            <p:nvPr/>
          </p:nvSpPr>
          <p:spPr>
            <a:xfrm>
              <a:off x="10218960" y="7473960"/>
              <a:ext cx="1879200" cy="146160"/>
            </a:xfrm>
            <a:custGeom>
              <a:avLst/>
              <a:gdLst>
                <a:gd name="textAreaLeft" fmla="*/ 0 w 1879200"/>
                <a:gd name="textAreaRight" fmla="*/ 1879560 w 18792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10720" y="311040"/>
            <a:ext cx="56437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zh-CN" sz="3200" spc="-1" strike="noStrike">
                <a:solidFill>
                  <a:srgbClr val="e36c09"/>
                </a:solidFill>
                <a:latin typeface="微软雅黑"/>
                <a:ea typeface="微软雅黑"/>
              </a:rPr>
              <a:t>素养与提升</a:t>
            </a:r>
            <a:r>
              <a:rPr b="0" lang="en-US" sz="2800" spc="-1" strike="noStrike">
                <a:solidFill>
                  <a:srgbClr val="e36c09"/>
                </a:solidFill>
                <a:latin typeface="微软雅黑"/>
                <a:ea typeface="微软雅黑"/>
              </a:rPr>
              <a:t>— </a:t>
            </a:r>
            <a:r>
              <a:rPr b="0" lang="zh-CN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六顶思维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Box 3"/>
          <p:cNvSpPr/>
          <p:nvPr/>
        </p:nvSpPr>
        <p:spPr>
          <a:xfrm>
            <a:off x="8759160" y="1460520"/>
            <a:ext cx="121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★  </a:t>
            </a:r>
            <a:r>
              <a:rPr b="0" lang="zh-CN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简化思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     </a:t>
            </a:r>
            <a:r>
              <a:rPr b="0" lang="zh-CN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某一时间只按某一种模式思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4"/>
          <p:cNvSpPr/>
          <p:nvPr/>
        </p:nvSpPr>
        <p:spPr>
          <a:xfrm>
            <a:off x="7805160" y="2552760"/>
            <a:ext cx="18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★  </a:t>
            </a:r>
            <a:r>
              <a:rPr b="0" lang="zh-CN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适时转换思维模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6"/>
          <p:cNvSpPr/>
          <p:nvPr/>
        </p:nvSpPr>
        <p:spPr>
          <a:xfrm>
            <a:off x="7752600" y="3409920"/>
            <a:ext cx="166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★  </a:t>
            </a:r>
            <a:r>
              <a:rPr b="0" lang="zh-CN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对思维进行控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7"/>
          <p:cNvSpPr/>
          <p:nvPr/>
        </p:nvSpPr>
        <p:spPr>
          <a:xfrm>
            <a:off x="7686360" y="5483160"/>
            <a:ext cx="134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运用案例：</a:t>
            </a:r>
            <a:r>
              <a:rPr b="0" lang="en-US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057320" y="13622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D:\PrintScreen Files\3DLS.png"/>
          <p:cNvPicPr/>
          <p:nvPr/>
        </p:nvPicPr>
        <p:blipFill>
          <a:blip r:embed="rId1"/>
          <a:stretch/>
        </p:blipFill>
        <p:spPr>
          <a:xfrm>
            <a:off x="1596960" y="3238560"/>
            <a:ext cx="2000160" cy="1501560"/>
          </a:xfrm>
          <a:prstGeom prst="rect">
            <a:avLst/>
          </a:prstGeom>
          <a:ln w="0">
            <a:noFill/>
          </a:ln>
        </p:spPr>
      </p:pic>
      <p:grpSp>
        <p:nvGrpSpPr>
          <p:cNvPr id="298" name="Group 5"/>
          <p:cNvGrpSpPr/>
          <p:nvPr/>
        </p:nvGrpSpPr>
        <p:grpSpPr>
          <a:xfrm>
            <a:off x="1525680" y="3052440"/>
            <a:ext cx="9000720" cy="1856520"/>
            <a:chOff x="1525680" y="3052440"/>
            <a:chExt cx="9000720" cy="1856520"/>
          </a:xfrm>
        </p:grpSpPr>
        <p:sp>
          <p:nvSpPr>
            <p:cNvPr id="299" name="Oval 6"/>
            <p:cNvSpPr/>
            <p:nvPr/>
          </p:nvSpPr>
          <p:spPr>
            <a:xfrm flipV="1">
              <a:off x="1525680" y="3051720"/>
              <a:ext cx="9000720" cy="494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7"/>
            <p:cNvSpPr/>
            <p:nvPr/>
          </p:nvSpPr>
          <p:spPr>
            <a:xfrm flipV="1">
              <a:off x="1525680" y="4413960"/>
              <a:ext cx="9000720" cy="494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矩形 2"/>
          <p:cNvSpPr/>
          <p:nvPr/>
        </p:nvSpPr>
        <p:spPr>
          <a:xfrm>
            <a:off x="5318280" y="338760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1" lang="zh-CN" sz="5400" spc="-1" strike="noStrike">
                <a:solidFill>
                  <a:srgbClr val="e36c09"/>
                </a:solidFill>
                <a:latin typeface="华文细黑"/>
                <a:ea typeface="华文细黑"/>
              </a:rPr>
              <a:t>创新与改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Box 7"/>
          <p:cNvSpPr/>
          <p:nvPr/>
        </p:nvSpPr>
        <p:spPr>
          <a:xfrm>
            <a:off x="-52560" y="7380360"/>
            <a:ext cx="500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1000" spc="-1" strike="noStrike">
                <a:solidFill>
                  <a:srgbClr val="974806"/>
                </a:solidFill>
                <a:latin typeface="Arial"/>
                <a:ea typeface="微软雅黑"/>
              </a:rPr>
              <a:t>THIS PRESENTATION IS DESIGNED BY LIUSHAN,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组合 3"/>
          <p:cNvGrpSpPr/>
          <p:nvPr/>
        </p:nvGrpSpPr>
        <p:grpSpPr>
          <a:xfrm>
            <a:off x="8105760" y="7264440"/>
            <a:ext cx="3992400" cy="375840"/>
            <a:chOff x="8105760" y="7264440"/>
            <a:chExt cx="3992400" cy="375840"/>
          </a:xfrm>
        </p:grpSpPr>
        <p:grpSp>
          <p:nvGrpSpPr>
            <p:cNvPr id="304" name="组合 8"/>
            <p:cNvGrpSpPr/>
            <p:nvPr/>
          </p:nvGrpSpPr>
          <p:grpSpPr>
            <a:xfrm>
              <a:off x="8105760" y="7264440"/>
              <a:ext cx="1936080" cy="375840"/>
              <a:chOff x="8105760" y="7264440"/>
              <a:chExt cx="1936080" cy="375840"/>
            </a:xfrm>
          </p:grpSpPr>
          <p:sp>
            <p:nvSpPr>
              <p:cNvPr id="305" name="WordArt 5"/>
              <p:cNvSpPr/>
              <p:nvPr/>
            </p:nvSpPr>
            <p:spPr>
              <a:xfrm>
                <a:off x="8105760" y="7264440"/>
                <a:ext cx="1928880" cy="223200"/>
              </a:xfrm>
              <a:custGeom>
                <a:avLst/>
                <a:gdLst>
                  <a:gd name="textAreaLeft" fmla="*/ 0 w 1928880"/>
                  <a:gd name="textAreaRight" fmla="*/ 1929240 w 1928880"/>
                  <a:gd name="textAreaTop" fmla="*/ 0 h 223200"/>
                  <a:gd name="textAreaBottom" fmla="*/ 223560 h 223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WordArt 11"/>
              <p:cNvSpPr/>
              <p:nvPr/>
            </p:nvSpPr>
            <p:spPr>
              <a:xfrm flipV="1">
                <a:off x="8112960" y="7498440"/>
                <a:ext cx="1928880" cy="141480"/>
              </a:xfrm>
              <a:custGeom>
                <a:avLst/>
                <a:gdLst>
                  <a:gd name="textAreaLeft" fmla="*/ 0 w 1928880"/>
                  <a:gd name="textAreaRight" fmla="*/ 1929240 w 1928880"/>
                  <a:gd name="textAreaTop" fmla="*/ -360 h 141480"/>
                  <a:gd name="textAreaBottom" fmla="*/ 141480 h 141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WordArt 10"/>
              <p:cNvSpPr/>
              <p:nvPr/>
            </p:nvSpPr>
            <p:spPr>
              <a:xfrm>
                <a:off x="8105760" y="7264440"/>
                <a:ext cx="1928880" cy="223200"/>
              </a:xfrm>
              <a:custGeom>
                <a:avLst/>
                <a:gdLst>
                  <a:gd name="textAreaLeft" fmla="*/ 0 w 1928880"/>
                  <a:gd name="textAreaRight" fmla="*/ 1929240 w 1928880"/>
                  <a:gd name="textAreaTop" fmla="*/ 0 h 223200"/>
                  <a:gd name="textAreaBottom" fmla="*/ 223560 h 223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WordArt 10"/>
            <p:cNvSpPr/>
            <p:nvPr/>
          </p:nvSpPr>
          <p:spPr>
            <a:xfrm>
              <a:off x="10218960" y="7473960"/>
              <a:ext cx="1879200" cy="146160"/>
            </a:xfrm>
            <a:custGeom>
              <a:avLst/>
              <a:gdLst>
                <a:gd name="textAreaLeft" fmla="*/ 0 w 1879200"/>
                <a:gd name="textAreaRight" fmla="*/ 1879560 w 18792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10720" y="311040"/>
            <a:ext cx="56437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zh-CN" sz="3200" spc="-1" strike="noStrike">
                <a:solidFill>
                  <a:srgbClr val="e36c09"/>
                </a:solidFill>
                <a:latin typeface="微软雅黑"/>
                <a:ea typeface="微软雅黑"/>
              </a:rPr>
              <a:t>创新与改善</a:t>
            </a:r>
            <a:r>
              <a:rPr b="0" lang="en-US" sz="3200" spc="-1" strike="noStrike">
                <a:solidFill>
                  <a:srgbClr val="e36c09"/>
                </a:solidFill>
                <a:latin typeface="微软雅黑"/>
                <a:ea typeface="微软雅黑"/>
              </a:rPr>
              <a:t>— </a:t>
            </a:r>
            <a:r>
              <a:rPr b="0" lang="zh-CN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创新（亮点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1025640" y="1176480"/>
          <a:ext cx="9858240" cy="5092560"/>
        </p:xfrm>
        <a:graphic>
          <a:graphicData uri="http://schemas.openxmlformats.org/drawingml/2006/table">
            <a:tbl>
              <a:tblPr/>
              <a:tblGrid>
                <a:gridCol w="2076480"/>
                <a:gridCol w="3305160"/>
                <a:gridCol w="2190600"/>
                <a:gridCol w="2286000"/>
              </a:tblGrid>
              <a:tr h="65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1840"/>
                          <a:tab algn="l" pos="2263680"/>
                          <a:tab algn="l" pos="3395520"/>
                          <a:tab algn="l" pos="4527720"/>
                          <a:tab algn="l" pos="5659560"/>
                          <a:tab algn="l" pos="6791400"/>
                          <a:tab algn="l" pos="7923240"/>
                          <a:tab algn="l" pos="9055080"/>
                          <a:tab algn="l" pos="10186920"/>
                        </a:tabLst>
                      </a:pPr>
                      <a:r>
                        <a:rPr b="0" lang="zh-CN" sz="1800" spc="-1" strike="noStrike">
                          <a:solidFill>
                            <a:srgbClr val="ffff00"/>
                          </a:solidFill>
                          <a:latin typeface="微软雅黑"/>
                          <a:ea typeface="微软雅黑"/>
                        </a:rPr>
                        <a:t>亮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0586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1840"/>
                          <a:tab algn="l" pos="2263680"/>
                          <a:tab algn="l" pos="3395520"/>
                          <a:tab algn="l" pos="4527720"/>
                          <a:tab algn="l" pos="5659560"/>
                          <a:tab algn="l" pos="6791400"/>
                          <a:tab algn="l" pos="7923240"/>
                          <a:tab algn="l" pos="9055080"/>
                          <a:tab algn="l" pos="10186920"/>
                        </a:tabLst>
                      </a:pPr>
                      <a:r>
                        <a:rPr b="0" lang="zh-CN" sz="1800" spc="-1" strike="noStrike">
                          <a:solidFill>
                            <a:srgbClr val="ffff00"/>
                          </a:solidFill>
                          <a:latin typeface="微软雅黑"/>
                          <a:ea typeface="微软雅黑"/>
                        </a:rPr>
                        <a:t>创新措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0586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1840"/>
                          <a:tab algn="l" pos="2263680"/>
                          <a:tab algn="l" pos="3395520"/>
                          <a:tab algn="l" pos="4527720"/>
                          <a:tab algn="l" pos="5659560"/>
                          <a:tab algn="l" pos="6791400"/>
                          <a:tab algn="l" pos="7923240"/>
                          <a:tab algn="l" pos="9055080"/>
                          <a:tab algn="l" pos="10186920"/>
                        </a:tabLst>
                      </a:pPr>
                      <a:r>
                        <a:rPr b="0" lang="zh-CN" sz="1800" spc="-1" strike="noStrike">
                          <a:solidFill>
                            <a:srgbClr val="ffff00"/>
                          </a:solidFill>
                          <a:latin typeface="微软雅黑"/>
                          <a:ea typeface="微软雅黑"/>
                        </a:rPr>
                        <a:t>达成结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0586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1840"/>
                          <a:tab algn="l" pos="2263680"/>
                          <a:tab algn="l" pos="3395520"/>
                          <a:tab algn="l" pos="4527720"/>
                          <a:tab algn="l" pos="5659560"/>
                          <a:tab algn="l" pos="6791400"/>
                          <a:tab algn="l" pos="7923240"/>
                          <a:tab algn="l" pos="9055080"/>
                          <a:tab algn="l" pos="10186920"/>
                        </a:tabLst>
                      </a:pPr>
                      <a:r>
                        <a:rPr b="0" lang="zh-CN" sz="1800" spc="-1" strike="noStrike">
                          <a:solidFill>
                            <a:srgbClr val="ffff00"/>
                          </a:solidFill>
                          <a:latin typeface="微软雅黑"/>
                          <a:ea typeface="微软雅黑"/>
                        </a:rPr>
                        <a:t>备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05867"/>
                    </a:solidFill>
                  </a:tcPr>
                </a:tc>
              </a:tr>
              <a:tr h="1595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1840"/>
                          <a:tab algn="l" pos="2263680"/>
                          <a:tab algn="l" pos="3395520"/>
                          <a:tab algn="l" pos="4527720"/>
                          <a:tab algn="l" pos="5659560"/>
                          <a:tab algn="l" pos="6791400"/>
                          <a:tab algn="l" pos="7923240"/>
                          <a:tab algn="l" pos="9055080"/>
                          <a:tab algn="l" pos="10186920"/>
                        </a:tabLst>
                      </a:pPr>
                      <a:r>
                        <a:rPr b="0" lang="en-US" sz="1800" spc="-1" strike="noStrike">
                          <a:solidFill>
                            <a:srgbClr val="ffc000"/>
                          </a:solidFill>
                          <a:latin typeface="华文细黑"/>
                          <a:ea typeface="华文细黑"/>
                        </a:rPr>
                        <a:t>×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8cd5">
                        <a:alpha val="1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1840"/>
                          <a:tab algn="l" pos="2263680"/>
                          <a:tab algn="l" pos="3395520"/>
                          <a:tab algn="l" pos="4527720"/>
                          <a:tab algn="l" pos="5659560"/>
                          <a:tab algn="l" pos="6791400"/>
                          <a:tab algn="l" pos="7923240"/>
                          <a:tab algn="l" pos="9055080"/>
                          <a:tab algn="l" pos="1018692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、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…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1840"/>
                          <a:tab algn="l" pos="2263680"/>
                          <a:tab algn="l" pos="3395520"/>
                          <a:tab algn="l" pos="4527720"/>
                          <a:tab algn="l" pos="5659560"/>
                          <a:tab algn="l" pos="6791400"/>
                          <a:tab algn="l" pos="7923240"/>
                          <a:tab algn="l" pos="9055080"/>
                          <a:tab algn="l" pos="1018692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1840"/>
                          <a:tab algn="l" pos="2263680"/>
                          <a:tab algn="l" pos="3395520"/>
                          <a:tab algn="l" pos="4527720"/>
                          <a:tab algn="l" pos="5659560"/>
                          <a:tab algn="l" pos="6791400"/>
                          <a:tab algn="l" pos="7923240"/>
                          <a:tab algn="l" pos="9055080"/>
                          <a:tab algn="l" pos="1018692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8cd5">
                        <a:alpha val="1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1840"/>
                          <a:tab algn="l" pos="2263680"/>
                          <a:tab algn="l" pos="3395520"/>
                          <a:tab algn="l" pos="4527720"/>
                          <a:tab algn="l" pos="5659560"/>
                          <a:tab algn="l" pos="6791400"/>
                          <a:tab algn="l" pos="7923240"/>
                          <a:tab algn="l" pos="9055080"/>
                          <a:tab algn="l" pos="1018692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、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…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1840"/>
                          <a:tab algn="l" pos="2263680"/>
                          <a:tab algn="l" pos="3395520"/>
                          <a:tab algn="l" pos="4527720"/>
                          <a:tab algn="l" pos="5659560"/>
                          <a:tab algn="l" pos="6791400"/>
                          <a:tab algn="l" pos="7923240"/>
                          <a:tab algn="l" pos="9055080"/>
                          <a:tab algn="l" pos="1018692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8cd5">
                        <a:alpha val="1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1840"/>
                          <a:tab algn="l" pos="2263680"/>
                          <a:tab algn="l" pos="3395520"/>
                          <a:tab algn="l" pos="4527720"/>
                          <a:tab algn="l" pos="5659560"/>
                          <a:tab algn="l" pos="6791400"/>
                          <a:tab algn="l" pos="7923240"/>
                          <a:tab algn="l" pos="9055080"/>
                          <a:tab algn="l" pos="1018692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…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8cd5">
                        <a:alpha val="18000"/>
                      </a:srgbClr>
                    </a:solidFill>
                  </a:tcPr>
                </a:tc>
              </a:tr>
              <a:tr h="146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1840"/>
                          <a:tab algn="l" pos="2263680"/>
                          <a:tab algn="l" pos="3395520"/>
                          <a:tab algn="l" pos="4527720"/>
                          <a:tab algn="l" pos="5659560"/>
                          <a:tab algn="l" pos="6791400"/>
                          <a:tab algn="l" pos="7923240"/>
                          <a:tab algn="l" pos="9055080"/>
                          <a:tab algn="l" pos="10186920"/>
                        </a:tabLst>
                      </a:pPr>
                      <a:r>
                        <a:rPr b="0" lang="en-US" sz="1800" spc="-1" strike="noStrike">
                          <a:solidFill>
                            <a:srgbClr val="ffc000"/>
                          </a:solidFill>
                          <a:latin typeface="华文细黑"/>
                          <a:ea typeface="华文细黑"/>
                        </a:rPr>
                        <a:t>×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243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1840"/>
                          <a:tab algn="l" pos="2263680"/>
                          <a:tab algn="l" pos="3395520"/>
                          <a:tab algn="l" pos="4527720"/>
                          <a:tab algn="l" pos="5659560"/>
                          <a:tab algn="l" pos="6791400"/>
                          <a:tab algn="l" pos="7923240"/>
                          <a:tab algn="l" pos="9055080"/>
                          <a:tab algn="l" pos="1018692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、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…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1840"/>
                          <a:tab algn="l" pos="2263680"/>
                          <a:tab algn="l" pos="3395520"/>
                          <a:tab algn="l" pos="4527720"/>
                          <a:tab algn="l" pos="5659560"/>
                          <a:tab algn="l" pos="6791400"/>
                          <a:tab algn="l" pos="7923240"/>
                          <a:tab algn="l" pos="9055080"/>
                          <a:tab algn="l" pos="1018692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243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1840"/>
                          <a:tab algn="l" pos="2263680"/>
                          <a:tab algn="l" pos="3395520"/>
                          <a:tab algn="l" pos="4527720"/>
                          <a:tab algn="l" pos="5659560"/>
                          <a:tab algn="l" pos="6791400"/>
                          <a:tab algn="l" pos="7923240"/>
                          <a:tab algn="l" pos="9055080"/>
                          <a:tab algn="l" pos="1018692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、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…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1840"/>
                          <a:tab algn="l" pos="2263680"/>
                          <a:tab algn="l" pos="3395520"/>
                          <a:tab algn="l" pos="4527720"/>
                          <a:tab algn="l" pos="5659560"/>
                          <a:tab algn="l" pos="6791400"/>
                          <a:tab algn="l" pos="7923240"/>
                          <a:tab algn="l" pos="9055080"/>
                          <a:tab algn="l" pos="1018692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243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1840"/>
                          <a:tab algn="l" pos="2263680"/>
                          <a:tab algn="l" pos="3395520"/>
                          <a:tab algn="l" pos="4527720"/>
                          <a:tab algn="l" pos="5659560"/>
                          <a:tab algn="l" pos="6791400"/>
                          <a:tab algn="l" pos="7923240"/>
                          <a:tab algn="l" pos="9055080"/>
                          <a:tab algn="l" pos="1018692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…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243e"/>
                    </a:solidFill>
                  </a:tcPr>
                </a:tc>
              </a:tr>
              <a:tr h="13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1840"/>
                          <a:tab algn="l" pos="2263680"/>
                          <a:tab algn="l" pos="3395520"/>
                          <a:tab algn="l" pos="4527720"/>
                          <a:tab algn="l" pos="5659560"/>
                          <a:tab algn="l" pos="6791400"/>
                          <a:tab algn="l" pos="7923240"/>
                          <a:tab algn="l" pos="9055080"/>
                          <a:tab algn="l" pos="10186920"/>
                        </a:tabLst>
                      </a:pPr>
                      <a:r>
                        <a:rPr b="0" lang="en-US" sz="1800" spc="-1" strike="noStrike">
                          <a:solidFill>
                            <a:srgbClr val="ffc000"/>
                          </a:solidFill>
                          <a:latin typeface="华文细黑"/>
                          <a:ea typeface="华文细黑"/>
                        </a:rPr>
                        <a:t>×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2060">
                        <a:alpha val="14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1840"/>
                          <a:tab algn="l" pos="2263680"/>
                          <a:tab algn="l" pos="3395520"/>
                          <a:tab algn="l" pos="4527720"/>
                          <a:tab algn="l" pos="5659560"/>
                          <a:tab algn="l" pos="6791400"/>
                          <a:tab algn="l" pos="7923240"/>
                          <a:tab algn="l" pos="9055080"/>
                          <a:tab algn="l" pos="1018692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、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…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1840"/>
                          <a:tab algn="l" pos="2263680"/>
                          <a:tab algn="l" pos="3395520"/>
                          <a:tab algn="l" pos="4527720"/>
                          <a:tab algn="l" pos="5659560"/>
                          <a:tab algn="l" pos="6791400"/>
                          <a:tab algn="l" pos="7923240"/>
                          <a:tab algn="l" pos="9055080"/>
                          <a:tab algn="l" pos="1018692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2060">
                        <a:alpha val="14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1840"/>
                          <a:tab algn="l" pos="2263680"/>
                          <a:tab algn="l" pos="3395520"/>
                          <a:tab algn="l" pos="4527720"/>
                          <a:tab algn="l" pos="5659560"/>
                          <a:tab algn="l" pos="6791400"/>
                          <a:tab algn="l" pos="7923240"/>
                          <a:tab algn="l" pos="9055080"/>
                          <a:tab algn="l" pos="1018692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、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…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1840"/>
                          <a:tab algn="l" pos="2263680"/>
                          <a:tab algn="l" pos="3395520"/>
                          <a:tab algn="l" pos="4527720"/>
                          <a:tab algn="l" pos="5659560"/>
                          <a:tab algn="l" pos="6791400"/>
                          <a:tab algn="l" pos="7923240"/>
                          <a:tab algn="l" pos="9055080"/>
                          <a:tab algn="l" pos="1018692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2060">
                        <a:alpha val="14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1840"/>
                          <a:tab algn="l" pos="2263680"/>
                          <a:tab algn="l" pos="3395520"/>
                          <a:tab algn="l" pos="4527720"/>
                          <a:tab algn="l" pos="5659560"/>
                          <a:tab algn="l" pos="6791400"/>
                          <a:tab algn="l" pos="7923240"/>
                          <a:tab algn="l" pos="9055080"/>
                          <a:tab algn="l" pos="1018692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…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2060">
                        <a:alpha val="14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Box 7"/>
          <p:cNvSpPr/>
          <p:nvPr/>
        </p:nvSpPr>
        <p:spPr>
          <a:xfrm>
            <a:off x="-52560" y="7380360"/>
            <a:ext cx="500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1000" spc="-1" strike="noStrike">
                <a:solidFill>
                  <a:srgbClr val="974806"/>
                </a:solidFill>
                <a:latin typeface="Arial"/>
                <a:ea typeface="微软雅黑"/>
              </a:rPr>
              <a:t>THIS PRESENTATION IS DESIGNED BY LIUSHAN,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组合 3"/>
          <p:cNvGrpSpPr/>
          <p:nvPr/>
        </p:nvGrpSpPr>
        <p:grpSpPr>
          <a:xfrm>
            <a:off x="8105760" y="7264440"/>
            <a:ext cx="3992400" cy="375840"/>
            <a:chOff x="8105760" y="7264440"/>
            <a:chExt cx="3992400" cy="375840"/>
          </a:xfrm>
        </p:grpSpPr>
        <p:grpSp>
          <p:nvGrpSpPr>
            <p:cNvPr id="313" name="组合 8"/>
            <p:cNvGrpSpPr/>
            <p:nvPr/>
          </p:nvGrpSpPr>
          <p:grpSpPr>
            <a:xfrm>
              <a:off x="8105760" y="7264440"/>
              <a:ext cx="1936080" cy="375840"/>
              <a:chOff x="8105760" y="7264440"/>
              <a:chExt cx="1936080" cy="375840"/>
            </a:xfrm>
          </p:grpSpPr>
          <p:sp>
            <p:nvSpPr>
              <p:cNvPr id="314" name="WordArt 5"/>
              <p:cNvSpPr/>
              <p:nvPr/>
            </p:nvSpPr>
            <p:spPr>
              <a:xfrm>
                <a:off x="8105760" y="7264440"/>
                <a:ext cx="1928880" cy="223200"/>
              </a:xfrm>
              <a:custGeom>
                <a:avLst/>
                <a:gdLst>
                  <a:gd name="textAreaLeft" fmla="*/ 0 w 1928880"/>
                  <a:gd name="textAreaRight" fmla="*/ 1929240 w 1928880"/>
                  <a:gd name="textAreaTop" fmla="*/ 0 h 223200"/>
                  <a:gd name="textAreaBottom" fmla="*/ 223560 h 223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WordArt 11"/>
              <p:cNvSpPr/>
              <p:nvPr/>
            </p:nvSpPr>
            <p:spPr>
              <a:xfrm flipV="1">
                <a:off x="8112960" y="7498440"/>
                <a:ext cx="1928880" cy="141480"/>
              </a:xfrm>
              <a:custGeom>
                <a:avLst/>
                <a:gdLst>
                  <a:gd name="textAreaLeft" fmla="*/ 0 w 1928880"/>
                  <a:gd name="textAreaRight" fmla="*/ 1929240 w 1928880"/>
                  <a:gd name="textAreaTop" fmla="*/ -360 h 141480"/>
                  <a:gd name="textAreaBottom" fmla="*/ 141480 h 141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WordArt 10"/>
              <p:cNvSpPr/>
              <p:nvPr/>
            </p:nvSpPr>
            <p:spPr>
              <a:xfrm>
                <a:off x="8105760" y="7264440"/>
                <a:ext cx="1928880" cy="223200"/>
              </a:xfrm>
              <a:custGeom>
                <a:avLst/>
                <a:gdLst>
                  <a:gd name="textAreaLeft" fmla="*/ 0 w 1928880"/>
                  <a:gd name="textAreaRight" fmla="*/ 1929240 w 1928880"/>
                  <a:gd name="textAreaTop" fmla="*/ 0 h 223200"/>
                  <a:gd name="textAreaBottom" fmla="*/ 223560 h 223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" name="WordArt 10"/>
            <p:cNvSpPr/>
            <p:nvPr/>
          </p:nvSpPr>
          <p:spPr>
            <a:xfrm>
              <a:off x="10218960" y="7473960"/>
              <a:ext cx="1879200" cy="146160"/>
            </a:xfrm>
            <a:custGeom>
              <a:avLst/>
              <a:gdLst>
                <a:gd name="textAreaLeft" fmla="*/ 0 w 1879200"/>
                <a:gd name="textAreaRight" fmla="*/ 1879560 w 18792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10720" y="311040"/>
            <a:ext cx="56437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zh-CN" sz="3200" spc="-1" strike="noStrike">
                <a:solidFill>
                  <a:srgbClr val="e36c09"/>
                </a:solidFill>
                <a:latin typeface="微软雅黑"/>
                <a:ea typeface="微软雅黑"/>
              </a:rPr>
              <a:t>创新与改善</a:t>
            </a:r>
            <a:r>
              <a:rPr b="0" lang="en-US" sz="3200" spc="-1" strike="noStrike">
                <a:solidFill>
                  <a:srgbClr val="e36c09"/>
                </a:solidFill>
                <a:latin typeface="微软雅黑"/>
                <a:ea typeface="微软雅黑"/>
              </a:rPr>
              <a:t>— </a:t>
            </a:r>
            <a:r>
              <a:rPr b="0" lang="zh-CN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改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1168560" y="1952640"/>
          <a:ext cx="9572400" cy="3716280"/>
        </p:xfrm>
        <a:graphic>
          <a:graphicData uri="http://schemas.openxmlformats.org/drawingml/2006/table">
            <a:tbl>
              <a:tblPr/>
              <a:tblGrid>
                <a:gridCol w="2499840"/>
                <a:gridCol w="3357720"/>
                <a:gridCol w="3714840"/>
              </a:tblGrid>
              <a:tr h="571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1840"/>
                          <a:tab algn="l" pos="2263680"/>
                          <a:tab algn="l" pos="3395520"/>
                          <a:tab algn="l" pos="4527720"/>
                          <a:tab algn="l" pos="5659560"/>
                          <a:tab algn="l" pos="6791400"/>
                          <a:tab algn="l" pos="7923240"/>
                          <a:tab algn="l" pos="9055080"/>
                          <a:tab algn="l" pos="10186920"/>
                        </a:tabLst>
                      </a:pPr>
                      <a:r>
                        <a:rPr b="0" lang="zh-CN" sz="1800" spc="-1" strike="noStrike">
                          <a:solidFill>
                            <a:srgbClr val="ffff00"/>
                          </a:solidFill>
                          <a:latin typeface="微软雅黑"/>
                          <a:ea typeface="微软雅黑"/>
                        </a:rPr>
                        <a:t>核心问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>
                        <a:alpha val="1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1840"/>
                          <a:tab algn="l" pos="2263680"/>
                          <a:tab algn="l" pos="3395520"/>
                          <a:tab algn="l" pos="4527720"/>
                          <a:tab algn="l" pos="5659560"/>
                          <a:tab algn="l" pos="6791400"/>
                          <a:tab algn="l" pos="7923240"/>
                          <a:tab algn="l" pos="9055080"/>
                          <a:tab algn="l" pos="10186920"/>
                        </a:tabLst>
                      </a:pPr>
                      <a:r>
                        <a:rPr b="0" lang="zh-CN" sz="1800" spc="-1" strike="noStrike">
                          <a:solidFill>
                            <a:srgbClr val="ffff00"/>
                          </a:solidFill>
                          <a:latin typeface="微软雅黑"/>
                          <a:ea typeface="微软雅黑"/>
                        </a:rPr>
                        <a:t>原因分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>
                        <a:alpha val="1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1840"/>
                          <a:tab algn="l" pos="2263680"/>
                          <a:tab algn="l" pos="3395520"/>
                          <a:tab algn="l" pos="4527720"/>
                          <a:tab algn="l" pos="5659560"/>
                          <a:tab algn="l" pos="6791400"/>
                          <a:tab algn="l" pos="7923240"/>
                          <a:tab algn="l" pos="9055080"/>
                          <a:tab algn="l" pos="10186920"/>
                        </a:tabLst>
                      </a:pPr>
                      <a:r>
                        <a:rPr b="0" lang="zh-CN" sz="1800" spc="-1" strike="noStrike">
                          <a:solidFill>
                            <a:srgbClr val="ffff00"/>
                          </a:solidFill>
                          <a:latin typeface="微软雅黑"/>
                          <a:ea typeface="微软雅黑"/>
                        </a:rPr>
                        <a:t>改善措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>
                        <a:alpha val="10000"/>
                      </a:srgbClr>
                    </a:solidFill>
                  </a:tcPr>
                </a:tc>
              </a:tr>
              <a:tr h="15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1840"/>
                          <a:tab algn="l" pos="2263680"/>
                          <a:tab algn="l" pos="3395520"/>
                          <a:tab algn="l" pos="4527720"/>
                          <a:tab algn="l" pos="5659560"/>
                          <a:tab algn="l" pos="6791400"/>
                          <a:tab algn="l" pos="7923240"/>
                          <a:tab algn="l" pos="9055080"/>
                          <a:tab algn="l" pos="10186920"/>
                        </a:tabLst>
                      </a:pPr>
                      <a:r>
                        <a:rPr b="0" lang="en-US" sz="2000" spc="-1" strike="noStrike">
                          <a:solidFill>
                            <a:srgbClr val="ffc000"/>
                          </a:solidFill>
                          <a:latin typeface="华文细黑"/>
                          <a:ea typeface="华文细黑"/>
                        </a:rPr>
                        <a:t>××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1840"/>
                          <a:tab algn="l" pos="2263680"/>
                          <a:tab algn="l" pos="3395520"/>
                          <a:tab algn="l" pos="4527720"/>
                          <a:tab algn="l" pos="5659560"/>
                          <a:tab algn="l" pos="6791400"/>
                          <a:tab algn="l" pos="7923240"/>
                          <a:tab algn="l" pos="9055080"/>
                          <a:tab algn="l" pos="1018692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1</a:t>
                      </a: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、</a:t>
                      </a: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…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1840"/>
                          <a:tab algn="l" pos="2263680"/>
                          <a:tab algn="l" pos="3395520"/>
                          <a:tab algn="l" pos="4527720"/>
                          <a:tab algn="l" pos="5659560"/>
                          <a:tab algn="l" pos="6791400"/>
                          <a:tab algn="l" pos="7923240"/>
                          <a:tab algn="l" pos="9055080"/>
                          <a:tab algn="l" pos="1018692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2</a:t>
                      </a: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、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1840"/>
                          <a:tab algn="l" pos="2263680"/>
                          <a:tab algn="l" pos="3395520"/>
                          <a:tab algn="l" pos="4527720"/>
                          <a:tab algn="l" pos="5659560"/>
                          <a:tab algn="l" pos="6791400"/>
                          <a:tab algn="l" pos="7923240"/>
                          <a:tab algn="l" pos="9055080"/>
                          <a:tab algn="l" pos="1018692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3</a:t>
                      </a: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、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1840"/>
                          <a:tab algn="l" pos="2263680"/>
                          <a:tab algn="l" pos="3395520"/>
                          <a:tab algn="l" pos="4527720"/>
                          <a:tab algn="l" pos="5659560"/>
                          <a:tab algn="l" pos="6791400"/>
                          <a:tab algn="l" pos="7923240"/>
                          <a:tab algn="l" pos="9055080"/>
                          <a:tab algn="l" pos="1018692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1</a:t>
                      </a: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、</a:t>
                      </a: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…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1840"/>
                          <a:tab algn="l" pos="2263680"/>
                          <a:tab algn="l" pos="3395520"/>
                          <a:tab algn="l" pos="4527720"/>
                          <a:tab algn="l" pos="5659560"/>
                          <a:tab algn="l" pos="6791400"/>
                          <a:tab algn="l" pos="7923240"/>
                          <a:tab algn="l" pos="9055080"/>
                          <a:tab algn="l" pos="1018692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2</a:t>
                      </a: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、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164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1840"/>
                          <a:tab algn="l" pos="2263680"/>
                          <a:tab algn="l" pos="3395520"/>
                          <a:tab algn="l" pos="4527720"/>
                          <a:tab algn="l" pos="5659560"/>
                          <a:tab algn="l" pos="6791400"/>
                          <a:tab algn="l" pos="7923240"/>
                          <a:tab algn="l" pos="9055080"/>
                          <a:tab algn="l" pos="10186920"/>
                        </a:tabLst>
                      </a:pPr>
                      <a:r>
                        <a:rPr b="0" lang="en-US" sz="2000" spc="-1" strike="noStrike">
                          <a:solidFill>
                            <a:srgbClr val="ffc000"/>
                          </a:solidFill>
                          <a:latin typeface="华文细黑"/>
                          <a:ea typeface="华文细黑"/>
                        </a:rPr>
                        <a:t>××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2060">
                        <a:alpha val="3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1840"/>
                          <a:tab algn="l" pos="2263680"/>
                          <a:tab algn="l" pos="3395520"/>
                          <a:tab algn="l" pos="4527720"/>
                          <a:tab algn="l" pos="5659560"/>
                          <a:tab algn="l" pos="6791400"/>
                          <a:tab algn="l" pos="7923240"/>
                          <a:tab algn="l" pos="9055080"/>
                          <a:tab algn="l" pos="1018692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1</a:t>
                      </a: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、</a:t>
                      </a: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…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1840"/>
                          <a:tab algn="l" pos="2263680"/>
                          <a:tab algn="l" pos="3395520"/>
                          <a:tab algn="l" pos="4527720"/>
                          <a:tab algn="l" pos="5659560"/>
                          <a:tab algn="l" pos="6791400"/>
                          <a:tab algn="l" pos="7923240"/>
                          <a:tab algn="l" pos="9055080"/>
                          <a:tab algn="l" pos="1018692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2</a:t>
                      </a: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、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1840"/>
                          <a:tab algn="l" pos="2263680"/>
                          <a:tab algn="l" pos="3395520"/>
                          <a:tab algn="l" pos="4527720"/>
                          <a:tab algn="l" pos="5659560"/>
                          <a:tab algn="l" pos="6791400"/>
                          <a:tab algn="l" pos="7923240"/>
                          <a:tab algn="l" pos="9055080"/>
                          <a:tab algn="l" pos="1018692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3</a:t>
                      </a: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、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2060">
                        <a:alpha val="3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1840"/>
                          <a:tab algn="l" pos="2263680"/>
                          <a:tab algn="l" pos="3395520"/>
                          <a:tab algn="l" pos="4527720"/>
                          <a:tab algn="l" pos="5659560"/>
                          <a:tab algn="l" pos="6791400"/>
                          <a:tab algn="l" pos="7923240"/>
                          <a:tab algn="l" pos="9055080"/>
                          <a:tab algn="l" pos="1018692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1</a:t>
                      </a: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、</a:t>
                      </a: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…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1840"/>
                          <a:tab algn="l" pos="2263680"/>
                          <a:tab algn="l" pos="3395520"/>
                          <a:tab algn="l" pos="4527720"/>
                          <a:tab algn="l" pos="5659560"/>
                          <a:tab algn="l" pos="6791400"/>
                          <a:tab algn="l" pos="7923240"/>
                          <a:tab algn="l" pos="9055080"/>
                          <a:tab algn="l" pos="1018692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2</a:t>
                      </a: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华文细黑"/>
                          <a:ea typeface="华文细黑"/>
                        </a:rPr>
                        <a:t>、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2060">
                        <a:alpha val="32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D:\PrintScreen Files\3DLS.png"/>
          <p:cNvPicPr/>
          <p:nvPr/>
        </p:nvPicPr>
        <p:blipFill>
          <a:blip r:embed="rId1"/>
          <a:stretch/>
        </p:blipFill>
        <p:spPr>
          <a:xfrm>
            <a:off x="1596960" y="3238560"/>
            <a:ext cx="2000160" cy="1501560"/>
          </a:xfrm>
          <a:prstGeom prst="rect">
            <a:avLst/>
          </a:prstGeom>
          <a:ln w="0">
            <a:noFill/>
          </a:ln>
        </p:spPr>
      </p:pic>
      <p:grpSp>
        <p:nvGrpSpPr>
          <p:cNvPr id="321" name="Group 5"/>
          <p:cNvGrpSpPr/>
          <p:nvPr/>
        </p:nvGrpSpPr>
        <p:grpSpPr>
          <a:xfrm>
            <a:off x="1525680" y="3052440"/>
            <a:ext cx="9000720" cy="1856520"/>
            <a:chOff x="1525680" y="3052440"/>
            <a:chExt cx="9000720" cy="1856520"/>
          </a:xfrm>
        </p:grpSpPr>
        <p:sp>
          <p:nvSpPr>
            <p:cNvPr id="322" name="Oval 6"/>
            <p:cNvSpPr/>
            <p:nvPr/>
          </p:nvSpPr>
          <p:spPr>
            <a:xfrm flipV="1">
              <a:off x="1525680" y="3051720"/>
              <a:ext cx="9000720" cy="494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7"/>
            <p:cNvSpPr/>
            <p:nvPr/>
          </p:nvSpPr>
          <p:spPr>
            <a:xfrm flipV="1">
              <a:off x="1525680" y="4413960"/>
              <a:ext cx="9000720" cy="494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矩形 3"/>
          <p:cNvSpPr/>
          <p:nvPr/>
        </p:nvSpPr>
        <p:spPr>
          <a:xfrm>
            <a:off x="4597560" y="3238560"/>
            <a:ext cx="335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1" lang="en-US" sz="6600" spc="-1" strike="noStrike">
                <a:solidFill>
                  <a:srgbClr val="ffc000"/>
                </a:solidFill>
                <a:latin typeface="Calibri"/>
                <a:ea typeface="Calibri"/>
              </a:rPr>
              <a:t>0v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dur="indefinite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Box 5"/>
          <p:cNvSpPr/>
          <p:nvPr/>
        </p:nvSpPr>
        <p:spPr>
          <a:xfrm>
            <a:off x="2840040" y="1454040"/>
            <a:ext cx="3902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zh-CN" sz="2200" spc="-1" strike="noStrike">
                <a:solidFill>
                  <a:srgbClr val="ffc000"/>
                </a:solidFill>
                <a:latin typeface="华文细黑"/>
                <a:ea typeface="华文细黑"/>
              </a:rPr>
              <a:t>贫穷的市场＋激烈的行业＋不足的经验＝“</a:t>
            </a:r>
            <a:r>
              <a:rPr b="0" lang="zh-CN" sz="2200" spc="-1" strike="noStrike">
                <a:solidFill>
                  <a:srgbClr val="ffffff"/>
                </a:solidFill>
                <a:latin typeface="华文细黑"/>
                <a:ea typeface="华文细黑"/>
              </a:rPr>
              <a:t>云雾下</a:t>
            </a:r>
            <a:r>
              <a:rPr b="0" lang="zh-CN" sz="2200" spc="-1" strike="noStrike">
                <a:solidFill>
                  <a:srgbClr val="ffc000"/>
                </a:solidFill>
                <a:latin typeface="华文细黑"/>
                <a:ea typeface="华文细黑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6"/>
          <p:cNvSpPr/>
          <p:nvPr/>
        </p:nvSpPr>
        <p:spPr>
          <a:xfrm>
            <a:off x="3381120" y="2379600"/>
            <a:ext cx="3902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zh-CN" sz="2200" spc="-1" strike="noStrike">
                <a:solidFill>
                  <a:srgbClr val="ffc000"/>
                </a:solidFill>
                <a:latin typeface="华文细黑"/>
                <a:ea typeface="华文细黑"/>
              </a:rPr>
              <a:t>领导的信任＋公司的支持＋明确的目标＝“</a:t>
            </a:r>
            <a:r>
              <a:rPr b="0" lang="zh-CN" sz="2200" spc="-1" strike="noStrike">
                <a:solidFill>
                  <a:srgbClr val="ffffff"/>
                </a:solidFill>
                <a:latin typeface="华文细黑"/>
                <a:ea typeface="华文细黑"/>
              </a:rPr>
              <a:t>大地上</a:t>
            </a:r>
            <a:r>
              <a:rPr b="0" lang="zh-CN" sz="2200" spc="-1" strike="noStrike">
                <a:solidFill>
                  <a:srgbClr val="ffc000"/>
                </a:solidFill>
                <a:latin typeface="华文细黑"/>
                <a:ea typeface="华文细黑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7"/>
          <p:cNvSpPr/>
          <p:nvPr/>
        </p:nvSpPr>
        <p:spPr>
          <a:xfrm>
            <a:off x="3952800" y="3236760"/>
            <a:ext cx="3902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zh-CN" sz="2200" spc="-1" strike="noStrike">
                <a:solidFill>
                  <a:srgbClr val="ffc000"/>
                </a:solidFill>
                <a:latin typeface="华文细黑"/>
                <a:ea typeface="华文细黑"/>
              </a:rPr>
              <a:t>不懈的努力＋持续的学习＋扎实的成长＝“</a:t>
            </a:r>
            <a:r>
              <a:rPr b="0" lang="zh-CN" sz="2200" spc="-1" strike="noStrike">
                <a:solidFill>
                  <a:srgbClr val="ffffff"/>
                </a:solidFill>
                <a:latin typeface="华文细黑"/>
                <a:ea typeface="华文细黑"/>
              </a:rPr>
              <a:t>奔跑中</a:t>
            </a:r>
            <a:r>
              <a:rPr b="0" lang="zh-CN" sz="2200" spc="-1" strike="noStrike">
                <a:solidFill>
                  <a:srgbClr val="ffc000"/>
                </a:solidFill>
                <a:latin typeface="华文细黑"/>
                <a:ea typeface="华文细黑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9"/>
          <p:cNvSpPr/>
          <p:nvPr/>
        </p:nvSpPr>
        <p:spPr>
          <a:xfrm>
            <a:off x="4442760" y="5025960"/>
            <a:ext cx="331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  <a:ea typeface="Calibri"/>
              </a:rPr>
              <a:t>THANKS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组合 16"/>
          <p:cNvGrpSpPr/>
          <p:nvPr/>
        </p:nvGrpSpPr>
        <p:grpSpPr>
          <a:xfrm>
            <a:off x="4173480" y="4025880"/>
            <a:ext cx="3510000" cy="1000080"/>
            <a:chOff x="4173480" y="4025880"/>
            <a:chExt cx="3510000" cy="1000080"/>
          </a:xfrm>
        </p:grpSpPr>
        <p:sp>
          <p:nvSpPr>
            <p:cNvPr id="330" name="TextBox 8"/>
            <p:cNvSpPr/>
            <p:nvPr/>
          </p:nvSpPr>
          <p:spPr>
            <a:xfrm>
              <a:off x="4173480" y="4166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故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1" name="组合 8"/>
            <p:cNvGrpSpPr/>
            <p:nvPr/>
          </p:nvGrpSpPr>
          <p:grpSpPr>
            <a:xfrm>
              <a:off x="5040000" y="4025880"/>
              <a:ext cx="2643480" cy="1000080"/>
              <a:chOff x="5040000" y="4025880"/>
              <a:chExt cx="2643480" cy="1000080"/>
            </a:xfrm>
          </p:grpSpPr>
          <p:sp>
            <p:nvSpPr>
              <p:cNvPr id="332" name="WordArt 5"/>
              <p:cNvSpPr/>
              <p:nvPr/>
            </p:nvSpPr>
            <p:spPr>
              <a:xfrm>
                <a:off x="5040000" y="4025880"/>
                <a:ext cx="2633400" cy="593640"/>
              </a:xfrm>
              <a:custGeom>
                <a:avLst/>
                <a:gdLst>
                  <a:gd name="textAreaLeft" fmla="*/ 0 w 2633400"/>
                  <a:gd name="textAreaRight" fmla="*/ 2633760 w 2633400"/>
                  <a:gd name="textAreaTop" fmla="*/ 0 h 593640"/>
                  <a:gd name="textAreaBottom" fmla="*/ 594000 h 59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WordArt 11"/>
              <p:cNvSpPr/>
              <p:nvPr/>
            </p:nvSpPr>
            <p:spPr>
              <a:xfrm flipV="1">
                <a:off x="5050080" y="4649400"/>
                <a:ext cx="2633400" cy="376560"/>
              </a:xfrm>
              <a:custGeom>
                <a:avLst/>
                <a:gdLst>
                  <a:gd name="textAreaLeft" fmla="*/ 0 w 2633400"/>
                  <a:gd name="textAreaRight" fmla="*/ 2633760 w 2633400"/>
                  <a:gd name="textAreaTop" fmla="*/ 360 h 376560"/>
                  <a:gd name="textAreaBottom" fmla="*/ 377280 h 37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WordArt 10"/>
              <p:cNvSpPr/>
              <p:nvPr/>
            </p:nvSpPr>
            <p:spPr>
              <a:xfrm>
                <a:off x="5040000" y="4025880"/>
                <a:ext cx="2633400" cy="593640"/>
              </a:xfrm>
              <a:custGeom>
                <a:avLst/>
                <a:gdLst>
                  <a:gd name="textAreaLeft" fmla="*/ 0 w 2633400"/>
                  <a:gd name="textAreaRight" fmla="*/ 2633760 w 2633400"/>
                  <a:gd name="textAreaTop" fmla="*/ 0 h 593640"/>
                  <a:gd name="textAreaBottom" fmla="*/ 594000 h 59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advTm="10000">
    <p:wipe dir="r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dur="indefinite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4" dur="indefinite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5" dur="10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7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0"/>
                            </p:stCondLst>
                            <p:childTnLst>
                              <p:par>
                                <p:cTn id="250" dur="indefinite" nodeType="afterEffect" fill="hold" presetClass="exit" presetID="2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" dur="10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6500"/>
                            </p:stCondLst>
                            <p:childTnLst>
                              <p:par>
                                <p:cTn id="256" dur="indefinite" nodeType="afterEffect" fill="hold" presetClass="exit" presetID="2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7" dur="10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8000"/>
                            </p:stCondLst>
                            <p:childTnLst>
                              <p:par>
                                <p:cTn id="262" dur="indefinite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3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9000"/>
                            </p:stCondLst>
                            <p:childTnLst>
                              <p:par>
                                <p:cTn id="269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6" dur="indefinite" nodeType="afterEffect" fill="hold" presetClass="exit" presetID="2" presetSubtype="2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7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4960" y="209160"/>
            <a:ext cx="10945800" cy="63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4000" y="1410840"/>
            <a:ext cx="11906280" cy="58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9718560" y="369720"/>
            <a:ext cx="1852560" cy="3891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4" descr="D:\PrintScreen Files\3DLS.png"/>
          <p:cNvPicPr/>
          <p:nvPr/>
        </p:nvPicPr>
        <p:blipFill>
          <a:blip r:embed="rId1"/>
          <a:stretch/>
        </p:blipFill>
        <p:spPr>
          <a:xfrm>
            <a:off x="4600440" y="3565440"/>
            <a:ext cx="2994120" cy="2246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2" descr="D:\图片\刘山印章\lsqm4.png"/>
          <p:cNvPicPr/>
          <p:nvPr/>
        </p:nvPicPr>
        <p:blipFill>
          <a:blip r:embed="rId2"/>
          <a:stretch/>
        </p:blipFill>
        <p:spPr>
          <a:xfrm>
            <a:off x="10460160" y="5883120"/>
            <a:ext cx="923760" cy="933480"/>
          </a:xfrm>
          <a:prstGeom prst="rect">
            <a:avLst/>
          </a:prstGeom>
          <a:ln w="0">
            <a:noFill/>
          </a:ln>
        </p:spPr>
      </p:pic>
      <p:sp>
        <p:nvSpPr>
          <p:cNvPr id="340" name="TextBox 2"/>
          <p:cNvSpPr/>
          <p:nvPr/>
        </p:nvSpPr>
        <p:spPr>
          <a:xfrm>
            <a:off x="4465800" y="1339920"/>
            <a:ext cx="294084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刘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LIUS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E-MAIL:LUSN0902@126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MP:158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3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4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3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3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500"/>
                            </p:stCondLst>
                            <p:childTnLst>
                              <p:par>
                                <p:cTn id="30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3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组合 14"/>
          <p:cNvGrpSpPr/>
          <p:nvPr/>
        </p:nvGrpSpPr>
        <p:grpSpPr>
          <a:xfrm>
            <a:off x="239760" y="6667560"/>
            <a:ext cx="3930480" cy="713880"/>
            <a:chOff x="239760" y="6667560"/>
            <a:chExt cx="3930480" cy="713880"/>
          </a:xfrm>
        </p:grpSpPr>
        <p:grpSp>
          <p:nvGrpSpPr>
            <p:cNvPr id="55" name="组合 8"/>
            <p:cNvGrpSpPr/>
            <p:nvPr/>
          </p:nvGrpSpPr>
          <p:grpSpPr>
            <a:xfrm>
              <a:off x="239760" y="6667560"/>
              <a:ext cx="1905840" cy="713880"/>
              <a:chOff x="239760" y="6667560"/>
              <a:chExt cx="1905840" cy="713880"/>
            </a:xfrm>
          </p:grpSpPr>
          <p:sp>
            <p:nvSpPr>
              <p:cNvPr id="56" name="WordArt 5"/>
              <p:cNvSpPr/>
              <p:nvPr/>
            </p:nvSpPr>
            <p:spPr>
              <a:xfrm>
                <a:off x="239760" y="6667560"/>
                <a:ext cx="1898640" cy="423720"/>
              </a:xfrm>
              <a:custGeom>
                <a:avLst/>
                <a:gdLst>
                  <a:gd name="textAreaLeft" fmla="*/ 0 w 1898640"/>
                  <a:gd name="textAreaRight" fmla="*/ 1899000 w 1898640"/>
                  <a:gd name="textAreaTop" fmla="*/ 0 h 423720"/>
                  <a:gd name="textAreaBottom" fmla="*/ 424080 h 42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WordArt 11"/>
              <p:cNvSpPr/>
              <p:nvPr/>
            </p:nvSpPr>
            <p:spPr>
              <a:xfrm flipV="1">
                <a:off x="246960" y="7112160"/>
                <a:ext cx="1898640" cy="268920"/>
              </a:xfrm>
              <a:custGeom>
                <a:avLst/>
                <a:gdLst>
                  <a:gd name="textAreaLeft" fmla="*/ 0 w 1898640"/>
                  <a:gd name="textAreaRight" fmla="*/ 1899000 w 1898640"/>
                  <a:gd name="textAreaTop" fmla="*/ -360 h 268920"/>
                  <a:gd name="textAreaBottom" fmla="*/ 268920 h 26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WordArt 10"/>
              <p:cNvSpPr/>
              <p:nvPr/>
            </p:nvSpPr>
            <p:spPr>
              <a:xfrm>
                <a:off x="239760" y="6667560"/>
                <a:ext cx="1898640" cy="423720"/>
              </a:xfrm>
              <a:custGeom>
                <a:avLst/>
                <a:gdLst>
                  <a:gd name="textAreaLeft" fmla="*/ 0 w 1898640"/>
                  <a:gd name="textAreaRight" fmla="*/ 1899000 w 1898640"/>
                  <a:gd name="textAreaTop" fmla="*/ 0 h 423720"/>
                  <a:gd name="textAreaBottom" fmla="*/ 424080 h 42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WordArt 10"/>
            <p:cNvSpPr/>
            <p:nvPr/>
          </p:nvSpPr>
          <p:spPr>
            <a:xfrm>
              <a:off x="2320200" y="7065000"/>
              <a:ext cx="1850040" cy="277200"/>
            </a:xfrm>
            <a:custGeom>
              <a:avLst/>
              <a:gdLst>
                <a:gd name="textAreaLeft" fmla="*/ 0 w 1850040"/>
                <a:gd name="textAreaRight" fmla="*/ 1850400 w 185004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038480" y="1266840"/>
            <a:ext cx="52560" cy="5118120"/>
            <a:chOff x="4038480" y="1266840"/>
            <a:chExt cx="52560" cy="5118120"/>
          </a:xfrm>
        </p:grpSpPr>
        <p:sp>
          <p:nvSpPr>
            <p:cNvPr id="61" name="Line 7"/>
            <p:cNvSpPr/>
            <p:nvPr/>
          </p:nvSpPr>
          <p:spPr>
            <a:xfrm>
              <a:off x="4038480" y="1266840"/>
              <a:ext cx="52560" cy="5118120"/>
            </a:xfrm>
            <a:prstGeom prst="line">
              <a:avLst/>
            </a:prstGeom>
            <a:ln w="381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 txBox="1"/>
            <p:nvPr/>
          </p:nvSpPr>
          <p:spPr>
            <a:xfrm>
              <a:off x="4038480" y="1266840"/>
              <a:ext cx="52560" cy="511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054320" y="1216080"/>
            <a:ext cx="3546720" cy="46080"/>
            <a:chOff x="4054320" y="1216080"/>
            <a:chExt cx="3546720" cy="46080"/>
          </a:xfrm>
        </p:grpSpPr>
        <p:sp>
          <p:nvSpPr>
            <p:cNvPr id="64" name="Line 8"/>
            <p:cNvSpPr/>
            <p:nvPr/>
          </p:nvSpPr>
          <p:spPr>
            <a:xfrm flipV="1">
              <a:off x="4054320" y="1216080"/>
              <a:ext cx="3546720" cy="46080"/>
            </a:xfrm>
            <a:prstGeom prst="line">
              <a:avLst/>
            </a:prstGeom>
            <a:ln w="381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 txBox="1"/>
            <p:nvPr/>
          </p:nvSpPr>
          <p:spPr>
            <a:xfrm rot="10800000">
              <a:off x="4054320" y="1215720"/>
              <a:ext cx="3546720" cy="4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4081320" y="6332400"/>
            <a:ext cx="3548160" cy="46080"/>
            <a:chOff x="4081320" y="6332400"/>
            <a:chExt cx="3548160" cy="46080"/>
          </a:xfrm>
        </p:grpSpPr>
        <p:sp>
          <p:nvSpPr>
            <p:cNvPr id="67" name="Line 9"/>
            <p:cNvSpPr/>
            <p:nvPr/>
          </p:nvSpPr>
          <p:spPr>
            <a:xfrm flipV="1">
              <a:off x="4081320" y="6332400"/>
              <a:ext cx="3548160" cy="46080"/>
            </a:xfrm>
            <a:prstGeom prst="line">
              <a:avLst/>
            </a:prstGeom>
            <a:ln w="381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 txBox="1"/>
            <p:nvPr/>
          </p:nvSpPr>
          <p:spPr>
            <a:xfrm rot="10800000">
              <a:off x="4081320" y="6332400"/>
              <a:ext cx="3548160" cy="4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581960" y="1228680"/>
            <a:ext cx="52200" cy="5118120"/>
            <a:chOff x="7581960" y="1228680"/>
            <a:chExt cx="52200" cy="5118120"/>
          </a:xfrm>
        </p:grpSpPr>
        <p:sp>
          <p:nvSpPr>
            <p:cNvPr id="70" name="Line 10"/>
            <p:cNvSpPr/>
            <p:nvPr/>
          </p:nvSpPr>
          <p:spPr>
            <a:xfrm>
              <a:off x="7581960" y="1228680"/>
              <a:ext cx="52200" cy="5118120"/>
            </a:xfrm>
            <a:prstGeom prst="line">
              <a:avLst/>
            </a:prstGeom>
            <a:ln w="381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 txBox="1"/>
            <p:nvPr/>
          </p:nvSpPr>
          <p:spPr>
            <a:xfrm>
              <a:off x="7581960" y="1228680"/>
              <a:ext cx="52200" cy="511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16"/>
          <p:cNvGrpSpPr/>
          <p:nvPr/>
        </p:nvGrpSpPr>
        <p:grpSpPr>
          <a:xfrm>
            <a:off x="4024080" y="736200"/>
            <a:ext cx="1767600" cy="534240"/>
            <a:chOff x="4024080" y="736200"/>
            <a:chExt cx="1767600" cy="534240"/>
          </a:xfrm>
        </p:grpSpPr>
        <p:cxnSp>
          <p:nvCxnSpPr>
            <p:cNvPr id="73" name="AutoShape 17"/>
            <p:cNvCxnSpPr/>
            <p:nvPr/>
          </p:nvCxnSpPr>
          <p:spPr>
            <a:xfrm flipV="1">
              <a:off x="4024080" y="737640"/>
              <a:ext cx="498600" cy="533160"/>
            </a:xfrm>
            <a:prstGeom prst="straightConnector1">
              <a:avLst/>
            </a:prstGeom>
            <a:ln w="38160">
              <a:solidFill>
                <a:srgbClr val="f79646"/>
              </a:solidFill>
              <a:miter/>
            </a:ln>
          </p:spPr>
        </p:cxnSp>
        <p:cxnSp>
          <p:nvCxnSpPr>
            <p:cNvPr id="74" name="AutoShape 18"/>
            <p:cNvCxnSpPr/>
            <p:nvPr/>
          </p:nvCxnSpPr>
          <p:spPr>
            <a:xfrm flipH="1">
              <a:off x="4528800" y="736200"/>
              <a:ext cx="1263240" cy="2520"/>
            </a:xfrm>
            <a:prstGeom prst="straightConnector1">
              <a:avLst/>
            </a:prstGeom>
            <a:ln w="38160">
              <a:solidFill>
                <a:srgbClr val="f79646"/>
              </a:solidFill>
              <a:miter/>
            </a:ln>
          </p:spPr>
        </p:cxnSp>
      </p:grpSp>
      <p:sp>
        <p:nvSpPr>
          <p:cNvPr id="75" name="Oval 11"/>
          <p:cNvSpPr/>
          <p:nvPr/>
        </p:nvSpPr>
        <p:spPr>
          <a:xfrm>
            <a:off x="7583400" y="6267600"/>
            <a:ext cx="131760" cy="12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55"/>
          <p:cNvSpPr/>
          <p:nvPr/>
        </p:nvSpPr>
        <p:spPr>
          <a:xfrm>
            <a:off x="6067080" y="396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1" lang="zh-CN" sz="3200" spc="-1" strike="noStrike">
                <a:solidFill>
                  <a:srgbClr val="e36c09"/>
                </a:solidFill>
                <a:latin typeface="微软雅黑"/>
                <a:ea typeface="微软雅黑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5"/>
          <p:cNvSpPr/>
          <p:nvPr/>
        </p:nvSpPr>
        <p:spPr>
          <a:xfrm>
            <a:off x="5753160" y="669960"/>
            <a:ext cx="129960" cy="12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圆角矩形 157"/>
          <p:cNvSpPr/>
          <p:nvPr/>
        </p:nvSpPr>
        <p:spPr>
          <a:xfrm>
            <a:off x="4811760" y="1809720"/>
            <a:ext cx="3071880" cy="3930840"/>
          </a:xfrm>
          <a:custGeom>
            <a:avLst/>
            <a:gdLst>
              <a:gd name="textAreaLeft" fmla="*/ 0 w 3071880"/>
              <a:gd name="textAreaRight" fmla="*/ 3072240 w 3071880"/>
              <a:gd name="textAreaTop" fmla="*/ 0 h 3930840"/>
              <a:gd name="textAreaBottom" fmla="*/ 3931200 h 3930840"/>
            </a:gdLst>
            <a:ahLst/>
            <a:rect l="textAreaLeft" t="textAreaTop" r="textAreaRight" b="textAreaBottom"/>
            <a:pathLst>
              <a:path w="21600" h="27639">
                <a:moveTo>
                  <a:pt x="0" y="0"/>
                </a:moveTo>
                <a:arcTo wR="0" hR="0" stAng="16200000" swAng="-5400000"/>
                <a:lnTo>
                  <a:pt x="0" y="27639"/>
                </a:lnTo>
                <a:arcTo wR="0" hR="0" stAng="10800000" swAng="-5400000"/>
                <a:lnTo>
                  <a:pt x="21600" y="2763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300000"/>
              </a:lnSpc>
              <a:spcBef>
                <a:spcPts val="601"/>
              </a:spcBef>
              <a:spcAft>
                <a:spcPts val="601"/>
              </a:spcAft>
              <a:buClr>
                <a:srgbClr val="e36c09"/>
              </a:buClr>
              <a:buFont typeface="Arial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1" lang="zh-CN" sz="2200" spc="-1" strike="noStrike">
                <a:solidFill>
                  <a:srgbClr val="e36c09"/>
                </a:solidFill>
                <a:latin typeface="微软雅黑"/>
                <a:ea typeface="微软雅黑"/>
              </a:rPr>
              <a:t>目标与达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300000"/>
              </a:lnSpc>
              <a:spcBef>
                <a:spcPts val="601"/>
              </a:spcBef>
              <a:spcAft>
                <a:spcPts val="601"/>
              </a:spcAft>
              <a:buClr>
                <a:srgbClr val="e36c09"/>
              </a:buClr>
              <a:buFont typeface="Arial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1" lang="zh-CN" sz="2200" spc="-1" strike="noStrike">
                <a:solidFill>
                  <a:srgbClr val="e36c09"/>
                </a:solidFill>
                <a:latin typeface="微软雅黑"/>
                <a:ea typeface="微软雅黑"/>
              </a:rPr>
              <a:t>素养与提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300000"/>
              </a:lnSpc>
              <a:spcBef>
                <a:spcPts val="601"/>
              </a:spcBef>
              <a:spcAft>
                <a:spcPts val="601"/>
              </a:spcAft>
              <a:buClr>
                <a:srgbClr val="e36c09"/>
              </a:buClr>
              <a:buFont typeface="Arial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1" lang="zh-CN" sz="2200" spc="-1" strike="noStrike">
                <a:solidFill>
                  <a:srgbClr val="e36c09"/>
                </a:solidFill>
                <a:latin typeface="微软雅黑"/>
                <a:ea typeface="微软雅黑"/>
              </a:rPr>
              <a:t>创新与改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94 -0.02521 L -0.29283 -0.66438 E">
                                      <p:cBhvr>
                                        <p:cTn id="60" dur="1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25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dur="indefinite" nodeType="after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" dur="indefinite" nodeType="afterEffect" fill="hold" presetClass="exit" presetID="22" presetSubtype="2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xit" presetID="2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xit" presetID="22" presetSubtype="2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xit" presetID="2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xit" presetID="22" presetSubtype="2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xit" presetID="23" presetSubtype="32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8500"/>
                            </p:stCondLst>
                            <p:childTnLst>
                              <p:par>
                                <p:cTn id="124" dur="indefinite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9000"/>
                            </p:stCondLst>
                            <p:childTnLst>
                              <p:par>
                                <p:cTn id="130" dur="indefinite" nodeType="afterEffect" fill="hold" presetClass="exit" presetID="3" presetSubtype="10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xit" presetID="37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0" dur="indefinite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D:\PrintScreen Files\3DLS.png"/>
          <p:cNvPicPr/>
          <p:nvPr/>
        </p:nvPicPr>
        <p:blipFill>
          <a:blip r:embed="rId1"/>
          <a:stretch/>
        </p:blipFill>
        <p:spPr>
          <a:xfrm>
            <a:off x="1596960" y="3238560"/>
            <a:ext cx="2000160" cy="1501560"/>
          </a:xfrm>
          <a:prstGeom prst="rect">
            <a:avLst/>
          </a:prstGeom>
          <a:ln w="0">
            <a:noFill/>
          </a:ln>
        </p:spPr>
      </p:pic>
      <p:grpSp>
        <p:nvGrpSpPr>
          <p:cNvPr id="80" name="Group 5"/>
          <p:cNvGrpSpPr/>
          <p:nvPr/>
        </p:nvGrpSpPr>
        <p:grpSpPr>
          <a:xfrm>
            <a:off x="1525680" y="3052440"/>
            <a:ext cx="9000720" cy="1856520"/>
            <a:chOff x="1525680" y="3052440"/>
            <a:chExt cx="9000720" cy="1856520"/>
          </a:xfrm>
        </p:grpSpPr>
        <p:sp>
          <p:nvSpPr>
            <p:cNvPr id="81" name="Oval 6"/>
            <p:cNvSpPr/>
            <p:nvPr/>
          </p:nvSpPr>
          <p:spPr>
            <a:xfrm flipV="1">
              <a:off x="1525680" y="3051720"/>
              <a:ext cx="9000720" cy="494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7"/>
            <p:cNvSpPr/>
            <p:nvPr/>
          </p:nvSpPr>
          <p:spPr>
            <a:xfrm flipV="1">
              <a:off x="1525680" y="4413960"/>
              <a:ext cx="9000720" cy="494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矩形 1"/>
          <p:cNvSpPr/>
          <p:nvPr/>
        </p:nvSpPr>
        <p:spPr>
          <a:xfrm>
            <a:off x="5318280" y="338760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1" lang="zh-CN" sz="5400" spc="-1" strike="noStrike">
                <a:solidFill>
                  <a:srgbClr val="e36c09"/>
                </a:solidFill>
                <a:latin typeface="华文细黑"/>
                <a:ea typeface="华文细黑"/>
              </a:rPr>
              <a:t>目标与达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7"/>
          <p:cNvSpPr/>
          <p:nvPr/>
        </p:nvSpPr>
        <p:spPr>
          <a:xfrm>
            <a:off x="-52560" y="7380360"/>
            <a:ext cx="500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1000" spc="-1" strike="noStrike">
                <a:solidFill>
                  <a:srgbClr val="974806"/>
                </a:solidFill>
                <a:latin typeface="Arial"/>
                <a:ea typeface="微软雅黑"/>
              </a:rPr>
              <a:t>THIS PRESENTATION IS DESIGNED BY LIUSHAN,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组合 3"/>
          <p:cNvGrpSpPr/>
          <p:nvPr/>
        </p:nvGrpSpPr>
        <p:grpSpPr>
          <a:xfrm>
            <a:off x="8105760" y="7264440"/>
            <a:ext cx="3992400" cy="375840"/>
            <a:chOff x="8105760" y="7264440"/>
            <a:chExt cx="3992400" cy="375840"/>
          </a:xfrm>
        </p:grpSpPr>
        <p:grpSp>
          <p:nvGrpSpPr>
            <p:cNvPr id="87" name="组合 8"/>
            <p:cNvGrpSpPr/>
            <p:nvPr/>
          </p:nvGrpSpPr>
          <p:grpSpPr>
            <a:xfrm>
              <a:off x="8105760" y="7264440"/>
              <a:ext cx="1936080" cy="375840"/>
              <a:chOff x="8105760" y="7264440"/>
              <a:chExt cx="1936080" cy="375840"/>
            </a:xfrm>
          </p:grpSpPr>
          <p:sp>
            <p:nvSpPr>
              <p:cNvPr id="88" name="WordArt 5"/>
              <p:cNvSpPr/>
              <p:nvPr/>
            </p:nvSpPr>
            <p:spPr>
              <a:xfrm>
                <a:off x="8105760" y="7264440"/>
                <a:ext cx="1928880" cy="223200"/>
              </a:xfrm>
              <a:custGeom>
                <a:avLst/>
                <a:gdLst>
                  <a:gd name="textAreaLeft" fmla="*/ 0 w 1928880"/>
                  <a:gd name="textAreaRight" fmla="*/ 1929240 w 1928880"/>
                  <a:gd name="textAreaTop" fmla="*/ 0 h 223200"/>
                  <a:gd name="textAreaBottom" fmla="*/ 223560 h 223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WordArt 11"/>
              <p:cNvSpPr/>
              <p:nvPr/>
            </p:nvSpPr>
            <p:spPr>
              <a:xfrm flipV="1">
                <a:off x="8112960" y="7498440"/>
                <a:ext cx="1928880" cy="141480"/>
              </a:xfrm>
              <a:custGeom>
                <a:avLst/>
                <a:gdLst>
                  <a:gd name="textAreaLeft" fmla="*/ 0 w 1928880"/>
                  <a:gd name="textAreaRight" fmla="*/ 1929240 w 1928880"/>
                  <a:gd name="textAreaTop" fmla="*/ -360 h 141480"/>
                  <a:gd name="textAreaBottom" fmla="*/ 141480 h 141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WordArt 10"/>
              <p:cNvSpPr/>
              <p:nvPr/>
            </p:nvSpPr>
            <p:spPr>
              <a:xfrm>
                <a:off x="8105760" y="7264440"/>
                <a:ext cx="1928880" cy="223200"/>
              </a:xfrm>
              <a:custGeom>
                <a:avLst/>
                <a:gdLst>
                  <a:gd name="textAreaLeft" fmla="*/ 0 w 1928880"/>
                  <a:gd name="textAreaRight" fmla="*/ 1929240 w 1928880"/>
                  <a:gd name="textAreaTop" fmla="*/ 0 h 223200"/>
                  <a:gd name="textAreaBottom" fmla="*/ 223560 h 223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WordArt 10"/>
            <p:cNvSpPr/>
            <p:nvPr/>
          </p:nvSpPr>
          <p:spPr>
            <a:xfrm>
              <a:off x="10218960" y="7473960"/>
              <a:ext cx="1879200" cy="146160"/>
            </a:xfrm>
            <a:custGeom>
              <a:avLst/>
              <a:gdLst>
                <a:gd name="textAreaLeft" fmla="*/ 0 w 1879200"/>
                <a:gd name="textAreaRight" fmla="*/ 1879560 w 18792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10720" y="311040"/>
            <a:ext cx="56437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zh-CN" sz="3200" spc="-1" strike="noStrike">
                <a:solidFill>
                  <a:srgbClr val="e36c09"/>
                </a:solidFill>
                <a:latin typeface="微软雅黑"/>
                <a:ea typeface="微软雅黑"/>
              </a:rPr>
              <a:t>目标与达成 </a:t>
            </a:r>
            <a:r>
              <a:rPr b="0" lang="en-US" sz="3200" spc="-1" strike="noStrike">
                <a:solidFill>
                  <a:srgbClr val="e36c09"/>
                </a:solidFill>
                <a:latin typeface="微软雅黑"/>
                <a:ea typeface="微软雅黑"/>
              </a:rPr>
              <a:t>— </a:t>
            </a:r>
            <a:r>
              <a:rPr b="0" lang="zh-CN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覆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Group 6"/>
          <p:cNvGrpSpPr/>
          <p:nvPr/>
        </p:nvGrpSpPr>
        <p:grpSpPr>
          <a:xfrm>
            <a:off x="811080" y="1523880"/>
            <a:ext cx="6475680" cy="4216680"/>
            <a:chOff x="811080" y="1523880"/>
            <a:chExt cx="6475680" cy="4216680"/>
          </a:xfrm>
        </p:grpSpPr>
        <p:sp>
          <p:nvSpPr>
            <p:cNvPr id="94" name="AutoShape 5"/>
            <p:cNvSpPr/>
            <p:nvPr/>
          </p:nvSpPr>
          <p:spPr>
            <a:xfrm>
              <a:off x="811080" y="1523880"/>
              <a:ext cx="6475680" cy="421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7"/>
            <p:cNvSpPr/>
            <p:nvPr/>
          </p:nvSpPr>
          <p:spPr>
            <a:xfrm>
              <a:off x="859320" y="1573200"/>
              <a:ext cx="6379200" cy="4118040"/>
            </a:xfrm>
            <a:prstGeom prst="pie">
              <a:avLst/>
            </a:prstGeom>
            <a:solidFill>
              <a:srgbClr val="c9cacb"/>
            </a:solidFill>
            <a:ln w="123840">
              <a:solidFill>
                <a:srgbClr val="c9ca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8"/>
            <p:cNvSpPr/>
            <p:nvPr/>
          </p:nvSpPr>
          <p:spPr>
            <a:xfrm>
              <a:off x="859320" y="1573200"/>
              <a:ext cx="6379200" cy="4118040"/>
            </a:xfrm>
            <a:prstGeom prst="pie">
              <a:avLst/>
            </a:prstGeom>
            <a:solidFill>
              <a:srgbClr val="d8d8d8"/>
            </a:solidFill>
            <a:ln w="25560">
              <a:solidFill>
                <a:srgbClr val="5db7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9"/>
            <p:cNvSpPr/>
            <p:nvPr/>
          </p:nvSpPr>
          <p:spPr>
            <a:xfrm>
              <a:off x="3141000" y="2540880"/>
              <a:ext cx="744480" cy="149400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"/>
            <p:cNvSpPr/>
            <p:nvPr/>
          </p:nvSpPr>
          <p:spPr>
            <a:xfrm>
              <a:off x="3141000" y="2540880"/>
              <a:ext cx="744480" cy="1494000"/>
            </a:xfrm>
            <a:prstGeom prst="pie">
              <a:avLst/>
            </a:prstGeom>
            <a:noFill/>
            <a:ln w="25560">
              <a:solidFill>
                <a:srgbClr val="5db7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1"/>
            <p:cNvSpPr/>
            <p:nvPr/>
          </p:nvSpPr>
          <p:spPr>
            <a:xfrm>
              <a:off x="1882080" y="3430080"/>
              <a:ext cx="1565640" cy="919440"/>
            </a:xfrm>
            <a:prstGeom prst="pie">
              <a:avLst/>
            </a:prstGeom>
            <a:solidFill>
              <a:srgbClr val="d8d8d8"/>
            </a:solidFill>
            <a:ln w="25560">
              <a:solidFill>
                <a:srgbClr val="5db7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2"/>
            <p:cNvSpPr/>
            <p:nvPr/>
          </p:nvSpPr>
          <p:spPr>
            <a:xfrm>
              <a:off x="2487960" y="4694040"/>
              <a:ext cx="825840" cy="889200"/>
            </a:xfrm>
            <a:prstGeom prst="pie">
              <a:avLst/>
            </a:prstGeom>
            <a:solidFill>
              <a:srgbClr val="bfbfbf"/>
            </a:solidFill>
            <a:ln w="25560">
              <a:solidFill>
                <a:srgbClr val="5db7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3"/>
            <p:cNvSpPr/>
            <p:nvPr/>
          </p:nvSpPr>
          <p:spPr>
            <a:xfrm>
              <a:off x="2991240" y="3730320"/>
              <a:ext cx="1504080" cy="1180080"/>
            </a:xfrm>
            <a:prstGeom prst="pie">
              <a:avLst/>
            </a:prstGeom>
            <a:noFill/>
            <a:ln w="25560">
              <a:solidFill>
                <a:srgbClr val="59bd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4"/>
            <p:cNvSpPr/>
            <p:nvPr/>
          </p:nvSpPr>
          <p:spPr>
            <a:xfrm>
              <a:off x="2991240" y="3730320"/>
              <a:ext cx="1504080" cy="1960560"/>
            </a:xfrm>
            <a:prstGeom prst="pie">
              <a:avLst/>
            </a:prstGeom>
            <a:solidFill>
              <a:srgbClr val="d8d8d8"/>
            </a:solidFill>
            <a:ln w="25560">
              <a:solidFill>
                <a:srgbClr val="5db7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5"/>
            <p:cNvSpPr/>
            <p:nvPr/>
          </p:nvSpPr>
          <p:spPr>
            <a:xfrm>
              <a:off x="1700280" y="4055400"/>
              <a:ext cx="459720" cy="1124280"/>
            </a:xfrm>
            <a:prstGeom prst="pie">
              <a:avLst/>
            </a:prstGeom>
            <a:noFill/>
            <a:ln w="25560">
              <a:solidFill>
                <a:srgbClr val="59bd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6"/>
            <p:cNvSpPr/>
            <p:nvPr/>
          </p:nvSpPr>
          <p:spPr>
            <a:xfrm>
              <a:off x="859320" y="4055400"/>
              <a:ext cx="1306080" cy="1405440"/>
            </a:xfrm>
            <a:prstGeom prst="pie">
              <a:avLst/>
            </a:prstGeom>
            <a:solidFill>
              <a:srgbClr val="e36c09"/>
            </a:solidFill>
            <a:ln w="25560">
              <a:solidFill>
                <a:srgbClr val="5db7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7"/>
            <p:cNvSpPr/>
            <p:nvPr/>
          </p:nvSpPr>
          <p:spPr>
            <a:xfrm>
              <a:off x="1882080" y="3917160"/>
              <a:ext cx="1234080" cy="432360"/>
            </a:xfrm>
            <a:prstGeom prst="pie">
              <a:avLst/>
            </a:prstGeom>
            <a:noFill/>
            <a:ln w="25560">
              <a:solidFill>
                <a:srgbClr val="59bd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8"/>
            <p:cNvSpPr/>
            <p:nvPr/>
          </p:nvSpPr>
          <p:spPr>
            <a:xfrm>
              <a:off x="2016720" y="3430080"/>
              <a:ext cx="1427040" cy="555120"/>
            </a:xfrm>
            <a:prstGeom prst="pie">
              <a:avLst/>
            </a:prstGeom>
            <a:noFill/>
            <a:ln w="25560">
              <a:solidFill>
                <a:srgbClr val="59bd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9"/>
            <p:cNvSpPr/>
            <p:nvPr/>
          </p:nvSpPr>
          <p:spPr>
            <a:xfrm>
              <a:off x="6071040" y="2280240"/>
              <a:ext cx="1167120" cy="894240"/>
            </a:xfrm>
            <a:prstGeom prst="pie">
              <a:avLst/>
            </a:prstGeom>
            <a:solidFill>
              <a:srgbClr val="d8d8d8"/>
            </a:solidFill>
            <a:ln w="25560">
              <a:solidFill>
                <a:srgbClr val="5db7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0"/>
            <p:cNvSpPr/>
            <p:nvPr/>
          </p:nvSpPr>
          <p:spPr>
            <a:xfrm>
              <a:off x="4721760" y="2733120"/>
              <a:ext cx="1162440" cy="1665720"/>
            </a:xfrm>
            <a:prstGeom prst="pie">
              <a:avLst/>
            </a:prstGeom>
            <a:solidFill>
              <a:srgbClr val="d8d8d8"/>
            </a:solidFill>
            <a:ln w="25560">
              <a:solidFill>
                <a:srgbClr val="5db7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1"/>
            <p:cNvSpPr/>
            <p:nvPr/>
          </p:nvSpPr>
          <p:spPr>
            <a:xfrm>
              <a:off x="4303440" y="3888360"/>
              <a:ext cx="417960" cy="387000"/>
            </a:xfrm>
            <a:prstGeom prst="pie">
              <a:avLst/>
            </a:prstGeom>
            <a:noFill/>
            <a:ln w="25560">
              <a:solidFill>
                <a:srgbClr val="59bd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2"/>
            <p:cNvSpPr/>
            <p:nvPr/>
          </p:nvSpPr>
          <p:spPr>
            <a:xfrm>
              <a:off x="3635640" y="2580120"/>
              <a:ext cx="595800" cy="1272600"/>
            </a:xfrm>
            <a:prstGeom prst="pie">
              <a:avLst/>
            </a:prstGeom>
            <a:noFill/>
            <a:ln w="25560">
              <a:solidFill>
                <a:srgbClr val="59bd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3"/>
            <p:cNvSpPr/>
            <p:nvPr/>
          </p:nvSpPr>
          <p:spPr>
            <a:xfrm>
              <a:off x="2914560" y="3372120"/>
              <a:ext cx="542880" cy="495720"/>
            </a:xfrm>
            <a:prstGeom prst="pie">
              <a:avLst/>
            </a:prstGeom>
            <a:noFill/>
            <a:ln w="25560">
              <a:solidFill>
                <a:srgbClr val="59bd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4"/>
            <p:cNvSpPr/>
            <p:nvPr/>
          </p:nvSpPr>
          <p:spPr>
            <a:xfrm>
              <a:off x="3582360" y="1720080"/>
              <a:ext cx="282960" cy="1224360"/>
            </a:xfrm>
            <a:prstGeom prst="pie">
              <a:avLst/>
            </a:prstGeom>
            <a:noFill/>
            <a:ln w="25560">
              <a:solidFill>
                <a:srgbClr val="59bd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5"/>
            <p:cNvSpPr/>
            <p:nvPr/>
          </p:nvSpPr>
          <p:spPr>
            <a:xfrm>
              <a:off x="3141000" y="2540880"/>
              <a:ext cx="570960" cy="831240"/>
            </a:xfrm>
            <a:prstGeom prst="pie">
              <a:avLst/>
            </a:prstGeom>
            <a:noFill/>
            <a:ln w="25560">
              <a:solidFill>
                <a:srgbClr val="59bd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6"/>
            <p:cNvSpPr/>
            <p:nvPr/>
          </p:nvSpPr>
          <p:spPr>
            <a:xfrm>
              <a:off x="2900880" y="1803600"/>
              <a:ext cx="321480" cy="1396440"/>
            </a:xfrm>
            <a:prstGeom prst="pie">
              <a:avLst/>
            </a:prstGeom>
            <a:noFill/>
            <a:ln w="25560">
              <a:solidFill>
                <a:srgbClr val="59bd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27"/>
            <p:cNvSpPr/>
            <p:nvPr/>
          </p:nvSpPr>
          <p:spPr>
            <a:xfrm>
              <a:off x="2900880" y="1573200"/>
              <a:ext cx="878040" cy="1626840"/>
            </a:xfrm>
            <a:prstGeom prst="pie">
              <a:avLst/>
            </a:prstGeom>
            <a:solidFill>
              <a:srgbClr val="d8d8d8"/>
            </a:solidFill>
            <a:ln w="25560">
              <a:solidFill>
                <a:srgbClr val="5db7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28"/>
            <p:cNvSpPr/>
            <p:nvPr/>
          </p:nvSpPr>
          <p:spPr>
            <a:xfrm>
              <a:off x="1670400" y="2280240"/>
              <a:ext cx="1230120" cy="1224720"/>
            </a:xfrm>
            <a:prstGeom prst="pie">
              <a:avLst/>
            </a:prstGeom>
            <a:noFill/>
            <a:ln w="25560">
              <a:solidFill>
                <a:srgbClr val="59bd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29"/>
            <p:cNvSpPr/>
            <p:nvPr/>
          </p:nvSpPr>
          <p:spPr>
            <a:xfrm>
              <a:off x="1906560" y="3504960"/>
              <a:ext cx="374400" cy="294480"/>
            </a:xfrm>
            <a:prstGeom prst="pie">
              <a:avLst/>
            </a:prstGeom>
            <a:noFill/>
            <a:ln w="25560">
              <a:solidFill>
                <a:srgbClr val="59bd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0"/>
            <p:cNvSpPr/>
            <p:nvPr/>
          </p:nvSpPr>
          <p:spPr>
            <a:xfrm>
              <a:off x="2012040" y="2275200"/>
              <a:ext cx="1244160" cy="1592640"/>
            </a:xfrm>
            <a:prstGeom prst="pie">
              <a:avLst/>
            </a:prstGeom>
            <a:solidFill>
              <a:srgbClr val="d8d8d8"/>
            </a:solidFill>
            <a:ln w="25560">
              <a:solidFill>
                <a:srgbClr val="5db7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1"/>
            <p:cNvSpPr/>
            <p:nvPr/>
          </p:nvSpPr>
          <p:spPr>
            <a:xfrm>
              <a:off x="1262520" y="2855880"/>
              <a:ext cx="1018800" cy="1262520"/>
            </a:xfrm>
            <a:prstGeom prst="pie">
              <a:avLst/>
            </a:prstGeom>
            <a:solidFill>
              <a:srgbClr val="d8d8d8"/>
            </a:solidFill>
            <a:ln w="25560">
              <a:solidFill>
                <a:srgbClr val="5db7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32"/>
            <p:cNvSpPr/>
            <p:nvPr/>
          </p:nvSpPr>
          <p:spPr>
            <a:xfrm>
              <a:off x="3607200" y="4747320"/>
              <a:ext cx="95040" cy="10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33"/>
            <p:cNvSpPr/>
            <p:nvPr/>
          </p:nvSpPr>
          <p:spPr>
            <a:xfrm>
              <a:off x="3717360" y="4747320"/>
              <a:ext cx="105120" cy="10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34"/>
            <p:cNvSpPr/>
            <p:nvPr/>
          </p:nvSpPr>
          <p:spPr>
            <a:xfrm>
              <a:off x="3837600" y="4747320"/>
              <a:ext cx="101160" cy="10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35"/>
            <p:cNvSpPr/>
            <p:nvPr/>
          </p:nvSpPr>
          <p:spPr>
            <a:xfrm>
              <a:off x="2847960" y="4997520"/>
              <a:ext cx="105120" cy="10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36"/>
            <p:cNvSpPr/>
            <p:nvPr/>
          </p:nvSpPr>
          <p:spPr>
            <a:xfrm>
              <a:off x="2962800" y="4997520"/>
              <a:ext cx="106200" cy="103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37"/>
            <p:cNvSpPr/>
            <p:nvPr/>
          </p:nvSpPr>
          <p:spPr>
            <a:xfrm>
              <a:off x="3083040" y="4997520"/>
              <a:ext cx="101160" cy="103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38"/>
            <p:cNvSpPr/>
            <p:nvPr/>
          </p:nvSpPr>
          <p:spPr>
            <a:xfrm>
              <a:off x="1205640" y="4516920"/>
              <a:ext cx="100080" cy="10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39"/>
            <p:cNvSpPr/>
            <p:nvPr/>
          </p:nvSpPr>
          <p:spPr>
            <a:xfrm>
              <a:off x="1320480" y="4516920"/>
              <a:ext cx="105120" cy="10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40"/>
            <p:cNvSpPr/>
            <p:nvPr/>
          </p:nvSpPr>
          <p:spPr>
            <a:xfrm>
              <a:off x="1435680" y="4516920"/>
              <a:ext cx="101520" cy="10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41"/>
            <p:cNvSpPr/>
            <p:nvPr/>
          </p:nvSpPr>
          <p:spPr>
            <a:xfrm>
              <a:off x="2612880" y="3813840"/>
              <a:ext cx="105120" cy="10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42"/>
            <p:cNvSpPr/>
            <p:nvPr/>
          </p:nvSpPr>
          <p:spPr>
            <a:xfrm>
              <a:off x="2728080" y="3813840"/>
              <a:ext cx="105120" cy="10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43"/>
            <p:cNvSpPr/>
            <p:nvPr/>
          </p:nvSpPr>
          <p:spPr>
            <a:xfrm>
              <a:off x="2842920" y="3813840"/>
              <a:ext cx="101520" cy="10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44"/>
            <p:cNvSpPr/>
            <p:nvPr/>
          </p:nvSpPr>
          <p:spPr>
            <a:xfrm>
              <a:off x="3304440" y="3155760"/>
              <a:ext cx="105120" cy="10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45"/>
            <p:cNvSpPr/>
            <p:nvPr/>
          </p:nvSpPr>
          <p:spPr>
            <a:xfrm>
              <a:off x="3419280" y="3155760"/>
              <a:ext cx="106200" cy="10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46"/>
            <p:cNvSpPr/>
            <p:nvPr/>
          </p:nvSpPr>
          <p:spPr>
            <a:xfrm>
              <a:off x="3539160" y="3155760"/>
              <a:ext cx="101160" cy="10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47"/>
            <p:cNvSpPr/>
            <p:nvPr/>
          </p:nvSpPr>
          <p:spPr>
            <a:xfrm>
              <a:off x="5293080" y="3597480"/>
              <a:ext cx="105120" cy="10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48"/>
            <p:cNvSpPr/>
            <p:nvPr/>
          </p:nvSpPr>
          <p:spPr>
            <a:xfrm>
              <a:off x="5418000" y="3597480"/>
              <a:ext cx="91440" cy="10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49"/>
            <p:cNvSpPr/>
            <p:nvPr/>
          </p:nvSpPr>
          <p:spPr>
            <a:xfrm>
              <a:off x="5528160" y="3597480"/>
              <a:ext cx="101160" cy="10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50"/>
            <p:cNvSpPr/>
            <p:nvPr/>
          </p:nvSpPr>
          <p:spPr>
            <a:xfrm>
              <a:off x="6647040" y="2482920"/>
              <a:ext cx="106560" cy="10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51"/>
            <p:cNvSpPr/>
            <p:nvPr/>
          </p:nvSpPr>
          <p:spPr>
            <a:xfrm>
              <a:off x="6767280" y="2482920"/>
              <a:ext cx="101520" cy="11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52"/>
            <p:cNvSpPr/>
            <p:nvPr/>
          </p:nvSpPr>
          <p:spPr>
            <a:xfrm>
              <a:off x="6883560" y="2486520"/>
              <a:ext cx="100080" cy="1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53"/>
            <p:cNvSpPr/>
            <p:nvPr/>
          </p:nvSpPr>
          <p:spPr>
            <a:xfrm>
              <a:off x="3184200" y="2261160"/>
              <a:ext cx="105120" cy="10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54"/>
            <p:cNvSpPr/>
            <p:nvPr/>
          </p:nvSpPr>
          <p:spPr>
            <a:xfrm>
              <a:off x="3304440" y="2261160"/>
              <a:ext cx="96480" cy="10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55"/>
            <p:cNvSpPr/>
            <p:nvPr/>
          </p:nvSpPr>
          <p:spPr>
            <a:xfrm>
              <a:off x="3419280" y="2261160"/>
              <a:ext cx="101520" cy="10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56"/>
            <p:cNvSpPr/>
            <p:nvPr/>
          </p:nvSpPr>
          <p:spPr>
            <a:xfrm>
              <a:off x="1593720" y="3479400"/>
              <a:ext cx="106560" cy="10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7"/>
            <p:cNvSpPr/>
            <p:nvPr/>
          </p:nvSpPr>
          <p:spPr>
            <a:xfrm>
              <a:off x="1708560" y="3479400"/>
              <a:ext cx="111240" cy="10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58"/>
            <p:cNvSpPr/>
            <p:nvPr/>
          </p:nvSpPr>
          <p:spPr>
            <a:xfrm>
              <a:off x="1828800" y="3479400"/>
              <a:ext cx="101520" cy="10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59"/>
            <p:cNvSpPr/>
            <p:nvPr/>
          </p:nvSpPr>
          <p:spPr>
            <a:xfrm>
              <a:off x="5384520" y="3843720"/>
              <a:ext cx="28440" cy="33840"/>
            </a:xfrm>
            <a:prstGeom prst="pie">
              <a:avLst/>
            </a:pr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60"/>
            <p:cNvSpPr/>
            <p:nvPr/>
          </p:nvSpPr>
          <p:spPr>
            <a:xfrm>
              <a:off x="5364720" y="3823560"/>
              <a:ext cx="72720" cy="73440"/>
            </a:xfrm>
            <a:prstGeom prst="pie">
              <a:avLst/>
            </a:prstGeom>
            <a:noFill/>
            <a:ln w="12600">
              <a:solidFill>
                <a:srgbClr val="e600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61"/>
            <p:cNvSpPr/>
            <p:nvPr/>
          </p:nvSpPr>
          <p:spPr>
            <a:xfrm>
              <a:off x="6729120" y="2350080"/>
              <a:ext cx="34200" cy="28800"/>
            </a:xfrm>
            <a:prstGeom prst="pie">
              <a:avLst/>
            </a:pr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62"/>
            <p:cNvSpPr/>
            <p:nvPr/>
          </p:nvSpPr>
          <p:spPr>
            <a:xfrm>
              <a:off x="6710400" y="2329560"/>
              <a:ext cx="71640" cy="73440"/>
            </a:xfrm>
            <a:prstGeom prst="pie">
              <a:avLst/>
            </a:prstGeom>
            <a:noFill/>
            <a:ln w="12600">
              <a:solidFill>
                <a:srgbClr val="e600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63"/>
            <p:cNvSpPr/>
            <p:nvPr/>
          </p:nvSpPr>
          <p:spPr>
            <a:xfrm>
              <a:off x="3510720" y="2438280"/>
              <a:ext cx="33120" cy="33840"/>
            </a:xfrm>
            <a:prstGeom prst="pie">
              <a:avLst/>
            </a:pr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64"/>
            <p:cNvSpPr/>
            <p:nvPr/>
          </p:nvSpPr>
          <p:spPr>
            <a:xfrm>
              <a:off x="3490920" y="2418120"/>
              <a:ext cx="72720" cy="73080"/>
            </a:xfrm>
            <a:prstGeom prst="pie">
              <a:avLst/>
            </a:prstGeom>
            <a:noFill/>
            <a:ln w="12600">
              <a:solidFill>
                <a:srgbClr val="e600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65"/>
            <p:cNvSpPr/>
            <p:nvPr/>
          </p:nvSpPr>
          <p:spPr>
            <a:xfrm>
              <a:off x="3501000" y="3052080"/>
              <a:ext cx="28440" cy="33840"/>
            </a:xfrm>
            <a:prstGeom prst="pie">
              <a:avLst/>
            </a:pr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66"/>
            <p:cNvSpPr/>
            <p:nvPr/>
          </p:nvSpPr>
          <p:spPr>
            <a:xfrm>
              <a:off x="3482280" y="3033000"/>
              <a:ext cx="71640" cy="73440"/>
            </a:xfrm>
            <a:prstGeom prst="pie">
              <a:avLst/>
            </a:prstGeom>
            <a:noFill/>
            <a:ln w="12600">
              <a:solidFill>
                <a:srgbClr val="e600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67"/>
            <p:cNvSpPr/>
            <p:nvPr/>
          </p:nvSpPr>
          <p:spPr>
            <a:xfrm>
              <a:off x="1838520" y="3391200"/>
              <a:ext cx="33480" cy="28800"/>
            </a:xfrm>
            <a:prstGeom prst="pie">
              <a:avLst/>
            </a:pr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68"/>
            <p:cNvSpPr/>
            <p:nvPr/>
          </p:nvSpPr>
          <p:spPr>
            <a:xfrm>
              <a:off x="1820160" y="3367080"/>
              <a:ext cx="71640" cy="73440"/>
            </a:xfrm>
            <a:prstGeom prst="pie">
              <a:avLst/>
            </a:prstGeom>
            <a:noFill/>
            <a:ln w="12600">
              <a:solidFill>
                <a:srgbClr val="e600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69"/>
            <p:cNvSpPr/>
            <p:nvPr/>
          </p:nvSpPr>
          <p:spPr>
            <a:xfrm>
              <a:off x="2766240" y="3716280"/>
              <a:ext cx="33120" cy="28800"/>
            </a:xfrm>
            <a:prstGeom prst="pie">
              <a:avLst/>
            </a:pr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70"/>
            <p:cNvSpPr/>
            <p:nvPr/>
          </p:nvSpPr>
          <p:spPr>
            <a:xfrm>
              <a:off x="2746440" y="3690720"/>
              <a:ext cx="72720" cy="73440"/>
            </a:xfrm>
            <a:prstGeom prst="pie">
              <a:avLst/>
            </a:prstGeom>
            <a:noFill/>
            <a:ln w="12600">
              <a:solidFill>
                <a:srgbClr val="e600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71"/>
            <p:cNvSpPr/>
            <p:nvPr/>
          </p:nvSpPr>
          <p:spPr>
            <a:xfrm>
              <a:off x="3722040" y="4944600"/>
              <a:ext cx="33480" cy="28800"/>
            </a:xfrm>
            <a:prstGeom prst="pie">
              <a:avLst/>
            </a:pr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72"/>
            <p:cNvSpPr/>
            <p:nvPr/>
          </p:nvSpPr>
          <p:spPr>
            <a:xfrm>
              <a:off x="3702600" y="4919400"/>
              <a:ext cx="72720" cy="74520"/>
            </a:xfrm>
            <a:prstGeom prst="pie">
              <a:avLst/>
            </a:prstGeom>
            <a:noFill/>
            <a:ln w="12600">
              <a:solidFill>
                <a:srgbClr val="e600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73"/>
            <p:cNvSpPr/>
            <p:nvPr/>
          </p:nvSpPr>
          <p:spPr>
            <a:xfrm>
              <a:off x="1353960" y="4683960"/>
              <a:ext cx="28080" cy="34200"/>
            </a:xfrm>
            <a:prstGeom prst="pie">
              <a:avLst/>
            </a:pr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74"/>
            <p:cNvSpPr/>
            <p:nvPr/>
          </p:nvSpPr>
          <p:spPr>
            <a:xfrm>
              <a:off x="1330200" y="4663800"/>
              <a:ext cx="71640" cy="74520"/>
            </a:xfrm>
            <a:prstGeom prst="pie">
              <a:avLst/>
            </a:prstGeom>
            <a:noFill/>
            <a:ln w="12600">
              <a:solidFill>
                <a:srgbClr val="e600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75"/>
            <p:cNvSpPr/>
            <p:nvPr/>
          </p:nvSpPr>
          <p:spPr>
            <a:xfrm>
              <a:off x="4750200" y="2005560"/>
              <a:ext cx="1873800" cy="1321920"/>
            </a:xfrm>
            <a:prstGeom prst="pie">
              <a:avLst/>
            </a:prstGeom>
            <a:solidFill>
              <a:srgbClr val="d8d8d8"/>
            </a:solidFill>
            <a:ln w="25560">
              <a:solidFill>
                <a:srgbClr val="5db7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76"/>
            <p:cNvSpPr/>
            <p:nvPr/>
          </p:nvSpPr>
          <p:spPr>
            <a:xfrm>
              <a:off x="4721760" y="2767320"/>
              <a:ext cx="384480" cy="1621800"/>
            </a:xfrm>
            <a:prstGeom prst="pie">
              <a:avLst/>
            </a:prstGeom>
            <a:noFill/>
            <a:ln w="25560">
              <a:solidFill>
                <a:srgbClr val="59bd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77"/>
            <p:cNvSpPr/>
            <p:nvPr/>
          </p:nvSpPr>
          <p:spPr>
            <a:xfrm>
              <a:off x="3952440" y="3891960"/>
              <a:ext cx="855360" cy="1022040"/>
            </a:xfrm>
            <a:prstGeom prst="pie">
              <a:avLst/>
            </a:prstGeom>
            <a:solidFill>
              <a:srgbClr val="d8d8d8"/>
            </a:solidFill>
            <a:ln w="25560">
              <a:solidFill>
                <a:srgbClr val="5db7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79"/>
            <p:cNvSpPr/>
            <p:nvPr/>
          </p:nvSpPr>
          <p:spPr>
            <a:xfrm>
              <a:off x="5984280" y="2462400"/>
              <a:ext cx="106200" cy="10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80"/>
            <p:cNvSpPr/>
            <p:nvPr/>
          </p:nvSpPr>
          <p:spPr>
            <a:xfrm>
              <a:off x="6109200" y="2462400"/>
              <a:ext cx="96480" cy="10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81"/>
            <p:cNvSpPr/>
            <p:nvPr/>
          </p:nvSpPr>
          <p:spPr>
            <a:xfrm>
              <a:off x="6220440" y="2462400"/>
              <a:ext cx="100080" cy="103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82"/>
            <p:cNvSpPr/>
            <p:nvPr/>
          </p:nvSpPr>
          <p:spPr>
            <a:xfrm>
              <a:off x="6152760" y="2344680"/>
              <a:ext cx="29160" cy="28800"/>
            </a:xfrm>
            <a:prstGeom prst="pie">
              <a:avLst/>
            </a:pr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83"/>
            <p:cNvSpPr/>
            <p:nvPr/>
          </p:nvSpPr>
          <p:spPr>
            <a:xfrm>
              <a:off x="6129000" y="2324520"/>
              <a:ext cx="71640" cy="69480"/>
            </a:xfrm>
            <a:prstGeom prst="pie">
              <a:avLst/>
            </a:prstGeom>
            <a:noFill/>
            <a:ln w="12600">
              <a:solidFill>
                <a:srgbClr val="e600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84"/>
            <p:cNvSpPr/>
            <p:nvPr/>
          </p:nvSpPr>
          <p:spPr>
            <a:xfrm>
              <a:off x="4313520" y="3046680"/>
              <a:ext cx="105120" cy="10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85"/>
            <p:cNvSpPr/>
            <p:nvPr/>
          </p:nvSpPr>
          <p:spPr>
            <a:xfrm>
              <a:off x="4428360" y="3046680"/>
              <a:ext cx="105120" cy="10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86"/>
            <p:cNvSpPr/>
            <p:nvPr/>
          </p:nvSpPr>
          <p:spPr>
            <a:xfrm>
              <a:off x="4548600" y="3046680"/>
              <a:ext cx="101520" cy="10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87"/>
            <p:cNvSpPr/>
            <p:nvPr/>
          </p:nvSpPr>
          <p:spPr>
            <a:xfrm>
              <a:off x="4303440" y="3205080"/>
              <a:ext cx="28080" cy="33840"/>
            </a:xfrm>
            <a:prstGeom prst="pie">
              <a:avLst/>
            </a:pr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88"/>
            <p:cNvSpPr/>
            <p:nvPr/>
          </p:nvSpPr>
          <p:spPr>
            <a:xfrm>
              <a:off x="4284000" y="3184920"/>
              <a:ext cx="72720" cy="73440"/>
            </a:xfrm>
            <a:prstGeom prst="pie">
              <a:avLst/>
            </a:prstGeom>
            <a:noFill/>
            <a:ln w="12600">
              <a:solidFill>
                <a:srgbClr val="e600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89"/>
            <p:cNvSpPr/>
            <p:nvPr/>
          </p:nvSpPr>
          <p:spPr>
            <a:xfrm>
              <a:off x="4308480" y="4428360"/>
              <a:ext cx="66600" cy="9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90"/>
            <p:cNvSpPr/>
            <p:nvPr/>
          </p:nvSpPr>
          <p:spPr>
            <a:xfrm>
              <a:off x="4403880" y="4418280"/>
              <a:ext cx="106200" cy="10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91"/>
            <p:cNvSpPr/>
            <p:nvPr/>
          </p:nvSpPr>
          <p:spPr>
            <a:xfrm>
              <a:off x="4524840" y="4418280"/>
              <a:ext cx="100080" cy="103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92"/>
            <p:cNvSpPr/>
            <p:nvPr/>
          </p:nvSpPr>
          <p:spPr>
            <a:xfrm>
              <a:off x="4688280" y="4570200"/>
              <a:ext cx="28440" cy="29880"/>
            </a:xfrm>
            <a:prstGeom prst="pie">
              <a:avLst/>
            </a:pr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93"/>
            <p:cNvSpPr/>
            <p:nvPr/>
          </p:nvSpPr>
          <p:spPr>
            <a:xfrm>
              <a:off x="4663440" y="4546080"/>
              <a:ext cx="71640" cy="73440"/>
            </a:xfrm>
            <a:prstGeom prst="pie">
              <a:avLst/>
            </a:prstGeom>
            <a:noFill/>
            <a:ln w="12600">
              <a:solidFill>
                <a:srgbClr val="e600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94"/>
            <p:cNvSpPr/>
            <p:nvPr/>
          </p:nvSpPr>
          <p:spPr>
            <a:xfrm>
              <a:off x="3582360" y="1675440"/>
              <a:ext cx="759240" cy="1277640"/>
            </a:xfrm>
            <a:prstGeom prst="pie">
              <a:avLst/>
            </a:prstGeom>
            <a:solidFill>
              <a:srgbClr val="d8d8d8"/>
            </a:solidFill>
            <a:ln w="25560">
              <a:solidFill>
                <a:srgbClr val="5db7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95"/>
            <p:cNvSpPr/>
            <p:nvPr/>
          </p:nvSpPr>
          <p:spPr>
            <a:xfrm>
              <a:off x="3799080" y="2142360"/>
              <a:ext cx="101160" cy="10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96"/>
            <p:cNvSpPr/>
            <p:nvPr/>
          </p:nvSpPr>
          <p:spPr>
            <a:xfrm>
              <a:off x="3913920" y="2142360"/>
              <a:ext cx="101520" cy="10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97"/>
            <p:cNvSpPr/>
            <p:nvPr/>
          </p:nvSpPr>
          <p:spPr>
            <a:xfrm>
              <a:off x="4029120" y="2142360"/>
              <a:ext cx="101520" cy="10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98"/>
            <p:cNvSpPr/>
            <p:nvPr/>
          </p:nvSpPr>
          <p:spPr>
            <a:xfrm>
              <a:off x="3870720" y="2319480"/>
              <a:ext cx="33120" cy="30240"/>
            </a:xfrm>
            <a:prstGeom prst="pie">
              <a:avLst/>
            </a:pr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99"/>
            <p:cNvSpPr/>
            <p:nvPr/>
          </p:nvSpPr>
          <p:spPr>
            <a:xfrm>
              <a:off x="3852360" y="2300760"/>
              <a:ext cx="71280" cy="73080"/>
            </a:xfrm>
            <a:prstGeom prst="pie">
              <a:avLst/>
            </a:prstGeom>
            <a:noFill/>
            <a:ln w="12600">
              <a:solidFill>
                <a:srgbClr val="e600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00"/>
            <p:cNvSpPr/>
            <p:nvPr/>
          </p:nvSpPr>
          <p:spPr>
            <a:xfrm>
              <a:off x="1670400" y="1808280"/>
              <a:ext cx="1475280" cy="1696680"/>
            </a:xfrm>
            <a:prstGeom prst="pie">
              <a:avLst/>
            </a:prstGeom>
            <a:solidFill>
              <a:srgbClr val="d8d8d8"/>
            </a:solidFill>
            <a:ln w="25560">
              <a:solidFill>
                <a:srgbClr val="5db7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01"/>
            <p:cNvSpPr/>
            <p:nvPr/>
          </p:nvSpPr>
          <p:spPr>
            <a:xfrm>
              <a:off x="2199960" y="2339640"/>
              <a:ext cx="105120" cy="10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02"/>
            <p:cNvSpPr/>
            <p:nvPr/>
          </p:nvSpPr>
          <p:spPr>
            <a:xfrm>
              <a:off x="2319840" y="2339640"/>
              <a:ext cx="95040" cy="10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03"/>
            <p:cNvSpPr/>
            <p:nvPr/>
          </p:nvSpPr>
          <p:spPr>
            <a:xfrm>
              <a:off x="2434680" y="2334600"/>
              <a:ext cx="100080" cy="10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04"/>
            <p:cNvSpPr/>
            <p:nvPr/>
          </p:nvSpPr>
          <p:spPr>
            <a:xfrm>
              <a:off x="2121840" y="2354760"/>
              <a:ext cx="34560" cy="33840"/>
            </a:xfrm>
            <a:prstGeom prst="pie">
              <a:avLst/>
            </a:pr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05"/>
            <p:cNvSpPr/>
            <p:nvPr/>
          </p:nvSpPr>
          <p:spPr>
            <a:xfrm>
              <a:off x="2103480" y="2334600"/>
              <a:ext cx="71640" cy="73080"/>
            </a:xfrm>
            <a:prstGeom prst="pie">
              <a:avLst/>
            </a:prstGeom>
            <a:noFill/>
            <a:ln w="12600">
              <a:solidFill>
                <a:srgbClr val="e600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06"/>
            <p:cNvSpPr/>
            <p:nvPr/>
          </p:nvSpPr>
          <p:spPr>
            <a:xfrm>
              <a:off x="1703880" y="3917160"/>
              <a:ext cx="1416960" cy="1685160"/>
            </a:xfrm>
            <a:prstGeom prst="pie">
              <a:avLst/>
            </a:prstGeom>
            <a:solidFill>
              <a:srgbClr val="00b0f0"/>
            </a:solidFill>
            <a:ln w="25560">
              <a:solidFill>
                <a:srgbClr val="5db7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07"/>
            <p:cNvSpPr/>
            <p:nvPr/>
          </p:nvSpPr>
          <p:spPr>
            <a:xfrm>
              <a:off x="2371680" y="4496760"/>
              <a:ext cx="106200" cy="11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08"/>
            <p:cNvSpPr/>
            <p:nvPr/>
          </p:nvSpPr>
          <p:spPr>
            <a:xfrm>
              <a:off x="2491920" y="4501800"/>
              <a:ext cx="101160" cy="103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09"/>
            <p:cNvSpPr/>
            <p:nvPr/>
          </p:nvSpPr>
          <p:spPr>
            <a:xfrm>
              <a:off x="2607840" y="4501800"/>
              <a:ext cx="100080" cy="103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10"/>
            <p:cNvSpPr/>
            <p:nvPr/>
          </p:nvSpPr>
          <p:spPr>
            <a:xfrm>
              <a:off x="2281320" y="4530960"/>
              <a:ext cx="33120" cy="30240"/>
            </a:xfrm>
            <a:prstGeom prst="pie">
              <a:avLst/>
            </a:pr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11"/>
            <p:cNvSpPr/>
            <p:nvPr/>
          </p:nvSpPr>
          <p:spPr>
            <a:xfrm>
              <a:off x="2261880" y="4506840"/>
              <a:ext cx="71280" cy="73440"/>
            </a:xfrm>
            <a:prstGeom prst="pie">
              <a:avLst/>
            </a:prstGeom>
            <a:noFill/>
            <a:ln w="12600">
              <a:solidFill>
                <a:srgbClr val="e600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12"/>
            <p:cNvSpPr/>
            <p:nvPr/>
          </p:nvSpPr>
          <p:spPr>
            <a:xfrm>
              <a:off x="2919600" y="3372120"/>
              <a:ext cx="542520" cy="4957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13"/>
            <p:cNvSpPr/>
            <p:nvPr/>
          </p:nvSpPr>
          <p:spPr>
            <a:xfrm>
              <a:off x="2919600" y="3372120"/>
              <a:ext cx="542520" cy="495720"/>
            </a:xfrm>
            <a:prstGeom prst="pie">
              <a:avLst/>
            </a:prstGeom>
            <a:noFill/>
            <a:ln w="25560">
              <a:solidFill>
                <a:srgbClr val="5db7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14"/>
            <p:cNvSpPr/>
            <p:nvPr/>
          </p:nvSpPr>
          <p:spPr>
            <a:xfrm>
              <a:off x="3026160" y="3499920"/>
              <a:ext cx="105120" cy="10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15"/>
            <p:cNvSpPr/>
            <p:nvPr/>
          </p:nvSpPr>
          <p:spPr>
            <a:xfrm>
              <a:off x="3141000" y="3499920"/>
              <a:ext cx="100080" cy="10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16"/>
            <p:cNvSpPr/>
            <p:nvPr/>
          </p:nvSpPr>
          <p:spPr>
            <a:xfrm>
              <a:off x="3256200" y="3499920"/>
              <a:ext cx="101520" cy="10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17"/>
            <p:cNvSpPr/>
            <p:nvPr/>
          </p:nvSpPr>
          <p:spPr>
            <a:xfrm>
              <a:off x="3179520" y="3700800"/>
              <a:ext cx="28080" cy="33840"/>
            </a:xfrm>
            <a:prstGeom prst="pie">
              <a:avLst/>
            </a:pr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18"/>
            <p:cNvSpPr/>
            <p:nvPr/>
          </p:nvSpPr>
          <p:spPr>
            <a:xfrm>
              <a:off x="3155760" y="3681000"/>
              <a:ext cx="71640" cy="74520"/>
            </a:xfrm>
            <a:prstGeom prst="pie">
              <a:avLst/>
            </a:prstGeom>
            <a:noFill/>
            <a:ln w="12600">
              <a:solidFill>
                <a:srgbClr val="e600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19"/>
            <p:cNvSpPr/>
            <p:nvPr/>
          </p:nvSpPr>
          <p:spPr>
            <a:xfrm>
              <a:off x="2761200" y="3224160"/>
              <a:ext cx="105120" cy="10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20"/>
            <p:cNvSpPr/>
            <p:nvPr/>
          </p:nvSpPr>
          <p:spPr>
            <a:xfrm>
              <a:off x="2876400" y="3224160"/>
              <a:ext cx="106200" cy="10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1"/>
            <p:cNvSpPr/>
            <p:nvPr/>
          </p:nvSpPr>
          <p:spPr>
            <a:xfrm>
              <a:off x="2991240" y="3224160"/>
              <a:ext cx="106560" cy="10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22"/>
            <p:cNvSpPr/>
            <p:nvPr/>
          </p:nvSpPr>
          <p:spPr>
            <a:xfrm>
              <a:off x="2593080" y="3219120"/>
              <a:ext cx="96480" cy="98640"/>
            </a:xfrm>
            <a:prstGeom prst="pie">
              <a:avLst/>
            </a:prstGeom>
            <a:noFill/>
            <a:ln w="25560">
              <a:solidFill>
                <a:srgbClr val="e600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23"/>
            <p:cNvSpPr/>
            <p:nvPr/>
          </p:nvSpPr>
          <p:spPr>
            <a:xfrm>
              <a:off x="2621520" y="3244320"/>
              <a:ext cx="42840" cy="44280"/>
            </a:xfrm>
            <a:prstGeom prst="pie">
              <a:avLst/>
            </a:prstGeom>
            <a:noFill/>
            <a:ln w="25560">
              <a:solidFill>
                <a:srgbClr val="e600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Oval 11"/>
          <p:cNvSpPr/>
          <p:nvPr/>
        </p:nvSpPr>
        <p:spPr>
          <a:xfrm>
            <a:off x="2097000" y="5095800"/>
            <a:ext cx="142920" cy="142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28"/>
          <p:cNvSpPr/>
          <p:nvPr/>
        </p:nvSpPr>
        <p:spPr>
          <a:xfrm>
            <a:off x="6972120" y="131112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★</a:t>
            </a:r>
            <a:r>
              <a:rPr b="0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我负责济宁菏泽</a:t>
            </a:r>
            <a:r>
              <a:rPr b="0" lang="en-US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个地市，已全部完成开发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30"/>
          <p:cNvSpPr/>
          <p:nvPr/>
        </p:nvSpPr>
        <p:spPr>
          <a:xfrm>
            <a:off x="6725880" y="1739880"/>
            <a:ext cx="244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★</a:t>
            </a:r>
            <a:r>
              <a:rPr b="0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济菏共有</a:t>
            </a:r>
            <a:r>
              <a:rPr b="0" lang="en-US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个县，已开发</a:t>
            </a:r>
            <a:r>
              <a:rPr b="0" lang="en-US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个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597720" y="3198960"/>
          <a:ext cx="4359240" cy="1112760"/>
        </p:xfrm>
        <a:graphic>
          <a:graphicData uri="http://schemas.openxmlformats.org/drawingml/2006/table">
            <a:tbl>
              <a:tblPr/>
              <a:tblGrid>
                <a:gridCol w="785880"/>
                <a:gridCol w="857160"/>
                <a:gridCol w="928800"/>
                <a:gridCol w="930240"/>
                <a:gridCol w="8571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1840"/>
                          <a:tab algn="l" pos="2263680"/>
                          <a:tab algn="l" pos="3395520"/>
                          <a:tab algn="l" pos="4527720"/>
                          <a:tab algn="l" pos="5659560"/>
                          <a:tab algn="l" pos="6791400"/>
                          <a:tab algn="l" pos="7923240"/>
                          <a:tab algn="l" pos="9055080"/>
                          <a:tab algn="l" pos="1018692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c0dae5"/>
                      </a:solidFill>
                    </a:lnL>
                    <a:lnR>
                      <a:noFill/>
                    </a:lnR>
                    <a:lnT w="4320">
                      <a:solidFill>
                        <a:srgbClr val="c0dae5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1840"/>
                          <a:tab algn="l" pos="2263680"/>
                          <a:tab algn="l" pos="3395520"/>
                          <a:tab algn="l" pos="4527720"/>
                          <a:tab algn="l" pos="5659560"/>
                          <a:tab algn="l" pos="6791400"/>
                          <a:tab algn="l" pos="7923240"/>
                          <a:tab algn="l" pos="9055080"/>
                          <a:tab algn="l" pos="10186920"/>
                        </a:tabLst>
                      </a:pPr>
                      <a:r>
                        <a:rPr b="0" lang="en-US" sz="1800" spc="-1" strike="noStrike">
                          <a:solidFill>
                            <a:srgbClr val="0f243e"/>
                          </a:solidFill>
                          <a:latin typeface="微软雅黑"/>
                          <a:ea typeface="微软雅黑"/>
                        </a:rPr>
                        <a:t>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c0dae5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1840"/>
                          <a:tab algn="l" pos="2263680"/>
                          <a:tab algn="l" pos="3395520"/>
                          <a:tab algn="l" pos="4527720"/>
                          <a:tab algn="l" pos="5659560"/>
                          <a:tab algn="l" pos="6791400"/>
                          <a:tab algn="l" pos="7923240"/>
                          <a:tab algn="l" pos="9055080"/>
                          <a:tab algn="l" pos="10186920"/>
                        </a:tabLst>
                      </a:pPr>
                      <a:r>
                        <a:rPr b="0" lang="zh-CN" sz="1800" spc="-1" strike="noStrike">
                          <a:solidFill>
                            <a:srgbClr val="0f243e"/>
                          </a:solidFill>
                          <a:latin typeface="微软雅黑"/>
                          <a:ea typeface="微软雅黑"/>
                        </a:rPr>
                        <a:t>中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c0dae5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1840"/>
                          <a:tab algn="l" pos="2263680"/>
                          <a:tab algn="l" pos="3395520"/>
                          <a:tab algn="l" pos="4527720"/>
                          <a:tab algn="l" pos="5659560"/>
                          <a:tab algn="l" pos="6791400"/>
                          <a:tab algn="l" pos="7923240"/>
                          <a:tab algn="l" pos="9055080"/>
                          <a:tab algn="l" pos="10186920"/>
                        </a:tabLst>
                      </a:pPr>
                      <a:r>
                        <a:rPr b="0" lang="zh-CN" sz="1800" spc="-1" strike="noStrike">
                          <a:solidFill>
                            <a:srgbClr val="0f243e"/>
                          </a:solidFill>
                          <a:latin typeface="微软雅黑"/>
                          <a:ea typeface="微软雅黑"/>
                        </a:rPr>
                        <a:t>礼品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c0dae5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1840"/>
                          <a:tab algn="l" pos="2263680"/>
                          <a:tab algn="l" pos="3395520"/>
                          <a:tab algn="l" pos="4527720"/>
                          <a:tab algn="l" pos="5659560"/>
                          <a:tab algn="l" pos="6791400"/>
                          <a:tab algn="l" pos="7923240"/>
                          <a:tab algn="l" pos="9055080"/>
                          <a:tab algn="l" pos="10186920"/>
                        </a:tabLst>
                      </a:pPr>
                      <a:r>
                        <a:rPr b="0" lang="zh-CN" sz="1800" spc="-1" strike="noStrike">
                          <a:solidFill>
                            <a:srgbClr val="0f243e"/>
                          </a:solidFill>
                          <a:latin typeface="微软雅黑"/>
                          <a:ea typeface="微软雅黑"/>
                        </a:rPr>
                        <a:t>药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c0dae5"/>
                      </a:solidFill>
                    </a:lnR>
                    <a:lnT w="4320">
                      <a:solidFill>
                        <a:srgbClr val="c0dae5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1840"/>
                          <a:tab algn="l" pos="2263680"/>
                          <a:tab algn="l" pos="3395520"/>
                          <a:tab algn="l" pos="4527720"/>
                          <a:tab algn="l" pos="5659560"/>
                          <a:tab algn="l" pos="6791400"/>
                          <a:tab algn="l" pos="7923240"/>
                          <a:tab algn="l" pos="9055080"/>
                          <a:tab algn="l" pos="10186920"/>
                        </a:tabLst>
                      </a:pPr>
                      <a:r>
                        <a:rPr b="0" lang="zh-CN" sz="1800" spc="-1" strike="noStrike">
                          <a:solidFill>
                            <a:srgbClr val="ffff00"/>
                          </a:solidFill>
                          <a:latin typeface="微软雅黑"/>
                          <a:ea typeface="微软雅黑"/>
                        </a:rPr>
                        <a:t>济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c0dae5"/>
                      </a:solidFill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6fbc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1840"/>
                          <a:tab algn="l" pos="2263680"/>
                          <a:tab algn="l" pos="3395520"/>
                          <a:tab algn="l" pos="4527720"/>
                          <a:tab algn="l" pos="5659560"/>
                          <a:tab algn="l" pos="6791400"/>
                          <a:tab algn="l" pos="7923240"/>
                          <a:tab algn="l" pos="9055080"/>
                          <a:tab algn="l" pos="1018692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6fbc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1840"/>
                          <a:tab algn="l" pos="2263680"/>
                          <a:tab algn="l" pos="3395520"/>
                          <a:tab algn="l" pos="4527720"/>
                          <a:tab algn="l" pos="5659560"/>
                          <a:tab algn="l" pos="6791400"/>
                          <a:tab algn="l" pos="7923240"/>
                          <a:tab algn="l" pos="9055080"/>
                          <a:tab algn="l" pos="1018692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6fbc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1840"/>
                          <a:tab algn="l" pos="2263680"/>
                          <a:tab algn="l" pos="3395520"/>
                          <a:tab algn="l" pos="4527720"/>
                          <a:tab algn="l" pos="5659560"/>
                          <a:tab algn="l" pos="6791400"/>
                          <a:tab algn="l" pos="7923240"/>
                          <a:tab algn="l" pos="9055080"/>
                          <a:tab algn="l" pos="1018692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6fbc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1840"/>
                          <a:tab algn="l" pos="2263680"/>
                          <a:tab algn="l" pos="3395520"/>
                          <a:tab algn="l" pos="4527720"/>
                          <a:tab algn="l" pos="5659560"/>
                          <a:tab algn="l" pos="6791400"/>
                          <a:tab algn="l" pos="7923240"/>
                          <a:tab algn="l" pos="9055080"/>
                          <a:tab algn="l" pos="1018692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c0dae5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6fbcd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1840"/>
                          <a:tab algn="l" pos="2263680"/>
                          <a:tab algn="l" pos="3395520"/>
                          <a:tab algn="l" pos="4527720"/>
                          <a:tab algn="l" pos="5659560"/>
                          <a:tab algn="l" pos="6791400"/>
                          <a:tab algn="l" pos="7923240"/>
                          <a:tab algn="l" pos="9055080"/>
                          <a:tab algn="l" pos="10186920"/>
                        </a:tabLst>
                      </a:pPr>
                      <a:r>
                        <a:rPr b="0" lang="zh-CN" sz="1800" spc="-1" strike="noStrike">
                          <a:solidFill>
                            <a:srgbClr val="ffff00"/>
                          </a:solidFill>
                          <a:latin typeface="微软雅黑"/>
                          <a:ea typeface="微软雅黑"/>
                        </a:rPr>
                        <a:t>菏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c0dae5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c0dae5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1840"/>
                          <a:tab algn="l" pos="2263680"/>
                          <a:tab algn="l" pos="3395520"/>
                          <a:tab algn="l" pos="4527720"/>
                          <a:tab algn="l" pos="5659560"/>
                          <a:tab algn="l" pos="6791400"/>
                          <a:tab algn="l" pos="7923240"/>
                          <a:tab algn="l" pos="9055080"/>
                          <a:tab algn="l" pos="1018692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c0dae5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1840"/>
                          <a:tab algn="l" pos="2263680"/>
                          <a:tab algn="l" pos="3395520"/>
                          <a:tab algn="l" pos="4527720"/>
                          <a:tab algn="l" pos="5659560"/>
                          <a:tab algn="l" pos="6791400"/>
                          <a:tab algn="l" pos="7923240"/>
                          <a:tab algn="l" pos="9055080"/>
                          <a:tab algn="l" pos="1018692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c0dae5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1840"/>
                          <a:tab algn="l" pos="2263680"/>
                          <a:tab algn="l" pos="3395520"/>
                          <a:tab algn="l" pos="4527720"/>
                          <a:tab algn="l" pos="5659560"/>
                          <a:tab algn="l" pos="6791400"/>
                          <a:tab algn="l" pos="7923240"/>
                          <a:tab algn="l" pos="9055080"/>
                          <a:tab algn="l" pos="1018692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c0dae5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1840"/>
                          <a:tab algn="l" pos="2263680"/>
                          <a:tab algn="l" pos="3395520"/>
                          <a:tab algn="l" pos="4527720"/>
                          <a:tab algn="l" pos="5659560"/>
                          <a:tab algn="l" pos="6791400"/>
                          <a:tab algn="l" pos="7923240"/>
                          <a:tab algn="l" pos="9055080"/>
                          <a:tab algn="l" pos="1018692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c0dae5"/>
                      </a:solidFill>
                    </a:lnR>
                    <a:lnT>
                      <a:noFill/>
                    </a:lnT>
                    <a:lnB w="4320">
                      <a:solidFill>
                        <a:srgbClr val="c0dae5"/>
                      </a:solidFill>
                    </a:lnB>
                    <a:solidFill>
                      <a:srgbClr val="4bacc6"/>
                    </a:solidFill>
                  </a:tcPr>
                </a:tc>
              </a:tr>
            </a:tbl>
          </a:graphicData>
        </a:graphic>
      </p:graphicFrame>
      <p:sp>
        <p:nvSpPr>
          <p:cNvPr id="215" name="TextBox 133"/>
          <p:cNvSpPr/>
          <p:nvPr/>
        </p:nvSpPr>
        <p:spPr>
          <a:xfrm>
            <a:off x="8147160" y="2727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各类型终端覆盖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34"/>
          <p:cNvSpPr/>
          <p:nvPr/>
        </p:nvSpPr>
        <p:spPr>
          <a:xfrm>
            <a:off x="6687720" y="43815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县级开发情况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5168880" y="4809960"/>
          <a:ext cx="4286160" cy="1112760"/>
        </p:xfrm>
        <a:graphic>
          <a:graphicData uri="http://schemas.openxmlformats.org/drawingml/2006/table">
            <a:tbl>
              <a:tblPr/>
              <a:tblGrid>
                <a:gridCol w="857160"/>
                <a:gridCol w="1214640"/>
                <a:gridCol w="1143000"/>
                <a:gridCol w="1071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1840"/>
                          <a:tab algn="l" pos="2263680"/>
                          <a:tab algn="l" pos="3395520"/>
                          <a:tab algn="l" pos="4527720"/>
                          <a:tab algn="l" pos="5659560"/>
                          <a:tab algn="l" pos="6791400"/>
                          <a:tab algn="l" pos="7923240"/>
                          <a:tab algn="l" pos="9055080"/>
                          <a:tab algn="l" pos="1018692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ccc5d7"/>
                      </a:solidFill>
                    </a:lnL>
                    <a:lnR>
                      <a:noFill/>
                    </a:lnR>
                    <a:lnT w="4320">
                      <a:solidFill>
                        <a:srgbClr val="ccc5d7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1840"/>
                          <a:tab algn="l" pos="2263680"/>
                          <a:tab algn="l" pos="3395520"/>
                          <a:tab algn="l" pos="4527720"/>
                          <a:tab algn="l" pos="5659560"/>
                          <a:tab algn="l" pos="6791400"/>
                          <a:tab algn="l" pos="7923240"/>
                          <a:tab algn="l" pos="9055080"/>
                          <a:tab algn="l" pos="10186920"/>
                        </a:tabLst>
                      </a:pPr>
                      <a:r>
                        <a:rPr b="0" lang="zh-CN" sz="1800" spc="-1" strike="noStrike">
                          <a:solidFill>
                            <a:srgbClr val="002060"/>
                          </a:solidFill>
                          <a:latin typeface="微软雅黑"/>
                          <a:ea typeface="微软雅黑"/>
                        </a:rPr>
                        <a:t>已开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ccc5d7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1840"/>
                          <a:tab algn="l" pos="2263680"/>
                          <a:tab algn="l" pos="3395520"/>
                          <a:tab algn="l" pos="4527720"/>
                          <a:tab algn="l" pos="5659560"/>
                          <a:tab algn="l" pos="6791400"/>
                          <a:tab algn="l" pos="7923240"/>
                          <a:tab algn="l" pos="9055080"/>
                          <a:tab algn="l" pos="10186920"/>
                        </a:tabLst>
                      </a:pPr>
                      <a:r>
                        <a:rPr b="0" lang="zh-CN" sz="1800" spc="-1" strike="noStrike">
                          <a:solidFill>
                            <a:srgbClr val="002060"/>
                          </a:solidFill>
                          <a:latin typeface="微软雅黑"/>
                          <a:ea typeface="微软雅黑"/>
                        </a:rPr>
                        <a:t>半开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ccc5d7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1840"/>
                          <a:tab algn="l" pos="2263680"/>
                          <a:tab algn="l" pos="3395520"/>
                          <a:tab algn="l" pos="4527720"/>
                          <a:tab algn="l" pos="5659560"/>
                          <a:tab algn="l" pos="6791400"/>
                          <a:tab algn="l" pos="7923240"/>
                          <a:tab algn="l" pos="9055080"/>
                          <a:tab algn="l" pos="10186920"/>
                        </a:tabLst>
                      </a:pPr>
                      <a:r>
                        <a:rPr b="0" lang="zh-CN" sz="1800" spc="-1" strike="noStrike">
                          <a:solidFill>
                            <a:srgbClr val="002060"/>
                          </a:solidFill>
                          <a:latin typeface="微软雅黑"/>
                          <a:ea typeface="微软雅黑"/>
                        </a:rPr>
                        <a:t>未开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ccc5d7"/>
                      </a:solidFill>
                    </a:lnR>
                    <a:lnT w="4320">
                      <a:solidFill>
                        <a:srgbClr val="ccc5d7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1840"/>
                          <a:tab algn="l" pos="2263680"/>
                          <a:tab algn="l" pos="3395520"/>
                          <a:tab algn="l" pos="4527720"/>
                          <a:tab algn="l" pos="5659560"/>
                          <a:tab algn="l" pos="6791400"/>
                          <a:tab algn="l" pos="7923240"/>
                          <a:tab algn="l" pos="9055080"/>
                          <a:tab algn="l" pos="10186920"/>
                        </a:tabLst>
                      </a:pPr>
                      <a:r>
                        <a:rPr b="0" lang="zh-CN" sz="1800" spc="-1" strike="noStrike">
                          <a:solidFill>
                            <a:srgbClr val="ffff00"/>
                          </a:solidFill>
                          <a:latin typeface="微软雅黑"/>
                          <a:ea typeface="微软雅黑"/>
                        </a:rPr>
                        <a:t>济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ccc5d7"/>
                      </a:solidFill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9983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1840"/>
                          <a:tab algn="l" pos="2263680"/>
                          <a:tab algn="l" pos="3395520"/>
                          <a:tab algn="l" pos="4527720"/>
                          <a:tab algn="l" pos="5659560"/>
                          <a:tab algn="l" pos="6791400"/>
                          <a:tab algn="l" pos="7923240"/>
                          <a:tab algn="l" pos="9055080"/>
                          <a:tab algn="l" pos="1018692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9983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1840"/>
                          <a:tab algn="l" pos="2263680"/>
                          <a:tab algn="l" pos="3395520"/>
                          <a:tab algn="l" pos="4527720"/>
                          <a:tab algn="l" pos="5659560"/>
                          <a:tab algn="l" pos="6791400"/>
                          <a:tab algn="l" pos="7923240"/>
                          <a:tab algn="l" pos="9055080"/>
                          <a:tab algn="l" pos="1018692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9983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1840"/>
                          <a:tab algn="l" pos="2263680"/>
                          <a:tab algn="l" pos="3395520"/>
                          <a:tab algn="l" pos="4527720"/>
                          <a:tab algn="l" pos="5659560"/>
                          <a:tab algn="l" pos="6791400"/>
                          <a:tab algn="l" pos="7923240"/>
                          <a:tab algn="l" pos="9055080"/>
                          <a:tab algn="l" pos="1018692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ccc5d7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9983b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1840"/>
                          <a:tab algn="l" pos="2263680"/>
                          <a:tab algn="l" pos="3395520"/>
                          <a:tab algn="l" pos="4527720"/>
                          <a:tab algn="l" pos="5659560"/>
                          <a:tab algn="l" pos="6791400"/>
                          <a:tab algn="l" pos="7923240"/>
                          <a:tab algn="l" pos="9055080"/>
                          <a:tab algn="l" pos="10186920"/>
                        </a:tabLst>
                      </a:pPr>
                      <a:r>
                        <a:rPr b="0" lang="zh-CN" sz="1800" spc="-1" strike="noStrike">
                          <a:solidFill>
                            <a:srgbClr val="ffff00"/>
                          </a:solidFill>
                          <a:latin typeface="微软雅黑"/>
                          <a:ea typeface="微软雅黑"/>
                        </a:rPr>
                        <a:t>菏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ccc5d7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ccc5d7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1840"/>
                          <a:tab algn="l" pos="2263680"/>
                          <a:tab algn="l" pos="3395520"/>
                          <a:tab algn="l" pos="4527720"/>
                          <a:tab algn="l" pos="5659560"/>
                          <a:tab algn="l" pos="6791400"/>
                          <a:tab algn="l" pos="7923240"/>
                          <a:tab algn="l" pos="9055080"/>
                          <a:tab algn="l" pos="1018692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ccc5d7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1840"/>
                          <a:tab algn="l" pos="2263680"/>
                          <a:tab algn="l" pos="3395520"/>
                          <a:tab algn="l" pos="4527720"/>
                          <a:tab algn="l" pos="5659560"/>
                          <a:tab algn="l" pos="6791400"/>
                          <a:tab algn="l" pos="7923240"/>
                          <a:tab algn="l" pos="9055080"/>
                          <a:tab algn="l" pos="1018692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ccc5d7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1840"/>
                          <a:tab algn="l" pos="2263680"/>
                          <a:tab algn="l" pos="3395520"/>
                          <a:tab algn="l" pos="4527720"/>
                          <a:tab algn="l" pos="5659560"/>
                          <a:tab algn="l" pos="6791400"/>
                          <a:tab algn="l" pos="7923240"/>
                          <a:tab algn="l" pos="9055080"/>
                          <a:tab algn="l" pos="1018692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ccc5d7"/>
                      </a:solidFill>
                    </a:lnR>
                    <a:lnT>
                      <a:noFill/>
                    </a:lnT>
                    <a:lnB w="4320">
                      <a:solidFill>
                        <a:srgbClr val="ccc5d7"/>
                      </a:solidFill>
                    </a:lnB>
                    <a:solidFill>
                      <a:srgbClr val="8064a2"/>
                    </a:solidFill>
                  </a:tcPr>
                </a:tc>
              </a:tr>
            </a:tbl>
          </a:graphicData>
        </a:graphic>
      </p:graphicFrame>
      <p:sp>
        <p:nvSpPr>
          <p:cNvPr id="218" name="TextBox 136"/>
          <p:cNvSpPr/>
          <p:nvPr/>
        </p:nvSpPr>
        <p:spPr>
          <a:xfrm>
            <a:off x="3454560" y="6013440"/>
            <a:ext cx="58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各类型终端覆盖指标和县区开发指标均已全部达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" dur="500" autoRev="1" fill="hold"/>
                                        <p:tgtEl>
                                          <p:spTgt spid="2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58333E-006 -3.33333E-006 C -0.00156 0.00459 -0.00143 0.01417 -0.00338 0.01813 C -0.00533 0.02209 -0.01015 0.02063 -0.01132 0.02355 C -0.0125 0.02646 -0.00885 0.03355 -0.0108 0.03625 C -0.01276 0.03896 -0.01888 0.03917 -0.02278 0.04 C -0.02669 0.04084 -0.03112 0.04167 -0.03411 0.04188 C -0.0371 0.04209 -0.03867 0.04167 -0.04088 0.04188 C -0.04309 0.04209 -0.04518 0.04438 -0.04778 0.04355 C -0.05039 0.04271 -0.05377 0.03771 -0.05677 0.03646 C -0.05976 0.03521 -0.06328 0.03834 -0.06588 0.03646 C -0.06848 0.03459 -0.07122 0.03063 -0.07278 0.02542 C -0.07434 0.02021 -0.07382 0.01021 -0.075 0.00542 C -0.07617 0.00063 -0.07734 -0.00145 -0.07955 -0.00354 C -0.08177 -0.00562 -0.08684 -0.00458 -0.08867 -0.00729 C -0.09049 -0.01 -0.08867 -0.01604 -0.09088 -0.02 C -0.09309 -0.02395 -0.09934 -0.02895 -0.10234 -0.03083 C -0.10533 -0.0327 -0.10768 -0.02791 -0.10911 -0.03083 C -0.11054 -0.03375 -0.11171 -0.04395 -0.11132 -0.04916 C -0.11093 -0.05437 -0.1082 -0.05833 -0.10677 -0.06187 C -0.10533 -0.06541 -0.10364 -0.0675 -0.10234 -0.07083 C -0.10104 -0.07416 -0.10013 -0.07854 -0.09882 -0.08187 C -0.09752 -0.0852 -0.09635 -0.08833 -0.09427 -0.09083 C -0.09218 -0.09333 -0.08932 -0.09562 -0.08632 -0.09645 C -0.08333 -0.09729 -0.07799 -0.09437 -0.07617 -0.09645 C -0.07434 -0.09854 -0.07617 -0.10437 -0.075 -0.10916 C -0.07382 -0.11395 -0.07096 -0.12125 -0.06927 -0.12541 C -0.06757 -0.12958 -0.06705 -0.1327 -0.06484 -0.13458 C -0.06263 -0.13645 -0.05911 -0.13312 -0.05572 -0.13645 C -0.05234 -0.13979 -0.04804 -0.15 -0.04427 -0.15458 C -0.04049 -0.15916 -0.03593 -0.16083 -0.03294 -0.16354 C -0.02994 -0.16625 -0.02825 -0.17041 -0.02617 -0.17083 C -0.02408 -0.17125 -0.02044 -0.16729 -0.02044 -0.16541 C -0.02044 -0.16354 -0.02656 -0.16291 -0.02617 -0.16 C -0.02578 -0.15708 -0.02018 -0.15083 -0.01822 -0.14729 C -0.01627 -0.14375 -0.01679 -0.13958 -0.01484 -0.13812 C -0.01289 -0.13666 -0.00976 -0.13729 -0.00677 -0.13812 C -0.00377 -0.13895 0.00053 -0.14166 0.00339 -0.14354 C 0.00625 -0.14541 0.00756 -0.14791 0.01016 -0.14916 C 0.01277 -0.15041 0.01836 -0.15416 0.01928 -0.15083 C 0.02019 -0.1475 0.01511 -0.1327 0.01589 -0.12916 C 0.01667 -0.12562 0.02097 -0.12833 0.02383 -0.12916 C 0.0267 -0.13 0.03047 -0.1327 0.03295 -0.13458 C 0.03542 -0.13645 0.03568 -0.13916 0.03868 -0.14 C 0.04167 -0.14083 0.0474 -0.14062 0.05118 -0.14 C 0.05495 -0.13937 0.05756 -0.13958 0.06133 -0.13645 C 0.06511 -0.13333 0.07097 -0.12583 0.07383 -0.12187 C 0.0767 -0.11791 0.07852 -0.11604 0.07839 -0.1127 C 0.07826 -0.10937 0.07422 -0.1052 0.07266 -0.10187 C 0.0711 -0.09854 0.07006 -0.09729 0.06928 -0.0927 C 0.06849 -0.08812 0.06902 -0.08041 0.06823 -0.07458 C 0.06745 -0.06875 0.06641 -0.06104 0.06472 -0.05812 C 0.06303 -0.0552 0.06042 -0.05645 0.05795 -0.05645 C 0.05547 -0.05645 0.05261 -0.05791 0.05 -0.05812 C 0.0474 -0.05833 0.04506 -0.05958 0.04206 -0.05812 C 0.03907 -0.05666 0.03399 -0.0525 0.03178 -0.04916 C 0.02956 -0.04583 0.02839 -0.04166 0.02839 -0.03812 C 0.02839 -0.03458 0.0306 -0.03083 0.03178 -0.02729 C 0.03295 -0.02375 0.03399 -0.01979 0.03516 -0.01645 C 0.03633 -0.01312 0.03698 -0.01041 0.03868 -0.00729 C 0.04037 -0.00416 0.04219 -0.0027 0.04545 0.00188 C 0.0487 0.00646 0.05534 0.01417 0.05795 0.02 C 0.06055 0.02584 0.06185 0.03063 0.06133 0.03646 C 0.06081 0.0423 0.05756 0.0523 0.05456 0.05459 C 0.05157 0.05688 0.04571 0.05334 0.04323 0.05084 C 0.04076 0.04834 0.04089 0.04459 0.03972 0.04 C 0.03855 0.03542 0.03803 0.02959 0.03633 0.02355 C 0.03464 0.0175 0.03138 0.00959 0.02956 0.00355 C 0.02774 -0.0025 0.0267 -0.00916 0.025 -0.0127 C 0.02331 -0.01625 0.02149 -0.0175 0.01928 -0.01812 C 0.01706 -0.01875 0.01355 -0.01791 0.01133 -0.01645 C 0.00912 -0.015 0.00834 -0.01166 0.00573 -0.00916 C 0.00313 -0.00666 0.00157 -0.00458 -4.58333E-006 -3.33333E-006 Z">
                                      <p:cBhvr>
                                        <p:cTn id="166" dur="3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7"/>
          <p:cNvSpPr/>
          <p:nvPr/>
        </p:nvSpPr>
        <p:spPr>
          <a:xfrm>
            <a:off x="-52560" y="7380360"/>
            <a:ext cx="500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1000" spc="-1" strike="noStrike">
                <a:solidFill>
                  <a:srgbClr val="974806"/>
                </a:solidFill>
                <a:latin typeface="Arial"/>
                <a:ea typeface="微软雅黑"/>
              </a:rPr>
              <a:t>THIS PRESENTATION IS DESIGNED BY LIUSHAN,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组合 3"/>
          <p:cNvGrpSpPr/>
          <p:nvPr/>
        </p:nvGrpSpPr>
        <p:grpSpPr>
          <a:xfrm>
            <a:off x="8105760" y="7264440"/>
            <a:ext cx="3992400" cy="375840"/>
            <a:chOff x="8105760" y="7264440"/>
            <a:chExt cx="3992400" cy="375840"/>
          </a:xfrm>
        </p:grpSpPr>
        <p:grpSp>
          <p:nvGrpSpPr>
            <p:cNvPr id="221" name="组合 8"/>
            <p:cNvGrpSpPr/>
            <p:nvPr/>
          </p:nvGrpSpPr>
          <p:grpSpPr>
            <a:xfrm>
              <a:off x="8105760" y="7264440"/>
              <a:ext cx="1936080" cy="375840"/>
              <a:chOff x="8105760" y="7264440"/>
              <a:chExt cx="1936080" cy="375840"/>
            </a:xfrm>
          </p:grpSpPr>
          <p:sp>
            <p:nvSpPr>
              <p:cNvPr id="222" name="WordArt 5"/>
              <p:cNvSpPr/>
              <p:nvPr/>
            </p:nvSpPr>
            <p:spPr>
              <a:xfrm>
                <a:off x="8105760" y="7264440"/>
                <a:ext cx="1928880" cy="223200"/>
              </a:xfrm>
              <a:custGeom>
                <a:avLst/>
                <a:gdLst>
                  <a:gd name="textAreaLeft" fmla="*/ 0 w 1928880"/>
                  <a:gd name="textAreaRight" fmla="*/ 1929240 w 1928880"/>
                  <a:gd name="textAreaTop" fmla="*/ 0 h 223200"/>
                  <a:gd name="textAreaBottom" fmla="*/ 223560 h 223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WordArt 11"/>
              <p:cNvSpPr/>
              <p:nvPr/>
            </p:nvSpPr>
            <p:spPr>
              <a:xfrm flipV="1">
                <a:off x="8112960" y="7498440"/>
                <a:ext cx="1928880" cy="141480"/>
              </a:xfrm>
              <a:custGeom>
                <a:avLst/>
                <a:gdLst>
                  <a:gd name="textAreaLeft" fmla="*/ 0 w 1928880"/>
                  <a:gd name="textAreaRight" fmla="*/ 1929240 w 1928880"/>
                  <a:gd name="textAreaTop" fmla="*/ -360 h 141480"/>
                  <a:gd name="textAreaBottom" fmla="*/ 141480 h 141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WordArt 10"/>
              <p:cNvSpPr/>
              <p:nvPr/>
            </p:nvSpPr>
            <p:spPr>
              <a:xfrm>
                <a:off x="8105760" y="7264440"/>
                <a:ext cx="1928880" cy="223200"/>
              </a:xfrm>
              <a:custGeom>
                <a:avLst/>
                <a:gdLst>
                  <a:gd name="textAreaLeft" fmla="*/ 0 w 1928880"/>
                  <a:gd name="textAreaRight" fmla="*/ 1929240 w 1928880"/>
                  <a:gd name="textAreaTop" fmla="*/ 0 h 223200"/>
                  <a:gd name="textAreaBottom" fmla="*/ 223560 h 223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WordArt 10"/>
            <p:cNvSpPr/>
            <p:nvPr/>
          </p:nvSpPr>
          <p:spPr>
            <a:xfrm>
              <a:off x="10218960" y="7473960"/>
              <a:ext cx="1879200" cy="146160"/>
            </a:xfrm>
            <a:custGeom>
              <a:avLst/>
              <a:gdLst>
                <a:gd name="textAreaLeft" fmla="*/ 0 w 1879200"/>
                <a:gd name="textAreaRight" fmla="*/ 1879560 w 18792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6" name="图表 2" descr=""/>
          <p:cNvPicPr/>
          <p:nvPr/>
        </p:nvPicPr>
        <p:blipFill>
          <a:blip r:embed="rId2"/>
          <a:stretch/>
        </p:blipFill>
        <p:spPr>
          <a:xfrm>
            <a:off x="811080" y="1238400"/>
            <a:ext cx="7715520" cy="50641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3"/>
          <p:cNvSpPr/>
          <p:nvPr/>
        </p:nvSpPr>
        <p:spPr>
          <a:xfrm>
            <a:off x="8240760" y="2311560"/>
            <a:ext cx="335736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实际达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华文细黑"/>
                <a:ea typeface="华文细黑"/>
              </a:rPr>
              <a:t>济宁菏泽总回款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华文细黑"/>
                <a:ea typeface="华文细黑"/>
              </a:rPr>
              <a:t>××</a:t>
            </a:r>
            <a:r>
              <a:rPr b="0" lang="zh-CN" sz="1800" spc="-1" strike="noStrike">
                <a:solidFill>
                  <a:srgbClr val="00b0f0"/>
                </a:solidFill>
                <a:latin typeface="华文细黑"/>
                <a:ea typeface="华文细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华文细黑"/>
                <a:ea typeface="华文细黑"/>
              </a:rPr>
              <a:t>济宁：</a:t>
            </a:r>
            <a:r>
              <a:rPr b="0" lang="en-US" sz="1800" spc="-1" strike="noStrike">
                <a:solidFill>
                  <a:srgbClr val="00b0f0"/>
                </a:solidFill>
                <a:latin typeface="华文细黑"/>
                <a:ea typeface="华文细黑"/>
              </a:rPr>
              <a:t>××</a:t>
            </a:r>
            <a:r>
              <a:rPr b="0" lang="zh-CN" sz="1800" spc="-1" strike="noStrike">
                <a:solidFill>
                  <a:srgbClr val="00b0f0"/>
                </a:solidFill>
                <a:latin typeface="华文细黑"/>
                <a:ea typeface="华文细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zh-CN" sz="1600" spc="-1" strike="noStrike">
                <a:solidFill>
                  <a:srgbClr val="00b0f0"/>
                </a:solidFill>
                <a:latin typeface="华文细黑"/>
                <a:ea typeface="华文细黑"/>
              </a:rPr>
              <a:t>（开票</a:t>
            </a:r>
            <a:r>
              <a:rPr b="0" lang="en-US" sz="1600" spc="-1" strike="noStrike">
                <a:solidFill>
                  <a:srgbClr val="00b0f0"/>
                </a:solidFill>
                <a:latin typeface="华文细黑"/>
                <a:ea typeface="华文细黑"/>
              </a:rPr>
              <a:t>××</a:t>
            </a:r>
            <a:r>
              <a:rPr b="0" lang="zh-CN" sz="1600" spc="-1" strike="noStrike">
                <a:solidFill>
                  <a:srgbClr val="00b0f0"/>
                </a:solidFill>
                <a:latin typeface="华文细黑"/>
                <a:ea typeface="华文细黑"/>
              </a:rPr>
              <a:t>万；返货</a:t>
            </a:r>
            <a:r>
              <a:rPr b="0" lang="en-US" sz="1600" spc="-1" strike="noStrike">
                <a:solidFill>
                  <a:srgbClr val="00b0f0"/>
                </a:solidFill>
                <a:latin typeface="华文细黑"/>
                <a:ea typeface="华文细黑"/>
              </a:rPr>
              <a:t>××</a:t>
            </a:r>
            <a:r>
              <a:rPr b="0" lang="zh-CN" sz="1600" spc="-1" strike="noStrike">
                <a:solidFill>
                  <a:srgbClr val="00b0f0"/>
                </a:solidFill>
                <a:latin typeface="华文细黑"/>
                <a:ea typeface="华文细黑"/>
              </a:rPr>
              <a:t>万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华文细黑"/>
                <a:ea typeface="华文细黑"/>
              </a:rPr>
              <a:t>菏泽：</a:t>
            </a:r>
            <a:r>
              <a:rPr b="0" lang="en-US" sz="1800" spc="-1" strike="noStrike">
                <a:solidFill>
                  <a:srgbClr val="00b0f0"/>
                </a:solidFill>
                <a:latin typeface="华文细黑"/>
                <a:ea typeface="华文细黑"/>
              </a:rPr>
              <a:t>××</a:t>
            </a:r>
            <a:r>
              <a:rPr b="0" lang="zh-CN" sz="1800" spc="-1" strike="noStrike">
                <a:solidFill>
                  <a:srgbClr val="00b0f0"/>
                </a:solidFill>
                <a:latin typeface="华文细黑"/>
                <a:ea typeface="华文细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zh-CN" sz="1600" spc="-1" strike="noStrike">
                <a:solidFill>
                  <a:srgbClr val="00b0f0"/>
                </a:solidFill>
                <a:latin typeface="华文细黑"/>
                <a:ea typeface="华文细黑"/>
              </a:rPr>
              <a:t>（开票</a:t>
            </a:r>
            <a:r>
              <a:rPr b="0" lang="en-US" sz="1600" spc="-1" strike="noStrike">
                <a:solidFill>
                  <a:srgbClr val="00b0f0"/>
                </a:solidFill>
                <a:latin typeface="华文细黑"/>
                <a:ea typeface="华文细黑"/>
              </a:rPr>
              <a:t>××</a:t>
            </a:r>
            <a:r>
              <a:rPr b="0" lang="zh-CN" sz="1600" spc="-1" strike="noStrike">
                <a:solidFill>
                  <a:srgbClr val="00b0f0"/>
                </a:solidFill>
                <a:latin typeface="华文细黑"/>
                <a:ea typeface="华文细黑"/>
              </a:rPr>
              <a:t>万；返货</a:t>
            </a:r>
            <a:r>
              <a:rPr b="0" lang="en-US" sz="1600" spc="-1" strike="noStrike">
                <a:solidFill>
                  <a:srgbClr val="00b0f0"/>
                </a:solidFill>
                <a:latin typeface="华文细黑"/>
                <a:ea typeface="华文细黑"/>
              </a:rPr>
              <a:t>××</a:t>
            </a:r>
            <a:r>
              <a:rPr b="0" lang="zh-CN" sz="1600" spc="-1" strike="noStrike">
                <a:solidFill>
                  <a:srgbClr val="00b0f0"/>
                </a:solidFill>
                <a:latin typeface="华文细黑"/>
                <a:ea typeface="华文细黑"/>
              </a:rPr>
              <a:t>万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4"/>
          <p:cNvSpPr/>
          <p:nvPr/>
        </p:nvSpPr>
        <p:spPr>
          <a:xfrm>
            <a:off x="8758440" y="1454040"/>
            <a:ext cx="170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济宁菏泽回款总目标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××</a:t>
            </a:r>
            <a:r>
              <a:rPr b="0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5"/>
          <p:cNvSpPr/>
          <p:nvPr/>
        </p:nvSpPr>
        <p:spPr>
          <a:xfrm>
            <a:off x="8312040" y="4381560"/>
            <a:ext cx="25005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偏差：</a:t>
            </a: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××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完成率：</a:t>
            </a: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××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华文细黑"/>
                <a:ea typeface="华文细黑"/>
              </a:rPr>
              <a:t>完成率居山东市场前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10720" y="311040"/>
            <a:ext cx="56437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zh-CN" sz="3200" spc="-1" strike="noStrike">
                <a:solidFill>
                  <a:srgbClr val="e36c09"/>
                </a:solidFill>
                <a:latin typeface="微软雅黑"/>
                <a:ea typeface="微软雅黑"/>
              </a:rPr>
              <a:t>目标与达成 </a:t>
            </a:r>
            <a:r>
              <a:rPr b="0" lang="en-US" sz="3200" spc="-1" strike="noStrike">
                <a:solidFill>
                  <a:srgbClr val="e36c09"/>
                </a:solidFill>
                <a:latin typeface="微软雅黑"/>
                <a:ea typeface="微软雅黑"/>
              </a:rPr>
              <a:t>— </a:t>
            </a:r>
            <a:r>
              <a:rPr b="0" lang="zh-CN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回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6"/>
          <p:cNvSpPr/>
          <p:nvPr/>
        </p:nvSpPr>
        <p:spPr>
          <a:xfrm>
            <a:off x="8367840" y="5429160"/>
            <a:ext cx="2286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偏差分析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7"/>
          <p:cNvSpPr/>
          <p:nvPr/>
        </p:nvSpPr>
        <p:spPr>
          <a:xfrm>
            <a:off x="-52560" y="7380360"/>
            <a:ext cx="500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1000" spc="-1" strike="noStrike">
                <a:solidFill>
                  <a:srgbClr val="974806"/>
                </a:solidFill>
                <a:latin typeface="Arial"/>
                <a:ea typeface="微软雅黑"/>
              </a:rPr>
              <a:t>THIS PRESENTATION IS DESIGNED BY LIUSHAN,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组合 3"/>
          <p:cNvGrpSpPr/>
          <p:nvPr/>
        </p:nvGrpSpPr>
        <p:grpSpPr>
          <a:xfrm>
            <a:off x="8105760" y="7264440"/>
            <a:ext cx="3992400" cy="375840"/>
            <a:chOff x="8105760" y="7264440"/>
            <a:chExt cx="3992400" cy="375840"/>
          </a:xfrm>
        </p:grpSpPr>
        <p:grpSp>
          <p:nvGrpSpPr>
            <p:cNvPr id="234" name="组合 8"/>
            <p:cNvGrpSpPr/>
            <p:nvPr/>
          </p:nvGrpSpPr>
          <p:grpSpPr>
            <a:xfrm>
              <a:off x="8105760" y="7264440"/>
              <a:ext cx="1936080" cy="375840"/>
              <a:chOff x="8105760" y="7264440"/>
              <a:chExt cx="1936080" cy="375840"/>
            </a:xfrm>
          </p:grpSpPr>
          <p:sp>
            <p:nvSpPr>
              <p:cNvPr id="235" name="WordArt 5"/>
              <p:cNvSpPr/>
              <p:nvPr/>
            </p:nvSpPr>
            <p:spPr>
              <a:xfrm>
                <a:off x="8105760" y="7264440"/>
                <a:ext cx="1928880" cy="223200"/>
              </a:xfrm>
              <a:custGeom>
                <a:avLst/>
                <a:gdLst>
                  <a:gd name="textAreaLeft" fmla="*/ 0 w 1928880"/>
                  <a:gd name="textAreaRight" fmla="*/ 1929240 w 1928880"/>
                  <a:gd name="textAreaTop" fmla="*/ 0 h 223200"/>
                  <a:gd name="textAreaBottom" fmla="*/ 223560 h 223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WordArt 11"/>
              <p:cNvSpPr/>
              <p:nvPr/>
            </p:nvSpPr>
            <p:spPr>
              <a:xfrm flipV="1">
                <a:off x="8112960" y="7498440"/>
                <a:ext cx="1928880" cy="141480"/>
              </a:xfrm>
              <a:custGeom>
                <a:avLst/>
                <a:gdLst>
                  <a:gd name="textAreaLeft" fmla="*/ 0 w 1928880"/>
                  <a:gd name="textAreaRight" fmla="*/ 1929240 w 1928880"/>
                  <a:gd name="textAreaTop" fmla="*/ -360 h 141480"/>
                  <a:gd name="textAreaBottom" fmla="*/ 141480 h 141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WordArt 10"/>
              <p:cNvSpPr/>
              <p:nvPr/>
            </p:nvSpPr>
            <p:spPr>
              <a:xfrm>
                <a:off x="8105760" y="7264440"/>
                <a:ext cx="1928880" cy="223200"/>
              </a:xfrm>
              <a:custGeom>
                <a:avLst/>
                <a:gdLst>
                  <a:gd name="textAreaLeft" fmla="*/ 0 w 1928880"/>
                  <a:gd name="textAreaRight" fmla="*/ 1929240 w 1928880"/>
                  <a:gd name="textAreaTop" fmla="*/ 0 h 223200"/>
                  <a:gd name="textAreaBottom" fmla="*/ 223560 h 223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WordArt 10"/>
            <p:cNvSpPr/>
            <p:nvPr/>
          </p:nvSpPr>
          <p:spPr>
            <a:xfrm>
              <a:off x="10218960" y="7473960"/>
              <a:ext cx="1879200" cy="146160"/>
            </a:xfrm>
            <a:custGeom>
              <a:avLst/>
              <a:gdLst>
                <a:gd name="textAreaLeft" fmla="*/ 0 w 1879200"/>
                <a:gd name="textAreaRight" fmla="*/ 1879560 w 18792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10720" y="311040"/>
            <a:ext cx="56437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zh-CN" sz="3200" spc="-1" strike="noStrike">
                <a:solidFill>
                  <a:srgbClr val="e36c09"/>
                </a:solidFill>
                <a:latin typeface="微软雅黑"/>
                <a:ea typeface="微软雅黑"/>
              </a:rPr>
              <a:t>目标与达成 </a:t>
            </a:r>
            <a:r>
              <a:rPr b="0" lang="en-US" sz="3200" spc="-1" strike="noStrike">
                <a:solidFill>
                  <a:srgbClr val="e36c09"/>
                </a:solidFill>
                <a:latin typeface="微软雅黑"/>
                <a:ea typeface="微软雅黑"/>
              </a:rPr>
              <a:t>— </a:t>
            </a:r>
            <a:r>
              <a:rPr b="0" lang="zh-CN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动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图表 3" descr=""/>
          <p:cNvPicPr/>
          <p:nvPr/>
        </p:nvPicPr>
        <p:blipFill>
          <a:blip r:embed="rId2"/>
          <a:stretch/>
        </p:blipFill>
        <p:spPr>
          <a:xfrm>
            <a:off x="739800" y="1238400"/>
            <a:ext cx="6643800" cy="4930560"/>
          </a:xfrm>
          <a:prstGeom prst="rect">
            <a:avLst/>
          </a:prstGeom>
          <a:ln w="0">
            <a:noFill/>
          </a:ln>
        </p:spPr>
      </p:pic>
      <p:sp>
        <p:nvSpPr>
          <p:cNvPr id="241" name="TextBox 4"/>
          <p:cNvSpPr/>
          <p:nvPr/>
        </p:nvSpPr>
        <p:spPr>
          <a:xfrm>
            <a:off x="7848720" y="1311120"/>
            <a:ext cx="289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济宁菏泽动销总目标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××</a:t>
            </a:r>
            <a:r>
              <a:rPr b="0" lang="zh-CN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5"/>
          <p:cNvSpPr/>
          <p:nvPr/>
        </p:nvSpPr>
        <p:spPr>
          <a:xfrm>
            <a:off x="7812000" y="2095560"/>
            <a:ext cx="33577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实际达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华文细黑"/>
                <a:ea typeface="华文细黑"/>
              </a:rPr>
              <a:t>济宁菏泽总动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华文细黑"/>
                <a:ea typeface="华文细黑"/>
              </a:rPr>
              <a:t>××</a:t>
            </a:r>
            <a:r>
              <a:rPr b="0" lang="zh-CN" sz="1800" spc="-1" strike="noStrike">
                <a:solidFill>
                  <a:srgbClr val="00b0f0"/>
                </a:solidFill>
                <a:latin typeface="华文细黑"/>
                <a:ea typeface="华文细黑"/>
              </a:rPr>
              <a:t>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华文细黑"/>
                <a:ea typeface="华文细黑"/>
              </a:rPr>
              <a:t>济宁：</a:t>
            </a:r>
            <a:r>
              <a:rPr b="0" lang="en-US" sz="1800" spc="-1" strike="noStrike">
                <a:solidFill>
                  <a:srgbClr val="00b0f0"/>
                </a:solidFill>
                <a:latin typeface="华文细黑"/>
                <a:ea typeface="华文细黑"/>
              </a:rPr>
              <a:t>××</a:t>
            </a:r>
            <a:r>
              <a:rPr b="0" lang="zh-CN" sz="1800" spc="-1" strike="noStrike">
                <a:solidFill>
                  <a:srgbClr val="00b0f0"/>
                </a:solidFill>
                <a:latin typeface="华文细黑"/>
                <a:ea typeface="华文细黑"/>
              </a:rPr>
              <a:t>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华文细黑"/>
                <a:ea typeface="华文细黑"/>
              </a:rPr>
              <a:t>菏泽：</a:t>
            </a:r>
            <a:r>
              <a:rPr b="0" lang="en-US" sz="1800" spc="-1" strike="noStrike">
                <a:solidFill>
                  <a:srgbClr val="00b0f0"/>
                </a:solidFill>
                <a:latin typeface="华文细黑"/>
                <a:ea typeface="华文细黑"/>
              </a:rPr>
              <a:t>××</a:t>
            </a:r>
            <a:r>
              <a:rPr b="0" lang="zh-CN" sz="1800" spc="-1" strike="noStrike">
                <a:solidFill>
                  <a:srgbClr val="00b0f0"/>
                </a:solidFill>
                <a:latin typeface="华文细黑"/>
                <a:ea typeface="华文细黑"/>
              </a:rPr>
              <a:t>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6"/>
          <p:cNvSpPr/>
          <p:nvPr/>
        </p:nvSpPr>
        <p:spPr>
          <a:xfrm>
            <a:off x="7812000" y="3740040"/>
            <a:ext cx="3286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偏差：</a:t>
            </a: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××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完成率：</a:t>
            </a: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××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zh-CN" sz="2000" spc="-1" strike="noStrike">
                <a:solidFill>
                  <a:srgbClr val="00b0f0"/>
                </a:solidFill>
                <a:latin typeface="华文细黑"/>
                <a:ea typeface="华文细黑"/>
              </a:rPr>
              <a:t>完成率居山东市场前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8"/>
          <p:cNvSpPr/>
          <p:nvPr/>
        </p:nvSpPr>
        <p:spPr>
          <a:xfrm>
            <a:off x="7812000" y="5008680"/>
            <a:ext cx="35006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偏差分析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D:\PrintScreen Files\3DLS.png"/>
          <p:cNvPicPr/>
          <p:nvPr/>
        </p:nvPicPr>
        <p:blipFill>
          <a:blip r:embed="rId1"/>
          <a:stretch/>
        </p:blipFill>
        <p:spPr>
          <a:xfrm>
            <a:off x="1596960" y="3238560"/>
            <a:ext cx="2000160" cy="1501560"/>
          </a:xfrm>
          <a:prstGeom prst="rect">
            <a:avLst/>
          </a:prstGeom>
          <a:ln w="0">
            <a:noFill/>
          </a:ln>
        </p:spPr>
      </p:pic>
      <p:grpSp>
        <p:nvGrpSpPr>
          <p:cNvPr id="246" name="Group 5"/>
          <p:cNvGrpSpPr/>
          <p:nvPr/>
        </p:nvGrpSpPr>
        <p:grpSpPr>
          <a:xfrm>
            <a:off x="1525680" y="3052440"/>
            <a:ext cx="9000720" cy="1856520"/>
            <a:chOff x="1525680" y="3052440"/>
            <a:chExt cx="9000720" cy="1856520"/>
          </a:xfrm>
        </p:grpSpPr>
        <p:sp>
          <p:nvSpPr>
            <p:cNvPr id="247" name="Oval 6"/>
            <p:cNvSpPr/>
            <p:nvPr/>
          </p:nvSpPr>
          <p:spPr>
            <a:xfrm flipV="1">
              <a:off x="1525680" y="3051720"/>
              <a:ext cx="9000720" cy="494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7"/>
            <p:cNvSpPr/>
            <p:nvPr/>
          </p:nvSpPr>
          <p:spPr>
            <a:xfrm flipV="1">
              <a:off x="1525680" y="4413960"/>
              <a:ext cx="9000720" cy="494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矩形 2"/>
          <p:cNvSpPr/>
          <p:nvPr/>
        </p:nvSpPr>
        <p:spPr>
          <a:xfrm>
            <a:off x="5318280" y="338760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1" lang="zh-CN" sz="5400" spc="-1" strike="noStrike">
                <a:solidFill>
                  <a:srgbClr val="e36c09"/>
                </a:solidFill>
                <a:latin typeface="华文细黑"/>
                <a:ea typeface="华文细黑"/>
              </a:rPr>
              <a:t>素养与提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7"/>
          <p:cNvSpPr/>
          <p:nvPr/>
        </p:nvSpPr>
        <p:spPr>
          <a:xfrm>
            <a:off x="-52560" y="7380360"/>
            <a:ext cx="500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1000" spc="-1" strike="noStrike">
                <a:solidFill>
                  <a:srgbClr val="974806"/>
                </a:solidFill>
                <a:latin typeface="Arial"/>
                <a:ea typeface="微软雅黑"/>
              </a:rPr>
              <a:t>THIS PRESENTATION IS DESIGNED BY LIUSHAN,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组合 3"/>
          <p:cNvGrpSpPr/>
          <p:nvPr/>
        </p:nvGrpSpPr>
        <p:grpSpPr>
          <a:xfrm>
            <a:off x="8105760" y="7264440"/>
            <a:ext cx="3992400" cy="375840"/>
            <a:chOff x="8105760" y="7264440"/>
            <a:chExt cx="3992400" cy="375840"/>
          </a:xfrm>
        </p:grpSpPr>
        <p:grpSp>
          <p:nvGrpSpPr>
            <p:cNvPr id="252" name="组合 8"/>
            <p:cNvGrpSpPr/>
            <p:nvPr/>
          </p:nvGrpSpPr>
          <p:grpSpPr>
            <a:xfrm>
              <a:off x="8105760" y="7264440"/>
              <a:ext cx="1936080" cy="375840"/>
              <a:chOff x="8105760" y="7264440"/>
              <a:chExt cx="1936080" cy="375840"/>
            </a:xfrm>
          </p:grpSpPr>
          <p:sp>
            <p:nvSpPr>
              <p:cNvPr id="253" name="WordArt 5"/>
              <p:cNvSpPr/>
              <p:nvPr/>
            </p:nvSpPr>
            <p:spPr>
              <a:xfrm>
                <a:off x="8105760" y="7264440"/>
                <a:ext cx="1928880" cy="223200"/>
              </a:xfrm>
              <a:custGeom>
                <a:avLst/>
                <a:gdLst>
                  <a:gd name="textAreaLeft" fmla="*/ 0 w 1928880"/>
                  <a:gd name="textAreaRight" fmla="*/ 1929240 w 1928880"/>
                  <a:gd name="textAreaTop" fmla="*/ 0 h 223200"/>
                  <a:gd name="textAreaBottom" fmla="*/ 223560 h 223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WordArt 11"/>
              <p:cNvSpPr/>
              <p:nvPr/>
            </p:nvSpPr>
            <p:spPr>
              <a:xfrm flipV="1">
                <a:off x="8112960" y="7498440"/>
                <a:ext cx="1928880" cy="141480"/>
              </a:xfrm>
              <a:custGeom>
                <a:avLst/>
                <a:gdLst>
                  <a:gd name="textAreaLeft" fmla="*/ 0 w 1928880"/>
                  <a:gd name="textAreaRight" fmla="*/ 1929240 w 1928880"/>
                  <a:gd name="textAreaTop" fmla="*/ -360 h 141480"/>
                  <a:gd name="textAreaBottom" fmla="*/ 141480 h 141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WordArt 10"/>
              <p:cNvSpPr/>
              <p:nvPr/>
            </p:nvSpPr>
            <p:spPr>
              <a:xfrm>
                <a:off x="8105760" y="7264440"/>
                <a:ext cx="1928880" cy="223200"/>
              </a:xfrm>
              <a:custGeom>
                <a:avLst/>
                <a:gdLst>
                  <a:gd name="textAreaLeft" fmla="*/ 0 w 1928880"/>
                  <a:gd name="textAreaRight" fmla="*/ 1929240 w 1928880"/>
                  <a:gd name="textAreaTop" fmla="*/ 0 h 223200"/>
                  <a:gd name="textAreaBottom" fmla="*/ 223560 h 223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WordArt 10"/>
            <p:cNvSpPr/>
            <p:nvPr/>
          </p:nvSpPr>
          <p:spPr>
            <a:xfrm>
              <a:off x="10218960" y="7473960"/>
              <a:ext cx="1879200" cy="146160"/>
            </a:xfrm>
            <a:custGeom>
              <a:avLst/>
              <a:gdLst>
                <a:gd name="textAreaLeft" fmla="*/ 0 w 1879200"/>
                <a:gd name="textAreaRight" fmla="*/ 1879560 w 18792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10720" y="311040"/>
            <a:ext cx="56437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zh-CN" sz="3200" spc="-1" strike="noStrike">
                <a:solidFill>
                  <a:srgbClr val="e36c09"/>
                </a:solidFill>
                <a:latin typeface="微软雅黑"/>
                <a:ea typeface="微软雅黑"/>
              </a:rPr>
              <a:t>素养与提升</a:t>
            </a:r>
            <a:r>
              <a:rPr b="0" lang="en-US" sz="2800" spc="-1" strike="noStrike">
                <a:solidFill>
                  <a:srgbClr val="e36c09"/>
                </a:solidFill>
                <a:latin typeface="微软雅黑"/>
                <a:ea typeface="微软雅黑"/>
              </a:rPr>
              <a:t>— </a:t>
            </a:r>
            <a:r>
              <a:rPr b="0" lang="zh-CN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项目管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Box 10"/>
          <p:cNvSpPr/>
          <p:nvPr/>
        </p:nvSpPr>
        <p:spPr>
          <a:xfrm>
            <a:off x="1360800" y="1066680"/>
            <a:ext cx="1985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zh-CN" sz="2200" spc="-1" strike="noStrike">
                <a:solidFill>
                  <a:srgbClr val="ffff00"/>
                </a:solidFill>
                <a:latin typeface="微软雅黑"/>
                <a:ea typeface="微软雅黑"/>
              </a:rPr>
              <a:t>★  </a:t>
            </a:r>
            <a:r>
              <a:rPr b="0" lang="zh-CN" sz="2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工作尽可能项目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2"/>
          <p:cNvSpPr/>
          <p:nvPr/>
        </p:nvSpPr>
        <p:spPr>
          <a:xfrm>
            <a:off x="1131840" y="1523880"/>
            <a:ext cx="131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zh-CN" sz="2200" spc="-1" strike="noStrike">
                <a:solidFill>
                  <a:srgbClr val="ffff00"/>
                </a:solidFill>
                <a:latin typeface="微软雅黑"/>
                <a:ea typeface="微软雅黑"/>
              </a:rPr>
              <a:t>★  </a:t>
            </a:r>
            <a:r>
              <a:rPr b="0" lang="zh-CN" sz="2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关键因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3"/>
          <p:cNvSpPr/>
          <p:nvPr/>
        </p:nvSpPr>
        <p:spPr>
          <a:xfrm>
            <a:off x="1131840" y="4522680"/>
            <a:ext cx="131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zh-CN" sz="2200" spc="-1" strike="noStrike">
                <a:solidFill>
                  <a:srgbClr val="ffff00"/>
                </a:solidFill>
                <a:latin typeface="微软雅黑"/>
                <a:ea typeface="微软雅黑"/>
              </a:rPr>
              <a:t>★  </a:t>
            </a:r>
            <a:r>
              <a:rPr b="0" lang="zh-CN" sz="2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管理流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4"/>
          <p:cNvSpPr/>
          <p:nvPr/>
        </p:nvSpPr>
        <p:spPr>
          <a:xfrm>
            <a:off x="1345320" y="5965920"/>
            <a:ext cx="3159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zh-CN" sz="2200" spc="-1" strike="noStrike">
                <a:solidFill>
                  <a:srgbClr val="ffff00"/>
                </a:solidFill>
                <a:latin typeface="微软雅黑"/>
                <a:ea typeface="微软雅黑"/>
              </a:rPr>
              <a:t>运用案例：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…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；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…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；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7"/>
          <p:cNvSpPr/>
          <p:nvPr/>
        </p:nvSpPr>
        <p:spPr>
          <a:xfrm>
            <a:off x="-52560" y="7380360"/>
            <a:ext cx="500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1000" spc="-1" strike="noStrike">
                <a:solidFill>
                  <a:srgbClr val="974806"/>
                </a:solidFill>
                <a:latin typeface="Arial"/>
                <a:ea typeface="微软雅黑"/>
              </a:rPr>
              <a:t>THIS PRESENTATION IS DESIGNED BY LIUSHAN,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组合 3"/>
          <p:cNvGrpSpPr/>
          <p:nvPr/>
        </p:nvGrpSpPr>
        <p:grpSpPr>
          <a:xfrm>
            <a:off x="8105760" y="7264440"/>
            <a:ext cx="3992400" cy="375840"/>
            <a:chOff x="8105760" y="7264440"/>
            <a:chExt cx="3992400" cy="375840"/>
          </a:xfrm>
        </p:grpSpPr>
        <p:grpSp>
          <p:nvGrpSpPr>
            <p:cNvPr id="264" name="组合 8"/>
            <p:cNvGrpSpPr/>
            <p:nvPr/>
          </p:nvGrpSpPr>
          <p:grpSpPr>
            <a:xfrm>
              <a:off x="8105760" y="7264440"/>
              <a:ext cx="1936080" cy="375840"/>
              <a:chOff x="8105760" y="7264440"/>
              <a:chExt cx="1936080" cy="375840"/>
            </a:xfrm>
          </p:grpSpPr>
          <p:sp>
            <p:nvSpPr>
              <p:cNvPr id="265" name="WordArt 5"/>
              <p:cNvSpPr/>
              <p:nvPr/>
            </p:nvSpPr>
            <p:spPr>
              <a:xfrm>
                <a:off x="8105760" y="7264440"/>
                <a:ext cx="1928880" cy="223200"/>
              </a:xfrm>
              <a:custGeom>
                <a:avLst/>
                <a:gdLst>
                  <a:gd name="textAreaLeft" fmla="*/ 0 w 1928880"/>
                  <a:gd name="textAreaRight" fmla="*/ 1929240 w 1928880"/>
                  <a:gd name="textAreaTop" fmla="*/ 0 h 223200"/>
                  <a:gd name="textAreaBottom" fmla="*/ 223560 h 223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WordArt 11"/>
              <p:cNvSpPr/>
              <p:nvPr/>
            </p:nvSpPr>
            <p:spPr>
              <a:xfrm flipV="1">
                <a:off x="8112960" y="7498440"/>
                <a:ext cx="1928880" cy="141480"/>
              </a:xfrm>
              <a:custGeom>
                <a:avLst/>
                <a:gdLst>
                  <a:gd name="textAreaLeft" fmla="*/ 0 w 1928880"/>
                  <a:gd name="textAreaRight" fmla="*/ 1929240 w 1928880"/>
                  <a:gd name="textAreaTop" fmla="*/ -360 h 141480"/>
                  <a:gd name="textAreaBottom" fmla="*/ 141480 h 141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WordArt 10"/>
              <p:cNvSpPr/>
              <p:nvPr/>
            </p:nvSpPr>
            <p:spPr>
              <a:xfrm>
                <a:off x="8105760" y="7264440"/>
                <a:ext cx="1928880" cy="223200"/>
              </a:xfrm>
              <a:custGeom>
                <a:avLst/>
                <a:gdLst>
                  <a:gd name="textAreaLeft" fmla="*/ 0 w 1928880"/>
                  <a:gd name="textAreaRight" fmla="*/ 1929240 w 1928880"/>
                  <a:gd name="textAreaTop" fmla="*/ 0 h 223200"/>
                  <a:gd name="textAreaBottom" fmla="*/ 223560 h 223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WordArt 10"/>
            <p:cNvSpPr/>
            <p:nvPr/>
          </p:nvSpPr>
          <p:spPr>
            <a:xfrm>
              <a:off x="10218960" y="7473960"/>
              <a:ext cx="1879200" cy="146160"/>
            </a:xfrm>
            <a:custGeom>
              <a:avLst/>
              <a:gdLst>
                <a:gd name="textAreaLeft" fmla="*/ 0 w 1879200"/>
                <a:gd name="textAreaRight" fmla="*/ 1879560 w 18792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组合 170"/>
          <p:cNvGrpSpPr/>
          <p:nvPr/>
        </p:nvGrpSpPr>
        <p:grpSpPr>
          <a:xfrm>
            <a:off x="789480" y="-34200"/>
            <a:ext cx="8758800" cy="5830200"/>
            <a:chOff x="789480" y="-34200"/>
            <a:chExt cx="8758800" cy="5830200"/>
          </a:xfrm>
        </p:grpSpPr>
        <p:sp>
          <p:nvSpPr>
            <p:cNvPr id="270" name="AutoShape 165"/>
            <p:cNvSpPr/>
            <p:nvPr/>
          </p:nvSpPr>
          <p:spPr>
            <a:xfrm flipH="1" rot="10444200">
              <a:off x="1025640" y="380520"/>
              <a:ext cx="8286480" cy="5000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5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67"/>
            <p:cNvSpPr/>
            <p:nvPr/>
          </p:nvSpPr>
          <p:spPr>
            <a:xfrm>
              <a:off x="7689600" y="3430080"/>
              <a:ext cx="1220040" cy="239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68"/>
            <p:cNvSpPr/>
            <p:nvPr/>
          </p:nvSpPr>
          <p:spPr>
            <a:xfrm>
              <a:off x="7213680" y="1884600"/>
              <a:ext cx="1570320" cy="17524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检查评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★</a:t>
              </a:r>
              <a:r>
                <a:rPr b="0" lang="zh-CN" sz="18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重视成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★</a:t>
              </a:r>
              <a:r>
                <a:rPr b="0" lang="zh-CN" sz="18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目标考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69"/>
            <p:cNvSpPr/>
            <p:nvPr/>
          </p:nvSpPr>
          <p:spPr>
            <a:xfrm>
              <a:off x="5905800" y="4624200"/>
              <a:ext cx="1220040" cy="239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170"/>
            <p:cNvSpPr/>
            <p:nvPr/>
          </p:nvSpPr>
          <p:spPr>
            <a:xfrm>
              <a:off x="5251320" y="3041640"/>
              <a:ext cx="1648080" cy="17539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实现目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★</a:t>
              </a:r>
              <a:r>
                <a:rPr b="0" lang="zh-CN" sz="18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自我管理控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★</a:t>
              </a:r>
              <a:r>
                <a:rPr b="0" lang="zh-CN" sz="18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指导控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173"/>
            <p:cNvSpPr/>
            <p:nvPr/>
          </p:nvSpPr>
          <p:spPr>
            <a:xfrm>
              <a:off x="3528720" y="4982400"/>
              <a:ext cx="1220040" cy="239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174"/>
            <p:cNvSpPr/>
            <p:nvPr/>
          </p:nvSpPr>
          <p:spPr>
            <a:xfrm>
              <a:off x="2888640" y="3412080"/>
              <a:ext cx="1640160" cy="175392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制定目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★</a:t>
              </a:r>
              <a:r>
                <a:rPr b="0" lang="zh-CN" sz="18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参与、民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★</a:t>
              </a:r>
              <a:r>
                <a:rPr b="0" lang="zh-CN" sz="18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与个人需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能力结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176"/>
            <p:cNvSpPr/>
            <p:nvPr/>
          </p:nvSpPr>
          <p:spPr>
            <a:xfrm rot="18924000">
              <a:off x="5367600" y="3259440"/>
              <a:ext cx="533160" cy="319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177"/>
            <p:cNvSpPr/>
            <p:nvPr/>
          </p:nvSpPr>
          <p:spPr>
            <a:xfrm rot="18924000">
              <a:off x="7312680" y="2115360"/>
              <a:ext cx="533160" cy="319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179"/>
            <p:cNvSpPr/>
            <p:nvPr/>
          </p:nvSpPr>
          <p:spPr>
            <a:xfrm rot="18924000">
              <a:off x="2958480" y="3608280"/>
              <a:ext cx="533160" cy="319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31840"/>
                  <a:tab algn="l" pos="2263680"/>
                  <a:tab algn="l" pos="3395520"/>
                  <a:tab algn="l" pos="4527720"/>
                  <a:tab algn="l" pos="5659560"/>
                  <a:tab algn="l" pos="6791400"/>
                  <a:tab algn="l" pos="7923240"/>
                  <a:tab algn="l" pos="9055080"/>
                  <a:tab algn="l" pos="10186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10720" y="311040"/>
            <a:ext cx="56437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zh-CN" sz="3200" spc="-1" strike="noStrike">
                <a:solidFill>
                  <a:srgbClr val="e36c09"/>
                </a:solidFill>
                <a:latin typeface="微软雅黑"/>
                <a:ea typeface="微软雅黑"/>
              </a:rPr>
              <a:t>素养与提升</a:t>
            </a:r>
            <a:r>
              <a:rPr b="0" lang="en-US" sz="2800" spc="-1" strike="noStrike">
                <a:solidFill>
                  <a:srgbClr val="e36c09"/>
                </a:solidFill>
                <a:latin typeface="微软雅黑"/>
                <a:ea typeface="微软雅黑"/>
              </a:rPr>
              <a:t>— </a:t>
            </a:r>
            <a:r>
              <a:rPr b="0" lang="zh-CN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目标管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Box 3"/>
          <p:cNvSpPr/>
          <p:nvPr/>
        </p:nvSpPr>
        <p:spPr>
          <a:xfrm>
            <a:off x="3744720" y="1450800"/>
            <a:ext cx="90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zh-CN" sz="2200" spc="-1" strike="noStrike">
                <a:solidFill>
                  <a:srgbClr val="ffff00"/>
                </a:solidFill>
                <a:latin typeface="微软雅黑"/>
                <a:ea typeface="微软雅黑"/>
              </a:rPr>
              <a:t>★  </a:t>
            </a:r>
            <a:r>
              <a:rPr b="0" lang="zh-CN" sz="2200" spc="-1" strike="noStrike">
                <a:solidFill>
                  <a:srgbClr val="ffff00"/>
                </a:solidFill>
                <a:latin typeface="微软雅黑"/>
                <a:ea typeface="微软雅黑"/>
              </a:rPr>
              <a:t>以目标为导向、以人为中心、以成果为标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71"/>
          <p:cNvSpPr/>
          <p:nvPr/>
        </p:nvSpPr>
        <p:spPr>
          <a:xfrm>
            <a:off x="1421280" y="2451240"/>
            <a:ext cx="131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zh-CN" sz="2200" spc="-1" strike="noStrike">
                <a:solidFill>
                  <a:srgbClr val="ffff00"/>
                </a:solidFill>
                <a:latin typeface="微软雅黑"/>
                <a:ea typeface="微软雅黑"/>
              </a:rPr>
              <a:t>★  </a:t>
            </a:r>
            <a:r>
              <a:rPr b="0" lang="zh-CN" sz="2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管理流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73"/>
          <p:cNvSpPr/>
          <p:nvPr/>
        </p:nvSpPr>
        <p:spPr>
          <a:xfrm>
            <a:off x="1577160" y="5737320"/>
            <a:ext cx="24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zh-CN" sz="2200" spc="-1" strike="noStrike">
                <a:solidFill>
                  <a:srgbClr val="ffff00"/>
                </a:solidFill>
                <a:latin typeface="微软雅黑"/>
                <a:ea typeface="微软雅黑"/>
              </a:rPr>
              <a:t>运用案例：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…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；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31T14:30:00Z</dcterms:created>
  <dc:creator>www.eeppt.com</dc:creator>
  <dc:description>www.eeppt.com</dc:description>
  <cp:keywords>www.eeppt.com</cp:keywords>
  <dc:language>en-US</dc:language>
  <cp:lastModifiedBy>微软用户</cp:lastModifiedBy>
  <dcterms:modified xsi:type="dcterms:W3CDTF">2015-08-11T14:23:08Z</dcterms:modified>
  <cp:revision>32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