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732f3d39e6da3f8a8ec9a31"/>
          <p:cNvPicPr/>
          <p:nvPr/>
        </p:nvPicPr>
        <p:blipFill>
          <a:blip r:embed="rId2"/>
          <a:stretch/>
        </p:blipFill>
        <p:spPr>
          <a:xfrm>
            <a:off x="533520" y="434880"/>
            <a:ext cx="8234280" cy="6423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" descr="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矩形 7"/>
          <p:cNvSpPr/>
          <p:nvPr/>
        </p:nvSpPr>
        <p:spPr>
          <a:xfrm>
            <a:off x="3684600" y="4411800"/>
            <a:ext cx="19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8"/>
          <p:cNvSpPr/>
          <p:nvPr/>
        </p:nvSpPr>
        <p:spPr>
          <a:xfrm>
            <a:off x="0" y="6045120"/>
            <a:ext cx="9144000" cy="812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0" y="6107040"/>
            <a:ext cx="914400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324000" y="2236680"/>
            <a:ext cx="87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挥你的想象  传递你的爱心  感恩你的生活  开始你的行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98800" y="30481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父亲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590920" y="1676520"/>
            <a:ext cx="54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老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世界上最关心你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不是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而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回家握握他们的手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你会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他们的手很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628800" y="1905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母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母亲的手是如此的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98320" y="32004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父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父亲的手更是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887200" y="23623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母亲的手是因为抚养我而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948040" y="27147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父亲的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是因为抚养这个家而粗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9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10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413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1439280" y="917640"/>
            <a:ext cx="335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时光流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再是小孩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开始有自己的心思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想让别人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父亲穿着落后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看到我父亲举止粗鲁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总是在别人看不到我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让他看到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而父亲没有怨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在拐角处我总能看到他的笑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8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1"/>
          <p:cNvPicPr/>
          <p:nvPr/>
        </p:nvPicPr>
        <p:blipFill>
          <a:blip r:embed="rId1"/>
          <a:stretch/>
        </p:blipFill>
        <p:spPr>
          <a:xfrm>
            <a:off x="2590920" y="1219320"/>
            <a:ext cx="4076640" cy="515592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5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2523960" cy="804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7620120" y="91440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897280" y="990720"/>
            <a:ext cx="383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曾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有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拿到工资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将分七成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在我拿到第一份工资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说，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你留着吧，下次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却将下次的钞票揣进自己的腰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纠缠父亲给自己买漂亮的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丝毫没有为他考虑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没有怨言，依然笑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仿若我永远是他肩膀上长不大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688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5000" y="1828800"/>
            <a:ext cx="383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光荏苒 如白驹过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有一种感情并不随岁月流逝而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相反 一日复一日在心底某个深处酝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酝酿渐渐扩大 渐渐拉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09960" y="25146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感情便是感恩－－感谢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900"/>
                            </p:stCondLst>
                            <p:childTnLst>
                              <p:par>
                                <p:cTn id="73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300"/>
                            </p:stCondLst>
                            <p:childTnLst>
                              <p:par>
                                <p:cTn id="73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900"/>
                            </p:stCondLst>
                            <p:childTnLst>
                              <p:par>
                                <p:cTn id="74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66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31258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8"/>
          <p:cNvSpPr txBox="1"/>
          <p:nvPr/>
        </p:nvSpPr>
        <p:spPr>
          <a:xfrm>
            <a:off x="2743200" y="3276720"/>
            <a:ext cx="3809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华文细黑"/>
              </a:rPr>
              <a:t>向父亲致敬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一生受尽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信念只有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为女儿谋幸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是家庭的经济收入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所以注定为家的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一生操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743200" y="4572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可敬而伟大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世界上没有一种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比父爱更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谢谢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3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5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5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4" descr="cb8e25341c41f3a5d1a2d3c4副本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7595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3505320" y="533520"/>
            <a:ext cx="21333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结束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263040" y="11430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爱就如一株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无私地吐着它那清新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057120" y="3124080"/>
            <a:ext cx="295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错过的感恩节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祝愿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献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愿他心想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笑口常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145040" y="2743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有一种爱，无边无垠，不求回报，却总能让我们心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2860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个人，拥有宽厚的肩膀，能撑起我们，顶起整片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438280" y="2590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爱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51440" y="342900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个人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2"/>
          <p:cNvPicPr/>
          <p:nvPr/>
        </p:nvPicPr>
        <p:blipFill>
          <a:blip r:embed="rId1">
            <a:lum bright="-6000"/>
          </a:blip>
          <a:srcRect l="6151" t="136" r="0" b="-2214"/>
          <a:stretch/>
        </p:blipFill>
        <p:spPr>
          <a:xfrm>
            <a:off x="-228600" y="0"/>
            <a:ext cx="9524880" cy="7183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18"/>
          <p:cNvSpPr txBox="1"/>
          <p:nvPr/>
        </p:nvSpPr>
        <p:spPr>
          <a:xfrm>
            <a:off x="152280" y="228600"/>
            <a:ext cx="8763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我该用何种方式表达我对您的爱呢，父亲？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3" name="背景音乐－我的父亲母亲 终曲.mp3" descr=""/>
          <p:cNvPicPr/>
          <p:nvPr/>
        </p:nvPicPr>
        <p:blipFill>
          <a:blip r:embed="rId4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"/>
          <p:cNvSpPr/>
          <p:nvPr/>
        </p:nvSpPr>
        <p:spPr>
          <a:xfrm>
            <a:off x="918360" y="10008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孝子之至，莫大乎尊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 rot="21424800">
            <a:off x="7620840" y="54720"/>
            <a:ext cx="729000" cy="72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尊亲之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莫大乎以天下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284400" y="1523880"/>
            <a:ext cx="67640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父亲的爱如大山般的厚重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我托起一片无忧的晴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却如初生牛犊，乱闯乱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略岁月留在他面庞的痕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当时间流逝，往事淡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怀着细腻的心感受这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感受父爱的无私与毫无保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3"/>
          <p:cNvPicPr/>
          <p:nvPr/>
        </p:nvPicPr>
        <p:blipFill>
          <a:blip r:embed="rId1"/>
          <a:stretch/>
        </p:blipFill>
        <p:spPr>
          <a:xfrm>
            <a:off x="1905120" y="1600200"/>
            <a:ext cx="5486400" cy="4119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8" name="WordArt 27"/>
          <p:cNvSpPr txBox="1"/>
          <p:nvPr/>
        </p:nvSpPr>
        <p:spPr>
          <a:xfrm>
            <a:off x="2057400" y="5335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新魏"/>
              </a:rPr>
              <a:t>哀哀父亲，育我劬劳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xit" presetID="2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4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4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4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4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4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4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4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4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2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6" dur="5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1" dur="5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6" dur="5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1" dur="5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5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752480" y="1295280"/>
            <a:ext cx="533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喜爱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每当我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别的小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握着五颜六色的彩笔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便告诉父亲我也想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很多彩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任我开心地趴在桌子上涂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1"/>
          <p:cNvPicPr/>
          <p:nvPr/>
        </p:nvPicPr>
        <p:blipFill>
          <a:blip r:embed="rId1"/>
          <a:stretch/>
        </p:blipFill>
        <p:spPr>
          <a:xfrm rot="20950800">
            <a:off x="4038120" y="1295280"/>
            <a:ext cx="2971800" cy="22320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05120" y="106668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52480" y="11430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喜爱弹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想成为一名优雅的音乐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迷你型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可是我却把它弹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父亲没有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带我买来更好的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44副本"/>
          <p:cNvPicPr/>
          <p:nvPr/>
        </p:nvPicPr>
        <p:blipFill>
          <a:blip r:embed="rId1"/>
          <a:stretch/>
        </p:blipFill>
        <p:spPr>
          <a:xfrm>
            <a:off x="380880" y="4648320"/>
            <a:ext cx="8305920" cy="2019240"/>
          </a:xfrm>
          <a:prstGeom prst="rect">
            <a:avLst/>
          </a:prstGeom>
          <a:ln w="0">
            <a:noFill/>
          </a:ln>
        </p:spPr>
      </p:pic>
      <p:sp>
        <p:nvSpPr>
          <p:cNvPr id="65" name="WordArt 11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76720" y="3200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981080" y="1066680"/>
            <a:ext cx="5867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大了，我开始有自己的小想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开始和小邻居一起出去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功课丢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待到我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母亲一个劲儿地数落我的贪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父亲则是用他的巴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狠狠地打在我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痛得我直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要父亲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到我痛得改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会先把功课丢在一边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才停手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828800" y="114300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长大了，我第一次在舅舅家过暑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那里，我非常挂念自己的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待到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母亲一个劲儿地亲我，对我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想你了，以后再也不让你出去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父亲却在一旁哼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有何好想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不就是外出一个月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生气地抬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却意外地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他削瘦的脸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2ae9c316d6e3d5b91ef39a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4120" y="3429000"/>
            <a:ext cx="1987560" cy="2811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71" name="WordArt 5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438280" y="1676520"/>
            <a:ext cx="54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父亲如良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总在不经意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让我尝到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苦得让我回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608280" y="259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父爱总在拐角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1300000040115119578390637014"/>
          <p:cNvPicPr/>
          <p:nvPr/>
        </p:nvPicPr>
        <p:blipFill>
          <a:blip r:embed="rId1"/>
          <a:stretch/>
        </p:blipFill>
        <p:spPr>
          <a:xfrm>
            <a:off x="3733920" y="3276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3048120" y="152280"/>
            <a:ext cx="308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我还记得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209680" y="160020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第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离家去远地上学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个劲儿地牵着我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我耳边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则是跑到路边的小摊子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为我准备很多喜爱的小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1:44:51Z</dcterms:created>
  <dc:creator/>
  <dc:description>www.eeppt.com;</dc:description>
  <cp:keywords>www.eeppt.com</cp:keywords>
  <dc:language>en-US</dc:language>
  <cp:lastModifiedBy>ygx</cp:lastModifiedBy>
  <dcterms:modified xsi:type="dcterms:W3CDTF">2015-08-11T14:22:32Z</dcterms:modified>
  <cp:revision>19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