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27F-F7A0-4AD5-AFEC-F707BFE9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0E1-CEFD-42E8-A317-7DD87AFF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93E-D36D-4CF3-9317-6C004DB3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5B7-ED37-4167-86DA-BB64122D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F8C-713E-4052-877B-D00462D7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2EE-5A2E-4656-BC27-B51F0B2B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D86-F118-4C88-B3A9-B3CB0974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702-FBF1-492D-AE3A-17663BC8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D21-C7BA-454A-BD5E-0444B116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E99-FFF7-449A-8156-EE72423D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FAA-BE69-48BC-844C-E1BB1AA9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15B-C5E1-4C0B-81F6-DD93C4B1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C79-EA1C-43DA-B1B8-DF445E62E7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25C7-224F-46F5-9F66-E8670F4BAA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49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"/>
          <p:cNvSpPr/>
          <p:nvPr/>
        </p:nvSpPr>
        <p:spPr>
          <a:xfrm>
            <a:off x="1774800" y="3645000"/>
            <a:ext cx="8642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6"/>
          <p:cNvSpPr/>
          <p:nvPr/>
        </p:nvSpPr>
        <p:spPr>
          <a:xfrm>
            <a:off x="3611520" y="272088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  <a:ea typeface="Segoe UI"/>
              </a:rPr>
              <a:t>Hi,my name is Jigs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7"/>
          <p:cNvSpPr/>
          <p:nvPr/>
        </p:nvSpPr>
        <p:spPr>
          <a:xfrm>
            <a:off x="2963880" y="402912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Hello,I want to play a game. Hello,I want to play a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Hello,I want to play a game. Hello,I want to play a game.Hello,I want to play a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8"/>
          <p:cNvSpPr/>
          <p:nvPr/>
        </p:nvSpPr>
        <p:spPr>
          <a:xfrm>
            <a:off x="5556240" y="1503360"/>
            <a:ext cx="1079640" cy="1079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3080" y="4255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个人简介英文版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f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4006800" y="1197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5160" y="2217600"/>
            <a:ext cx="5400720" cy="1328400"/>
            <a:chOff x="695160" y="2217600"/>
            <a:chExt cx="5400720" cy="1328400"/>
          </a:xfrm>
        </p:grpSpPr>
        <p:sp>
          <p:nvSpPr>
            <p:cNvPr id="49" name="文本框 2"/>
            <p:cNvSpPr/>
            <p:nvPr/>
          </p:nvSpPr>
          <p:spPr>
            <a:xfrm>
              <a:off x="1631160" y="2217600"/>
              <a:ext cx="44647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等腰三角形 3"/>
            <p:cNvSpPr/>
            <p:nvPr/>
          </p:nvSpPr>
          <p:spPr>
            <a:xfrm>
              <a:off x="695160" y="2390760"/>
              <a:ext cx="648000" cy="57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600960" y="2217600"/>
            <a:ext cx="5400720" cy="1328400"/>
            <a:chOff x="6600960" y="2217600"/>
            <a:chExt cx="5400720" cy="1328400"/>
          </a:xfrm>
        </p:grpSpPr>
        <p:sp>
          <p:nvSpPr>
            <p:cNvPr id="52" name="文本框 6"/>
            <p:cNvSpPr/>
            <p:nvPr/>
          </p:nvSpPr>
          <p:spPr>
            <a:xfrm>
              <a:off x="7536960" y="2217600"/>
              <a:ext cx="44647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等腰三角形 7"/>
            <p:cNvSpPr/>
            <p:nvPr/>
          </p:nvSpPr>
          <p:spPr>
            <a:xfrm>
              <a:off x="6600960" y="2390760"/>
              <a:ext cx="648000" cy="57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95160" y="4017960"/>
            <a:ext cx="5400720" cy="1328400"/>
            <a:chOff x="695160" y="4017960"/>
            <a:chExt cx="5400720" cy="1328400"/>
          </a:xfrm>
        </p:grpSpPr>
        <p:sp>
          <p:nvSpPr>
            <p:cNvPr id="55" name="文本框 9"/>
            <p:cNvSpPr/>
            <p:nvPr/>
          </p:nvSpPr>
          <p:spPr>
            <a:xfrm>
              <a:off x="1631160" y="4017960"/>
              <a:ext cx="44647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0"/>
            <p:cNvSpPr/>
            <p:nvPr/>
          </p:nvSpPr>
          <p:spPr>
            <a:xfrm>
              <a:off x="695160" y="4191120"/>
              <a:ext cx="648000" cy="57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00960" y="4017960"/>
            <a:ext cx="5400720" cy="1328400"/>
            <a:chOff x="6600960" y="4017960"/>
            <a:chExt cx="5400720" cy="1328400"/>
          </a:xfrm>
        </p:grpSpPr>
        <p:sp>
          <p:nvSpPr>
            <p:cNvPr id="58" name="文本框 12"/>
            <p:cNvSpPr/>
            <p:nvPr/>
          </p:nvSpPr>
          <p:spPr>
            <a:xfrm>
              <a:off x="7536960" y="4017960"/>
              <a:ext cx="446472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3"/>
            <p:cNvSpPr/>
            <p:nvPr/>
          </p:nvSpPr>
          <p:spPr>
            <a:xfrm>
              <a:off x="6600960" y="4191480"/>
              <a:ext cx="648000" cy="575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55520" y="549360"/>
          <a:ext cx="10080720" cy="5759280"/>
        </p:xfrm>
        <a:graphic>
          <a:graphicData uri="http://schemas.openxmlformats.org/drawingml/2006/table">
            <a:tbl>
              <a:tblPr/>
              <a:tblGrid>
                <a:gridCol w="5040360"/>
                <a:gridCol w="5040360"/>
              </a:tblGrid>
              <a:tr h="28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  <a:ea typeface="Calibri"/>
                        </a:rPr>
                        <a:t>PIC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  <a:ea typeface="Calibri"/>
                        </a:rPr>
                        <a:t>PIC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28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  <a:ea typeface="Calibri"/>
                        </a:rPr>
                        <a:t>PIC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gency FB"/>
                          <a:ea typeface="Calibri"/>
                        </a:rPr>
                        <a:t>PIC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</a:tr>
            </a:tbl>
          </a:graphicData>
        </a:graphic>
      </p:graphicFrame>
      <p:grpSp>
        <p:nvGrpSpPr>
          <p:cNvPr id="61" name=""/>
          <p:cNvGrpSpPr/>
          <p:nvPr/>
        </p:nvGrpSpPr>
        <p:grpSpPr>
          <a:xfrm>
            <a:off x="938160" y="549360"/>
            <a:ext cx="5157720" cy="1439640"/>
            <a:chOff x="938160" y="549360"/>
            <a:chExt cx="5157720" cy="1439640"/>
          </a:xfrm>
        </p:grpSpPr>
        <p:sp>
          <p:nvSpPr>
            <p:cNvPr id="62" name="矩形 2"/>
            <p:cNvSpPr/>
            <p:nvPr/>
          </p:nvSpPr>
          <p:spPr>
            <a:xfrm>
              <a:off x="1055520" y="549360"/>
              <a:ext cx="5040360" cy="1439640"/>
            </a:xfrm>
            <a:prstGeom prst="rect">
              <a:avLst/>
            </a:prstGeom>
            <a:solidFill>
              <a:srgbClr val="de4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4"/>
            <p:cNvSpPr/>
            <p:nvPr/>
          </p:nvSpPr>
          <p:spPr>
            <a:xfrm>
              <a:off x="938160" y="69336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gency FB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055520" y="1990800"/>
            <a:ext cx="5040360" cy="1439640"/>
            <a:chOff x="1055520" y="1990800"/>
            <a:chExt cx="5040360" cy="1439640"/>
          </a:xfrm>
        </p:grpSpPr>
        <p:sp>
          <p:nvSpPr>
            <p:cNvPr id="65" name="矩形 3"/>
            <p:cNvSpPr/>
            <p:nvPr/>
          </p:nvSpPr>
          <p:spPr>
            <a:xfrm>
              <a:off x="1055520" y="1990800"/>
              <a:ext cx="5040360" cy="1439640"/>
            </a:xfrm>
            <a:prstGeom prst="rect">
              <a:avLst/>
            </a:prstGeom>
            <a:solidFill>
              <a:srgbClr val="363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179720" y="2248920"/>
              <a:ext cx="484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gency FB"/>
                </a:rPr>
                <a:t>Hello,I want to play a game. Hello,I want to play a game. Hello,I want to play a 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625320" y="1698480"/>
            <a:ext cx="7488360" cy="37436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8561520" y="1695600"/>
            <a:ext cx="296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4957"/>
                </a:solidFill>
                <a:latin typeface="Agency FB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9048600" y="2903400"/>
            <a:ext cx="27352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Agency FB"/>
              </a:rPr>
              <a:t>Hello,I want to play a game. Hello,I want to play a game. Hello,I want to play a game. Hello,I want to play a game. Hello,I want to play a game. Hello,I want to play a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625320" y="1698480"/>
            <a:ext cx="7488360" cy="374364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9264600" y="2565360"/>
            <a:ext cx="1224000" cy="338040"/>
          </a:xfrm>
          <a:prstGeom prst="rect">
            <a:avLst/>
          </a:prstGeom>
          <a:solidFill>
            <a:srgbClr val="de49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f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椭圆 1"/>
          <p:cNvSpPr/>
          <p:nvPr/>
        </p:nvSpPr>
        <p:spPr>
          <a:xfrm>
            <a:off x="1055520" y="2276640"/>
            <a:ext cx="1872000" cy="1944360"/>
          </a:xfrm>
          <a:prstGeom prst="ellipse">
            <a:avLst/>
          </a:prstGeom>
          <a:solidFill>
            <a:srgbClr val="de49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4295880" y="257976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gency FB"/>
              </a:rPr>
              <a:t>Hello,I want to play a game. Hello,I want to play a game. Hello,I want to play a game. Hello,I want to play a game. Hello,I want to play a game. Hello,I want to play a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C41-CADE-47E7-89BB-06B3DAEFE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49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1"/>
          <p:cNvSpPr/>
          <p:nvPr/>
        </p:nvSpPr>
        <p:spPr>
          <a:xfrm>
            <a:off x="1450800" y="1773360"/>
            <a:ext cx="9290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ency FB"/>
              </a:rPr>
              <a:t>Hello,I want to play a game. Hello,I want to play a game. Hello,I want to play a game. Hello,I want to play a g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I:\500METRO ICONS\Applications\Live Messenger alt 3.png"/>
          <p:cNvPicPr/>
          <p:nvPr/>
        </p:nvPicPr>
        <p:blipFill>
          <a:blip r:embed="rId1"/>
          <a:stretch/>
        </p:blipFill>
        <p:spPr>
          <a:xfrm>
            <a:off x="3503520" y="37893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5951520" y="4581360"/>
            <a:ext cx="316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5951520" y="5187960"/>
            <a:ext cx="316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9:09:00Z</dcterms:created>
  <dc:creator>pc</dc:creator>
  <dc:description/>
  <cp:keywords>www.eeppt.com</cp:keywords>
  <dc:language>en-US</dc:language>
  <cp:lastModifiedBy>liu peng</cp:lastModifiedBy>
  <dcterms:modified xsi:type="dcterms:W3CDTF">2015-08-11T14:20:43Z</dcterms:modified>
  <cp:revision>1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