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078-DC22-4920-94A6-E4D14D7A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99F-CB0C-4C4C-A915-41E90A2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549-46F8-4431-9B31-033792B3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73F-0398-434C-A883-16A4FFC0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119-461B-4D88-A0B5-88531D82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7CD-AEC6-4503-B275-4ED73A8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834-3CFE-4176-AF2F-E2B20161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8B1E-4978-41FD-AAD4-5B006EC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4F0-940C-4494-A576-F554B596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E8A-6E31-45DB-B71C-C61DD66C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0E1-F092-4178-820C-AF1124D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4AA-9B0A-43DE-AC79-7B993A5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33B4-DD50-48AC-8673-19AC3636F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2666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800"/>
            </a:b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   荐</a:t>
            </a:r>
            <a:br>
              <a:rPr sz="4800"/>
            </a:b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809880"/>
            <a:ext cx="830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姓名：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王忠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专业：</a:t>
            </a:r>
            <a:r>
              <a:rPr b="0" lang="zh-CN" sz="4000" spc="-1" strike="noStrike">
                <a:solidFill>
                  <a:srgbClr val="00ff00"/>
                </a:solidFill>
                <a:latin typeface="楷体"/>
                <a:ea typeface="楷体"/>
              </a:rPr>
              <a:t>道路桥梁工程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学校</a:t>
            </a:r>
            <a:r>
              <a:rPr b="0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昆明冶金高等专科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联系电话：</a:t>
            </a:r>
            <a:r>
              <a:rPr b="0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150966392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47880" y="420840"/>
            <a:ext cx="4569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楷体"/>
                <a:ea typeface="楷体"/>
              </a:rPr>
              <a:t>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4000" spc="-1" strike="noStrike">
                <a:solidFill>
                  <a:srgbClr val="ff00ff"/>
                </a:solidFill>
                <a:latin typeface="楷体"/>
                <a:ea typeface="楷体"/>
              </a:rPr>
              <a:t>真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5920" y="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个人简历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248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 人 简 历 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533520"/>
          <a:ext cx="9144000" cy="6337080"/>
        </p:xfrm>
        <a:graphic>
          <a:graphicData uri="http://schemas.openxmlformats.org/drawingml/2006/table">
            <a:tbl>
              <a:tblPr/>
              <a:tblGrid>
                <a:gridCol w="1380960"/>
                <a:gridCol w="1690920"/>
                <a:gridCol w="1195200"/>
                <a:gridCol w="2376720"/>
                <a:gridCol w="657000"/>
                <a:gridCol w="243000"/>
                <a:gridCol w="1600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忠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92.10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壮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昆明冶金高等专科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团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道路桥梁工程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 庭 地 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云南省文山州广南县底圩乡普龙村委会坝瓢小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3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目 前所在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昆明市安宁市安宁职教园区冶金高等专科学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邮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50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求 职 意 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道路桥工程相关的工作，如：测量员，施工员，技术员，爆破员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自 我 评 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人性格开朗、稳重、有活力、待人热情、真诚、工作认真、积极主动、能吃苦耐劳，能认真完成赋予我的每一项任务。有较强的组织能力、实际动手能力和团队合作精神，能迅速适应各种环境。以诚待人，有良好的沟通能力：对工作充满热情，能学好问听从领导的安排，踏实勤奋，创新务实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介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路基路面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AD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纬地软件、道路勘测设计、桥梁工程技术、工程测量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算机水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熟练各种办公软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校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团联合会外联部部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获奖情况级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助理项目管理师、测量员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社会实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课余时间在南方网络上班（话务员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日在依婚庆公司上班（现场布置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年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月在统一企业做临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43800" y="5335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494-55B3-4799-ABCE-63940168C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429000" y="4492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55960" y="3412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049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 荐 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0" y="1332000"/>
            <a:ext cx="75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尊敬的ＸＸ公司人力资源部负责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您好！感谢您抽出宝贵的时间阅读我的求职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我出生并成长于云南文山州的一个小山村，在２０１１年考上昆明冶金高等专科学校建工学院，在学校主修是道路桥梁工程技术，据悉贵公司将招聘应届毕业生，我非常希望到贵公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在学校三年的时间里我积极参加学校各种活动，曾担任过社联外联部副部长，还参加组织过多种多样的课外活动，如：青年志愿者协会，野外扩展训练，敬老院。我一直很活跃于多个感兴趣的学校社团机构中，如：乐行社、文学社、歌舞社，在这些社团机构中即体会到与大家齐心协力完成任务的乐趣，结交了志趣相投的朋友，锻炼了自己的组织才干，授予匪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学校我一直把学习放在第一位，大一上学期在我的努力下拿到了二等奖学金，成绩一直都排在前，在努力学习专业的同时，我积极寻找接触社会、增加社会经验的机会。三年时间里做过好几份临工，在这过程中增强了自己工作独立性、主动性、创造性，大大的开阔了我的眼界、改变了我的思维方式，也加深我对社会的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坚信，在一个精诚团结锐意进取的集体中，在仁爱领导的明泽和提携下，初出世的学子足能兵可成将、木可成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敬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荐人：王忠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8:03:18Z</dcterms:created>
  <dc:creator>pc</dc:creator>
  <dc:description/>
  <cp:keywords>www.eeppt.com</cp:keywords>
  <dc:language>en-US</dc:language>
  <cp:lastModifiedBy>admin</cp:lastModifiedBy>
  <dcterms:modified xsi:type="dcterms:W3CDTF">2015-08-11T14:20:57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