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Users\Wang.Lei\Desktop\新图片.jpg"/>
          <p:cNvPicPr/>
          <p:nvPr/>
        </p:nvPicPr>
        <p:blipFill>
          <a:blip r:embed="rId2"/>
          <a:stretch/>
        </p:blipFill>
        <p:spPr>
          <a:xfrm>
            <a:off x="0" y="-237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733840" y="19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求职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52600" y="549000"/>
            <a:ext cx="70912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您的一块砖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里需要哪里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09640" y="234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样例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3"/>
          <p:cNvGrpSpPr/>
          <p:nvPr/>
        </p:nvGrpSpPr>
        <p:grpSpPr>
          <a:xfrm>
            <a:off x="538200" y="4915080"/>
            <a:ext cx="2035800" cy="1379520"/>
            <a:chOff x="538200" y="4915080"/>
            <a:chExt cx="2035800" cy="1379520"/>
          </a:xfrm>
        </p:grpSpPr>
        <p:sp>
          <p:nvSpPr>
            <p:cNvPr id="46" name="Text Box 6"/>
            <p:cNvSpPr/>
            <p:nvPr/>
          </p:nvSpPr>
          <p:spPr>
            <a:xfrm>
              <a:off x="1383840" y="506772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9~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0"/>
            <p:cNvSpPr/>
            <p:nvPr/>
          </p:nvSpPr>
          <p:spPr>
            <a:xfrm>
              <a:off x="538200" y="4915080"/>
              <a:ext cx="9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25"/>
            <p:cNvSpPr/>
            <p:nvPr/>
          </p:nvSpPr>
          <p:spPr>
            <a:xfrm>
              <a:off x="576000" y="5437440"/>
              <a:ext cx="1962720" cy="857160"/>
            </a:xfrm>
            <a:prstGeom prst="rect">
              <a:avLst/>
            </a:prstGeom>
            <a:solidFill>
              <a:srgbClr val="ced1bc"/>
            </a:solidFill>
            <a:ln w="25560">
              <a:solidFill>
                <a:srgbClr val="ced1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8"/>
            <p:cNvSpPr/>
            <p:nvPr/>
          </p:nvSpPr>
          <p:spPr>
            <a:xfrm>
              <a:off x="609840" y="5508720"/>
              <a:ext cx="19641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哈尔滨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算机科学与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直接连接符 27"/>
          <p:cNvSpPr/>
          <p:nvPr/>
        </p:nvSpPr>
        <p:spPr>
          <a:xfrm flipV="1">
            <a:off x="2536920" y="5006520"/>
            <a:ext cx="1440" cy="644760"/>
          </a:xfrm>
          <a:prstGeom prst="line">
            <a:avLst/>
          </a:prstGeom>
          <a:ln w="28440">
            <a:solidFill>
              <a:srgbClr val="ced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9"/>
          <p:cNvSpPr/>
          <p:nvPr/>
        </p:nvSpPr>
        <p:spPr>
          <a:xfrm flipV="1">
            <a:off x="4497480" y="3720600"/>
            <a:ext cx="1440" cy="644760"/>
          </a:xfrm>
          <a:prstGeom prst="line">
            <a:avLst/>
          </a:prstGeom>
          <a:ln w="28440">
            <a:solidFill>
              <a:srgbClr val="ced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1"/>
          <p:cNvSpPr/>
          <p:nvPr/>
        </p:nvSpPr>
        <p:spPr>
          <a:xfrm flipV="1">
            <a:off x="6458040" y="2435400"/>
            <a:ext cx="1440" cy="644400"/>
          </a:xfrm>
          <a:prstGeom prst="line">
            <a:avLst/>
          </a:prstGeom>
          <a:ln w="28440">
            <a:solidFill>
              <a:srgbClr val="ced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34"/>
          <p:cNvGrpSpPr/>
          <p:nvPr/>
        </p:nvGrpSpPr>
        <p:grpSpPr>
          <a:xfrm>
            <a:off x="2467080" y="3629160"/>
            <a:ext cx="2031840" cy="1377720"/>
            <a:chOff x="2467080" y="3629160"/>
            <a:chExt cx="2031840" cy="1377720"/>
          </a:xfrm>
        </p:grpSpPr>
        <p:sp>
          <p:nvSpPr>
            <p:cNvPr id="54" name="Text Box 8"/>
            <p:cNvSpPr/>
            <p:nvPr/>
          </p:nvSpPr>
          <p:spPr>
            <a:xfrm>
              <a:off x="3311640" y="378180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3~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20"/>
            <p:cNvSpPr/>
            <p:nvPr/>
          </p:nvSpPr>
          <p:spPr>
            <a:xfrm>
              <a:off x="2467080" y="3629160"/>
              <a:ext cx="9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8"/>
            <p:cNvSpPr/>
            <p:nvPr/>
          </p:nvSpPr>
          <p:spPr>
            <a:xfrm>
              <a:off x="2537640" y="4150080"/>
              <a:ext cx="1961280" cy="856800"/>
            </a:xfrm>
            <a:prstGeom prst="rect">
              <a:avLst/>
            </a:prstGeom>
            <a:solidFill>
              <a:srgbClr val="ced1bc"/>
            </a:solidFill>
            <a:ln w="25560">
              <a:solidFill>
                <a:srgbClr val="ced1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2522520" y="4222440"/>
              <a:ext cx="1944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软件技术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软件工程师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35"/>
          <p:cNvGrpSpPr/>
          <p:nvPr/>
        </p:nvGrpSpPr>
        <p:grpSpPr>
          <a:xfrm>
            <a:off x="4395960" y="2341440"/>
            <a:ext cx="2065320" cy="1381320"/>
            <a:chOff x="4395960" y="2341440"/>
            <a:chExt cx="2065320" cy="1381320"/>
          </a:xfrm>
        </p:grpSpPr>
        <p:sp>
          <p:nvSpPr>
            <p:cNvPr id="59" name="Text Box 10"/>
            <p:cNvSpPr/>
            <p:nvPr/>
          </p:nvSpPr>
          <p:spPr>
            <a:xfrm>
              <a:off x="5241960" y="249516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4~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1"/>
            <p:cNvSpPr/>
            <p:nvPr/>
          </p:nvSpPr>
          <p:spPr>
            <a:xfrm>
              <a:off x="4395960" y="2341440"/>
              <a:ext cx="95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销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0"/>
            <p:cNvSpPr/>
            <p:nvPr/>
          </p:nvSpPr>
          <p:spPr>
            <a:xfrm>
              <a:off x="4498200" y="2864880"/>
              <a:ext cx="1963080" cy="857880"/>
            </a:xfrm>
            <a:prstGeom prst="rect">
              <a:avLst/>
            </a:prstGeom>
            <a:solidFill>
              <a:srgbClr val="ced1bc"/>
            </a:solidFill>
            <a:ln w="25560">
              <a:solidFill>
                <a:srgbClr val="ced1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4722120" y="2970360"/>
              <a:ext cx="135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技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销售经理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5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6"/>
          <p:cNvGrpSpPr/>
          <p:nvPr/>
        </p:nvGrpSpPr>
        <p:grpSpPr>
          <a:xfrm>
            <a:off x="6372360" y="1071720"/>
            <a:ext cx="2057400" cy="1365120"/>
            <a:chOff x="6372360" y="1071720"/>
            <a:chExt cx="2057400" cy="1365120"/>
          </a:xfrm>
        </p:grpSpPr>
        <p:sp>
          <p:nvSpPr>
            <p:cNvPr id="64" name="Text Box 11"/>
            <p:cNvSpPr/>
            <p:nvPr/>
          </p:nvSpPr>
          <p:spPr>
            <a:xfrm>
              <a:off x="7249320" y="1209960"/>
              <a:ext cx="102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7~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1"/>
            <p:cNvSpPr/>
            <p:nvPr/>
          </p:nvSpPr>
          <p:spPr>
            <a:xfrm>
              <a:off x="6372360" y="107172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2"/>
            <p:cNvSpPr/>
            <p:nvPr/>
          </p:nvSpPr>
          <p:spPr>
            <a:xfrm>
              <a:off x="6467760" y="1579320"/>
              <a:ext cx="1962000" cy="857520"/>
            </a:xfrm>
            <a:prstGeom prst="rect">
              <a:avLst/>
            </a:prstGeom>
            <a:solidFill>
              <a:srgbClr val="ced1bc"/>
            </a:solidFill>
            <a:ln w="25560">
              <a:solidFill>
                <a:srgbClr val="ced1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6379560" y="1709640"/>
              <a:ext cx="204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技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经理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"/>
          <p:cNvSpPr/>
          <p:nvPr/>
        </p:nvSpPr>
        <p:spPr>
          <a:xfrm>
            <a:off x="299880" y="411120"/>
            <a:ext cx="852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3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力领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2"/>
          <p:cNvGrpSpPr/>
          <p:nvPr/>
        </p:nvGrpSpPr>
        <p:grpSpPr>
          <a:xfrm>
            <a:off x="357120" y="1822320"/>
            <a:ext cx="2874960" cy="2495880"/>
            <a:chOff x="357120" y="1822320"/>
            <a:chExt cx="2874960" cy="2495880"/>
          </a:xfrm>
        </p:grpSpPr>
        <p:sp>
          <p:nvSpPr>
            <p:cNvPr id="71" name="Text Box 45"/>
            <p:cNvSpPr/>
            <p:nvPr/>
          </p:nvSpPr>
          <p:spPr>
            <a:xfrm>
              <a:off x="357120" y="2309760"/>
              <a:ext cx="2229120" cy="20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品牌和方案推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近百场公开讲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市场调查和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市场销售材料规划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精通</a:t>
              </a:r>
              <a:r>
                <a:rPr b="0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复旦</a:t>
              </a:r>
              <a:r>
                <a:rPr b="0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MBA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课程学习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4"/>
            <p:cNvSpPr/>
            <p:nvPr/>
          </p:nvSpPr>
          <p:spPr>
            <a:xfrm>
              <a:off x="357120" y="1952280"/>
              <a:ext cx="154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市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57120" y="1822320"/>
              <a:ext cx="2874960" cy="360"/>
              <a:chOff x="357120" y="1822320"/>
              <a:chExt cx="2874960" cy="360"/>
            </a:xfrm>
          </p:grpSpPr>
          <p:sp>
            <p:nvSpPr>
              <p:cNvPr id="74" name="Line 40"/>
              <p:cNvSpPr/>
              <p:nvPr/>
            </p:nvSpPr>
            <p:spPr>
              <a:xfrm flipH="1">
                <a:off x="357120" y="1822320"/>
                <a:ext cx="2874960" cy="0"/>
              </a:xfrm>
              <a:prstGeom prst="line">
                <a:avLst/>
              </a:prstGeom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57120" y="1822320"/>
                <a:ext cx="287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组合 19"/>
          <p:cNvGrpSpPr/>
          <p:nvPr/>
        </p:nvGrpSpPr>
        <p:grpSpPr>
          <a:xfrm>
            <a:off x="5978520" y="1822320"/>
            <a:ext cx="2914560" cy="1025640"/>
            <a:chOff x="5978520" y="1822320"/>
            <a:chExt cx="2914560" cy="1025640"/>
          </a:xfrm>
        </p:grpSpPr>
        <p:sp>
          <p:nvSpPr>
            <p:cNvPr id="77" name="Text Box 8"/>
            <p:cNvSpPr/>
            <p:nvPr/>
          </p:nvSpPr>
          <p:spPr>
            <a:xfrm>
              <a:off x="6664320" y="2310120"/>
              <a:ext cx="22287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建立高效团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跨部门项目协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7275600" y="1952640"/>
              <a:ext cx="161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978520" y="1822320"/>
              <a:ext cx="2889360" cy="360"/>
              <a:chOff x="5978520" y="1822320"/>
              <a:chExt cx="2889360" cy="360"/>
            </a:xfrm>
          </p:grpSpPr>
          <p:sp>
            <p:nvSpPr>
              <p:cNvPr id="80" name="Line 41"/>
              <p:cNvSpPr/>
              <p:nvPr/>
            </p:nvSpPr>
            <p:spPr>
              <a:xfrm flipH="1">
                <a:off x="5978520" y="1822320"/>
                <a:ext cx="2889360" cy="0"/>
              </a:xfrm>
              <a:prstGeom prst="line">
                <a:avLst/>
              </a:prstGeom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5978520" y="1822320"/>
                <a:ext cx="288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组合 20"/>
          <p:cNvGrpSpPr/>
          <p:nvPr/>
        </p:nvGrpSpPr>
        <p:grpSpPr>
          <a:xfrm>
            <a:off x="6143400" y="3041640"/>
            <a:ext cx="2719440" cy="1007640"/>
            <a:chOff x="6143400" y="3041640"/>
            <a:chExt cx="2719440" cy="1007640"/>
          </a:xfrm>
        </p:grpSpPr>
        <p:sp>
          <p:nvSpPr>
            <p:cNvPr id="83" name="Text Box 8"/>
            <p:cNvSpPr/>
            <p:nvPr/>
          </p:nvSpPr>
          <p:spPr>
            <a:xfrm>
              <a:off x="6143760" y="3511440"/>
              <a:ext cx="271908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学习能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深入产品本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7245360" y="3154320"/>
              <a:ext cx="161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43400" y="3041640"/>
              <a:ext cx="2694240" cy="360"/>
              <a:chOff x="6143400" y="3041640"/>
              <a:chExt cx="2694240" cy="360"/>
            </a:xfrm>
          </p:grpSpPr>
          <p:sp>
            <p:nvSpPr>
              <p:cNvPr id="86" name="Line 41"/>
              <p:cNvSpPr/>
              <p:nvPr/>
            </p:nvSpPr>
            <p:spPr>
              <a:xfrm flipH="1">
                <a:off x="6143400" y="3041640"/>
                <a:ext cx="2693880" cy="0"/>
              </a:xfrm>
              <a:prstGeom prst="line">
                <a:avLst/>
              </a:prstGeom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6143760" y="3041640"/>
                <a:ext cx="269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组合 21"/>
          <p:cNvGrpSpPr/>
          <p:nvPr/>
        </p:nvGrpSpPr>
        <p:grpSpPr>
          <a:xfrm>
            <a:off x="6000480" y="4319640"/>
            <a:ext cx="2880000" cy="1007640"/>
            <a:chOff x="6000480" y="4319640"/>
            <a:chExt cx="2880000" cy="1007640"/>
          </a:xfrm>
        </p:grpSpPr>
        <p:sp>
          <p:nvSpPr>
            <p:cNvPr id="89" name="Text Box 8"/>
            <p:cNvSpPr/>
            <p:nvPr/>
          </p:nvSpPr>
          <p:spPr>
            <a:xfrm>
              <a:off x="6156000" y="4789440"/>
              <a:ext cx="271908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挖掘客户需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商务谈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7257960" y="4432320"/>
              <a:ext cx="161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销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000480" y="4319640"/>
              <a:ext cx="2880000" cy="360"/>
              <a:chOff x="6000480" y="4319640"/>
              <a:chExt cx="2880000" cy="360"/>
            </a:xfrm>
          </p:grpSpPr>
          <p:sp>
            <p:nvSpPr>
              <p:cNvPr id="92" name="Line 41"/>
              <p:cNvSpPr/>
              <p:nvPr/>
            </p:nvSpPr>
            <p:spPr>
              <a:xfrm flipH="1">
                <a:off x="6000480" y="4319640"/>
                <a:ext cx="2879640" cy="0"/>
              </a:xfrm>
              <a:prstGeom prst="line">
                <a:avLst/>
              </a:prstGeom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6000840" y="4319640"/>
                <a:ext cx="287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4" name="图表 3" descr=""/>
          <p:cNvPicPr/>
          <p:nvPr/>
        </p:nvPicPr>
        <p:blipFill>
          <a:blip r:embed="rId2"/>
          <a:stretch/>
        </p:blipFill>
        <p:spPr>
          <a:xfrm>
            <a:off x="1235160" y="1393920"/>
            <a:ext cx="662472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403360" y="4716360"/>
            <a:ext cx="4287960" cy="665280"/>
          </a:xfrm>
          <a:prstGeom prst="rect">
            <a:avLst/>
          </a:prstGeom>
          <a:ln w="0">
            <a:noFill/>
          </a:ln>
        </p:spPr>
      </p:pic>
      <p:sp>
        <p:nvSpPr>
          <p:cNvPr id="96" name="Oval 10"/>
          <p:cNvSpPr/>
          <p:nvPr/>
        </p:nvSpPr>
        <p:spPr>
          <a:xfrm>
            <a:off x="3892680" y="2933640"/>
            <a:ext cx="1360440" cy="135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特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2714760" y="1827360"/>
            <a:ext cx="614340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a9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近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产品市场经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714760" y="2332080"/>
            <a:ext cx="6143400" cy="330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a9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领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A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MI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市场导入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产品价格策略，协助定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产品市场推广方案并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、大中型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研讨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8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动产品进入目标行业（电力、铁路、环保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证公司市场的领先性，提高公司曝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网站、产品型录、宣传页等相关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销售工具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99880" y="411120"/>
            <a:ext cx="852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表 26" descr=""/>
          <p:cNvPicPr/>
          <p:nvPr/>
        </p:nvPicPr>
        <p:blipFill>
          <a:blip r:embed="rId2"/>
          <a:stretch/>
        </p:blipFill>
        <p:spPr>
          <a:xfrm>
            <a:off x="-139680" y="1566720"/>
            <a:ext cx="320688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饼形 1"/>
          <p:cNvSpPr/>
          <p:nvPr/>
        </p:nvSpPr>
        <p:spPr>
          <a:xfrm rot="12960000">
            <a:off x="380520" y="1815840"/>
            <a:ext cx="1606680" cy="15714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业绩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8"/>
          <p:cNvSpPr/>
          <p:nvPr/>
        </p:nvSpPr>
        <p:spPr>
          <a:xfrm>
            <a:off x="700200" y="1828800"/>
            <a:ext cx="2028600" cy="3843360"/>
          </a:xfrm>
          <a:prstGeom prst="pie">
            <a:avLst/>
          </a:prstGeom>
          <a:solidFill>
            <a:srgbClr val="8a9262">
              <a:alpha val="50000"/>
            </a:srgbClr>
          </a:solidFill>
          <a:ln w="9360">
            <a:solidFill>
              <a:srgbClr val="8a9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d5d5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2"/>
          <p:cNvSpPr/>
          <p:nvPr/>
        </p:nvSpPr>
        <p:spPr>
          <a:xfrm>
            <a:off x="469800" y="1817640"/>
            <a:ext cx="2244960" cy="3968640"/>
          </a:xfrm>
          <a:prstGeom prst="pie">
            <a:avLst/>
          </a:prstGeom>
          <a:solidFill>
            <a:srgbClr val="917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299880" y="411120"/>
            <a:ext cx="852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表 26" descr=""/>
          <p:cNvPicPr/>
          <p:nvPr/>
        </p:nvPicPr>
        <p:blipFill>
          <a:blip r:embed="rId2"/>
          <a:stretch/>
        </p:blipFill>
        <p:spPr>
          <a:xfrm>
            <a:off x="-139680" y="1566720"/>
            <a:ext cx="3206880" cy="1924200"/>
          </a:xfrm>
          <a:prstGeom prst="rect">
            <a:avLst/>
          </a:prstGeom>
          <a:ln w="0">
            <a:noFill/>
          </a:ln>
        </p:spPr>
      </p:pic>
      <p:sp>
        <p:nvSpPr>
          <p:cNvPr id="108" name="饼形 1"/>
          <p:cNvSpPr/>
          <p:nvPr/>
        </p:nvSpPr>
        <p:spPr>
          <a:xfrm rot="12397200">
            <a:off x="388440" y="1819080"/>
            <a:ext cx="1605240" cy="15602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经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714760" y="1827360"/>
            <a:ext cx="614340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917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、销售和技术经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714760" y="2332080"/>
            <a:ext cx="6143400" cy="345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7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100000"/>
              </a:lnSpc>
              <a:spcBef>
                <a:spcPts val="1199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管理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研发、销售、技术支持等多部门良好互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擅长跨部门项目（研讨会、内训、网站搭建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销售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华南地区销售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经销商销售人员数百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技术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独立完成首都机场广播系统项目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2"/>
          <p:cNvSpPr/>
          <p:nvPr/>
        </p:nvSpPr>
        <p:spPr>
          <a:xfrm>
            <a:off x="5072040" y="1835280"/>
            <a:ext cx="3814920" cy="2371680"/>
          </a:xfrm>
          <a:prstGeom prst="pie">
            <a:avLst/>
          </a:prstGeom>
          <a:solidFill>
            <a:srgbClr val="5c61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318960" y="3214800"/>
            <a:ext cx="3610080" cy="2571480"/>
          </a:xfrm>
          <a:prstGeom prst="pie">
            <a:avLst/>
          </a:prstGeom>
          <a:solidFill>
            <a:srgbClr val="604a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29988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99880" y="411120"/>
            <a:ext cx="852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463680" y="3143160"/>
            <a:ext cx="182232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收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名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名市场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名销售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名工程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名优秀讲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6572160" y="1643040"/>
            <a:ext cx="22860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收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热爱的领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施展舞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受尊敬的雇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发展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份体面的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 rot="5400000">
            <a:off x="4514760" y="2342880"/>
            <a:ext cx="11448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创双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7"/>
          <p:cNvGrpSpPr/>
          <p:nvPr/>
        </p:nvGrpSpPr>
        <p:grpSpPr>
          <a:xfrm>
            <a:off x="1951200" y="1548000"/>
            <a:ext cx="4841280" cy="4533840"/>
            <a:chOff x="1951200" y="1548000"/>
            <a:chExt cx="4841280" cy="4533840"/>
          </a:xfrm>
        </p:grpSpPr>
        <p:grpSp>
          <p:nvGrpSpPr>
            <p:cNvPr id="124" name="Group 13"/>
            <p:cNvGrpSpPr/>
            <p:nvPr/>
          </p:nvGrpSpPr>
          <p:grpSpPr>
            <a:xfrm>
              <a:off x="1951200" y="1714680"/>
              <a:ext cx="4841280" cy="4367160"/>
              <a:chOff x="1951200" y="1714680"/>
              <a:chExt cx="4841280" cy="4367160"/>
            </a:xfrm>
          </p:grpSpPr>
          <p:grpSp>
            <p:nvGrpSpPr>
              <p:cNvPr id="125" name="Group 14"/>
              <p:cNvGrpSpPr/>
              <p:nvPr/>
            </p:nvGrpSpPr>
            <p:grpSpPr>
              <a:xfrm>
                <a:off x="1951200" y="3195720"/>
                <a:ext cx="4226760" cy="2886120"/>
                <a:chOff x="1951200" y="3195720"/>
                <a:chExt cx="4226760" cy="2886120"/>
              </a:xfrm>
            </p:grpSpPr>
            <p:sp>
              <p:nvSpPr>
                <p:cNvPr id="126" name="Freeform 41"/>
                <p:cNvSpPr/>
                <p:nvPr/>
              </p:nvSpPr>
              <p:spPr>
                <a:xfrm>
                  <a:off x="1951200" y="3195720"/>
                  <a:ext cx="4125600" cy="2862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2"/>
                <p:cNvSpPr/>
                <p:nvPr/>
              </p:nvSpPr>
              <p:spPr>
                <a:xfrm>
                  <a:off x="3138120" y="4221360"/>
                  <a:ext cx="3039840" cy="186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3"/>
                <p:cNvSpPr/>
                <p:nvPr/>
              </p:nvSpPr>
              <p:spPr>
                <a:xfrm>
                  <a:off x="2604960" y="3279960"/>
                  <a:ext cx="617040" cy="165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18"/>
              <p:cNvGrpSpPr/>
              <p:nvPr/>
            </p:nvGrpSpPr>
            <p:grpSpPr>
              <a:xfrm>
                <a:off x="2901600" y="1714680"/>
                <a:ext cx="3890880" cy="2492280"/>
                <a:chOff x="2901600" y="1714680"/>
                <a:chExt cx="3890880" cy="2492280"/>
              </a:xfrm>
            </p:grpSpPr>
            <p:sp>
              <p:nvSpPr>
                <p:cNvPr id="130" name="Freeform 46"/>
                <p:cNvSpPr/>
                <p:nvPr/>
              </p:nvSpPr>
              <p:spPr>
                <a:xfrm>
                  <a:off x="6198840" y="2594160"/>
                  <a:ext cx="414360" cy="161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Group 20"/>
                <p:cNvGrpSpPr/>
                <p:nvPr/>
              </p:nvGrpSpPr>
              <p:grpSpPr>
                <a:xfrm>
                  <a:off x="2901600" y="1714680"/>
                  <a:ext cx="3890880" cy="2492280"/>
                  <a:chOff x="2901600" y="1714680"/>
                  <a:chExt cx="3890880" cy="2492280"/>
                </a:xfrm>
              </p:grpSpPr>
              <p:sp>
                <p:nvSpPr>
                  <p:cNvPr id="132" name="Freeform 48"/>
                  <p:cNvSpPr/>
                  <p:nvPr/>
                </p:nvSpPr>
                <p:spPr>
                  <a:xfrm>
                    <a:off x="5595480" y="3883320"/>
                    <a:ext cx="698760" cy="323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22"/>
                  <p:cNvGrpSpPr/>
                  <p:nvPr/>
                </p:nvGrpSpPr>
                <p:grpSpPr>
                  <a:xfrm>
                    <a:off x="2901600" y="1714680"/>
                    <a:ext cx="3890880" cy="2338560"/>
                    <a:chOff x="2901600" y="1714680"/>
                    <a:chExt cx="3890880" cy="2338560"/>
                  </a:xfrm>
                </p:grpSpPr>
                <p:sp>
                  <p:nvSpPr>
                    <p:cNvPr id="134" name="Freeform 45"/>
                    <p:cNvSpPr/>
                    <p:nvPr/>
                  </p:nvSpPr>
                  <p:spPr>
                    <a:xfrm>
                      <a:off x="2901600" y="1714680"/>
                      <a:ext cx="3890880" cy="233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Freeform 47"/>
                    <p:cNvSpPr/>
                    <p:nvPr/>
                  </p:nvSpPr>
                  <p:spPr>
                    <a:xfrm>
                      <a:off x="3169800" y="1995840"/>
                      <a:ext cx="2549520" cy="1311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49"/>
                    <p:cNvSpPr/>
                    <p:nvPr/>
                  </p:nvSpPr>
                  <p:spPr>
                    <a:xfrm>
                      <a:off x="2901600" y="3111840"/>
                      <a:ext cx="395280" cy="19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7" name="WordArt 51"/>
            <p:cNvSpPr/>
            <p:nvPr/>
          </p:nvSpPr>
          <p:spPr>
            <a:xfrm rot="1871400">
              <a:off x="2540880" y="3697560"/>
              <a:ext cx="2097000" cy="1717560"/>
            </a:xfrm>
            <a:custGeom>
              <a:avLst/>
              <a:gdLst>
                <a:gd name="textAreaLeft" fmla="*/ 0 w 2097000"/>
                <a:gd name="textAreaRight" fmla="*/ 2097000 w 209700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54" y="16036"/>
                  </a:moveTo>
                  <a:arcTo wR="10800" hR="10800" stAng="9059995" swAng="-731999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WordArt 58"/>
            <p:cNvSpPr/>
            <p:nvPr/>
          </p:nvSpPr>
          <p:spPr>
            <a:xfrm rot="2571600">
              <a:off x="3474360" y="1873440"/>
              <a:ext cx="2250720" cy="3295800"/>
            </a:xfrm>
            <a:custGeom>
              <a:avLst/>
              <a:gdLst>
                <a:gd name="textAreaLeft" fmla="*/ 0 w 2250720"/>
                <a:gd name="textAreaRight" fmla="*/ 2250720 w 2250720"/>
                <a:gd name="textAreaTop" fmla="*/ 0 h 3295800"/>
                <a:gd name="textAreaBottom" fmla="*/ 3296160 h 329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18" y="1615"/>
                  </a:moveTo>
                  <a:arcTo wR="10800" hR="10800" stAng="-7304405" swAng="380881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2971800" y="2376720"/>
            <a:ext cx="2606760" cy="2569320"/>
            <a:chOff x="2971800" y="2376720"/>
            <a:chExt cx="2606760" cy="2569320"/>
          </a:xfrm>
        </p:grpSpPr>
        <p:sp>
          <p:nvSpPr>
            <p:cNvPr id="140" name="Oval 60"/>
            <p:cNvSpPr/>
            <p:nvPr/>
          </p:nvSpPr>
          <p:spPr>
            <a:xfrm rot="2803800">
              <a:off x="3571920" y="2541240"/>
              <a:ext cx="1401840" cy="2224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 rot="19016400">
              <a:off x="3165120" y="2939760"/>
              <a:ext cx="2219400" cy="1442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1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1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2:41:01Z</dcterms:created>
  <dc:creator>pc</dc:creator>
  <dc:description/>
  <cp:keywords>www.eeppt.com</cp:keywords>
  <dc:language>en-US</dc:language>
  <cp:lastModifiedBy>for_yang@qq.com</cp:lastModifiedBy>
  <dcterms:modified xsi:type="dcterms:W3CDTF">2015-08-11T14:20:52Z</dcterms:modified>
  <cp:revision>6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