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BE97-2C98-4246-89C4-5F2AF386A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32DA-54F8-46D3-82FF-E5D108179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676D-A14A-46A2-A460-4776CB15B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4897-1311-4F9B-847E-86B5C6201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D6CD-15D7-4AA8-85EC-AD291F0E9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EA09-844F-4678-B0FF-63F81A238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20F3-ED9A-414D-9C45-24C2460E6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B07A-5FD1-4BAC-B295-7E190BA41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6D5C-878B-4B6A-8D9F-F70AB40B8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ACB6-5761-4499-849B-1F6106418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6D16-492A-44FD-82F8-D6AF60E54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4EF8-B65F-4FB2-9AC3-906E75C1F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6A563-94FA-4626-96E9-F925D778D2F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3" descr=""/>
          <p:cNvPicPr/>
          <p:nvPr/>
        </p:nvPicPr>
        <p:blipFill>
          <a:blip r:embed="rId1"/>
          <a:srcRect l="0" t="6383" r="0" b="0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矩形 7"/>
          <p:cNvSpPr/>
          <p:nvPr/>
        </p:nvSpPr>
        <p:spPr>
          <a:xfrm>
            <a:off x="0" y="4529160"/>
            <a:ext cx="12192120" cy="2328840"/>
          </a:xfrm>
          <a:prstGeom prst="rect">
            <a:avLst/>
          </a:prstGeom>
          <a:solidFill>
            <a:srgbClr val="ffffff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直接连接符 6"/>
          <p:cNvSpPr/>
          <p:nvPr/>
        </p:nvSpPr>
        <p:spPr>
          <a:xfrm>
            <a:off x="0" y="4481640"/>
            <a:ext cx="12192120" cy="0"/>
          </a:xfrm>
          <a:prstGeom prst="line">
            <a:avLst/>
          </a:prstGeom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文本框 8"/>
          <p:cNvSpPr/>
          <p:nvPr/>
        </p:nvSpPr>
        <p:spPr>
          <a:xfrm>
            <a:off x="2971800" y="5232240"/>
            <a:ext cx="299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汇报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直接连接符 10"/>
          <p:cNvSpPr/>
          <p:nvPr/>
        </p:nvSpPr>
        <p:spPr>
          <a:xfrm>
            <a:off x="6105600" y="5022720"/>
            <a:ext cx="0" cy="14065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文本框 11"/>
          <p:cNvSpPr/>
          <p:nvPr/>
        </p:nvSpPr>
        <p:spPr>
          <a:xfrm>
            <a:off x="6246720" y="5248440"/>
            <a:ext cx="2940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张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5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7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日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3284640" y="3710160"/>
            <a:ext cx="546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个人商务工作汇报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0" name="矩形 5"/>
          <p:cNvGrpSpPr/>
          <p:nvPr/>
        </p:nvGrpSpPr>
        <p:grpSpPr>
          <a:xfrm>
            <a:off x="542880" y="669960"/>
            <a:ext cx="11099880" cy="5584680"/>
            <a:chOff x="542880" y="669960"/>
            <a:chExt cx="11099880" cy="5584680"/>
          </a:xfrm>
        </p:grpSpPr>
        <p:pic>
          <p:nvPicPr>
            <p:cNvPr id="51" name="矩形 5" descr=""/>
            <p:cNvPicPr/>
            <p:nvPr/>
          </p:nvPicPr>
          <p:blipFill>
            <a:blip r:embed="rId2"/>
            <a:stretch/>
          </p:blipFill>
          <p:spPr>
            <a:xfrm>
              <a:off x="542880" y="669960"/>
              <a:ext cx="11099880" cy="558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717480" y="795240"/>
              <a:ext cx="10747440" cy="533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    </a:t>
              </a:r>
              <a:r>
                <a:rPr b="0" lang="en-US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.</a:t>
              </a:r>
              <a:r>
                <a:rPr b="0" lang="zh-CN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本文本文本文本文本文本文本文本文本；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    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    </a:t>
              </a:r>
              <a:r>
                <a:rPr b="0" lang="en-US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.</a:t>
              </a:r>
              <a:r>
                <a:rPr b="0" lang="zh-CN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本文本文本文本文本文本文本文本文本；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    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    </a:t>
              </a:r>
              <a:r>
                <a:rPr b="0" lang="en-US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.</a:t>
              </a:r>
              <a:r>
                <a:rPr b="0" lang="zh-CN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本文本文本文本文本文本文本文本文本。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3" name="矩形 4"/>
          <p:cNvGrpSpPr/>
          <p:nvPr/>
        </p:nvGrpSpPr>
        <p:grpSpPr>
          <a:xfrm>
            <a:off x="7869240" y="219240"/>
            <a:ext cx="3998880" cy="1390320"/>
            <a:chOff x="7869240" y="219240"/>
            <a:chExt cx="3998880" cy="1390320"/>
          </a:xfrm>
        </p:grpSpPr>
        <p:pic>
          <p:nvPicPr>
            <p:cNvPr id="54" name="矩形 4" descr=""/>
            <p:cNvPicPr/>
            <p:nvPr/>
          </p:nvPicPr>
          <p:blipFill>
            <a:blip r:embed="rId3"/>
            <a:stretch/>
          </p:blipFill>
          <p:spPr>
            <a:xfrm>
              <a:off x="7869240" y="219240"/>
              <a:ext cx="3998880" cy="139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7891560" y="309240"/>
              <a:ext cx="3897360" cy="9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本文本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7" name="矩形 5"/>
          <p:cNvGrpSpPr/>
          <p:nvPr/>
        </p:nvGrpSpPr>
        <p:grpSpPr>
          <a:xfrm>
            <a:off x="542880" y="669960"/>
            <a:ext cx="11099880" cy="5584680"/>
            <a:chOff x="542880" y="669960"/>
            <a:chExt cx="11099880" cy="5584680"/>
          </a:xfrm>
        </p:grpSpPr>
        <p:pic>
          <p:nvPicPr>
            <p:cNvPr id="58" name="矩形 5" descr=""/>
            <p:cNvPicPr/>
            <p:nvPr/>
          </p:nvPicPr>
          <p:blipFill>
            <a:blip r:embed="rId2"/>
            <a:stretch/>
          </p:blipFill>
          <p:spPr>
            <a:xfrm>
              <a:off x="542880" y="669960"/>
              <a:ext cx="11099880" cy="558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717480" y="795240"/>
              <a:ext cx="10747440" cy="533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    </a:t>
              </a:r>
              <a:r>
                <a:rPr b="0" lang="en-US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.</a:t>
              </a:r>
              <a:r>
                <a:rPr b="0" lang="zh-CN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本文本文本文本文本文本文本文本文本；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    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    </a:t>
              </a:r>
              <a:r>
                <a:rPr b="0" lang="en-US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.</a:t>
              </a:r>
              <a:r>
                <a:rPr b="0" lang="zh-CN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本文本文本文本文本文本文本文本文本；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    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    </a:t>
              </a:r>
              <a:r>
                <a:rPr b="0" lang="en-US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.</a:t>
              </a:r>
              <a:r>
                <a:rPr b="0" lang="zh-CN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本文本文本文本文本文本文本文本文本。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0" name="矩形 4"/>
          <p:cNvSpPr/>
          <p:nvPr/>
        </p:nvSpPr>
        <p:spPr>
          <a:xfrm>
            <a:off x="7891560" y="309600"/>
            <a:ext cx="3897360" cy="969840"/>
          </a:xfrm>
          <a:prstGeom prst="rect">
            <a:avLst/>
          </a:prstGeom>
          <a:gradFill rotWithShape="0">
            <a:gsLst>
              <a:gs pos="0">
                <a:srgbClr val="81b861"/>
              </a:gs>
              <a:gs pos="100000">
                <a:srgbClr val="61a235"/>
              </a:gs>
            </a:gsLst>
            <a:lin ang="5400000"/>
          </a:gradFill>
          <a:ln w="0">
            <a:noFill/>
          </a:ln>
          <a:effectLst>
            <a:outerShdw dist="19080" dir="5400000" blurRad="0" rotWithShape="0">
              <a:srgbClr val="000000">
                <a:alpha val="61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文本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2" name="矩形 5"/>
          <p:cNvGrpSpPr/>
          <p:nvPr/>
        </p:nvGrpSpPr>
        <p:grpSpPr>
          <a:xfrm>
            <a:off x="542880" y="669960"/>
            <a:ext cx="11099880" cy="5584680"/>
            <a:chOff x="542880" y="669960"/>
            <a:chExt cx="11099880" cy="5584680"/>
          </a:xfrm>
        </p:grpSpPr>
        <p:pic>
          <p:nvPicPr>
            <p:cNvPr id="63" name="矩形 5" descr=""/>
            <p:cNvPicPr/>
            <p:nvPr/>
          </p:nvPicPr>
          <p:blipFill>
            <a:blip r:embed="rId2"/>
            <a:stretch/>
          </p:blipFill>
          <p:spPr>
            <a:xfrm>
              <a:off x="542880" y="669960"/>
              <a:ext cx="11099880" cy="558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717480" y="795240"/>
              <a:ext cx="10747440" cy="533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    </a:t>
              </a:r>
              <a:r>
                <a:rPr b="0" lang="en-US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.</a:t>
              </a:r>
              <a:r>
                <a:rPr b="0" lang="zh-CN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本文本文本文本文本文本文本文本文本；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    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    </a:t>
              </a:r>
              <a:r>
                <a:rPr b="0" lang="en-US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.</a:t>
              </a:r>
              <a:r>
                <a:rPr b="0" lang="zh-CN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本文本文本文本文本文本文本文本文本；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    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    </a:t>
              </a:r>
              <a:r>
                <a:rPr b="0" lang="en-US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.</a:t>
              </a:r>
              <a:r>
                <a:rPr b="0" lang="zh-CN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本文本文本文本文本文本文本文本文本。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5" name="矩形 4"/>
          <p:cNvSpPr/>
          <p:nvPr/>
        </p:nvSpPr>
        <p:spPr>
          <a:xfrm>
            <a:off x="7891560" y="309600"/>
            <a:ext cx="3897360" cy="969840"/>
          </a:xfrm>
          <a:prstGeom prst="rect">
            <a:avLst/>
          </a:prstGeom>
          <a:gradFill rotWithShape="0">
            <a:gsLst>
              <a:gs pos="0">
                <a:srgbClr val="f18c55"/>
              </a:gs>
              <a:gs pos="100000">
                <a:srgbClr val="e56b17"/>
              </a:gs>
            </a:gsLst>
            <a:lin ang="5400000"/>
          </a:gradFill>
          <a:ln w="0">
            <a:noFill/>
          </a:ln>
          <a:effectLst>
            <a:outerShdw dist="19080" dir="5400000" blurRad="0" rotWithShape="0">
              <a:srgbClr val="000000">
                <a:alpha val="61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文本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7" name="矩形 5"/>
          <p:cNvGrpSpPr/>
          <p:nvPr/>
        </p:nvGrpSpPr>
        <p:grpSpPr>
          <a:xfrm>
            <a:off x="542880" y="669960"/>
            <a:ext cx="11099880" cy="5584680"/>
            <a:chOff x="542880" y="669960"/>
            <a:chExt cx="11099880" cy="5584680"/>
          </a:xfrm>
        </p:grpSpPr>
        <p:pic>
          <p:nvPicPr>
            <p:cNvPr id="68" name="矩形 5" descr=""/>
            <p:cNvPicPr/>
            <p:nvPr/>
          </p:nvPicPr>
          <p:blipFill>
            <a:blip r:embed="rId2"/>
            <a:stretch/>
          </p:blipFill>
          <p:spPr>
            <a:xfrm>
              <a:off x="542880" y="669960"/>
              <a:ext cx="11099880" cy="558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/>
            <p:nvPr/>
          </p:nvSpPr>
          <p:spPr>
            <a:xfrm>
              <a:off x="717480" y="795240"/>
              <a:ext cx="10747440" cy="533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    </a:t>
              </a:r>
              <a:r>
                <a:rPr b="0" lang="en-US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.</a:t>
              </a:r>
              <a:r>
                <a:rPr b="0" lang="zh-CN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本文本文本文本文本文本文本文本文本；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    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    </a:t>
              </a:r>
              <a:r>
                <a:rPr b="0" lang="en-US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.</a:t>
              </a:r>
              <a:r>
                <a:rPr b="0" lang="zh-CN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本文本文本文本文本文本文本文本文本；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    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    </a:t>
              </a:r>
              <a:r>
                <a:rPr b="0" lang="en-US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.</a:t>
              </a:r>
              <a:r>
                <a:rPr b="0" lang="zh-CN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本文本文本文本文本文本文本文本文本。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0" name="矩形 4"/>
          <p:cNvSpPr/>
          <p:nvPr/>
        </p:nvSpPr>
        <p:spPr>
          <a:xfrm>
            <a:off x="7891560" y="309600"/>
            <a:ext cx="3897360" cy="969840"/>
          </a:xfrm>
          <a:prstGeom prst="rect">
            <a:avLst/>
          </a:prstGeom>
          <a:gradFill rotWithShape="0">
            <a:gsLst>
              <a:gs pos="0">
                <a:srgbClr val="ffc746"/>
              </a:gs>
              <a:gs pos="100000">
                <a:srgbClr val="e5b600"/>
              </a:gs>
            </a:gsLst>
            <a:lin ang="5400000"/>
          </a:gradFill>
          <a:ln w="0">
            <a:noFill/>
          </a:ln>
          <a:effectLst>
            <a:outerShdw dist="19080" dir="5400000" blurRad="0" rotWithShape="0">
              <a:srgbClr val="000000">
                <a:alpha val="61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文本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/>
          <p:nvPr/>
        </p:nvSpPr>
        <p:spPr>
          <a:xfrm>
            <a:off x="968400" y="35712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563c1"/>
                </a:solidFill>
                <a:uFillTx/>
                <a:latin typeface="Calibri"/>
                <a:hlinkClick r:id="rId3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4960" y="189000"/>
            <a:ext cx="1094292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4360" y="1269720"/>
            <a:ext cx="1190304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Rectangle 7"/>
          <p:cNvSpPr/>
          <p:nvPr/>
        </p:nvSpPr>
        <p:spPr>
          <a:xfrm>
            <a:off x="9715680" y="333360"/>
            <a:ext cx="185256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6FC8-BD99-499A-BF0D-83B56DE56ED0}" type="slidenum">
              <a:t>6</a:t>
            </a:fld>
          </a:p>
        </p:txBody>
      </p:sp>
    </p:spTree>
  </p:cSld>
  <p:transition spd="slow"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图片 3" descr=""/>
          <p:cNvPicPr/>
          <p:nvPr/>
        </p:nvPicPr>
        <p:blipFill>
          <a:blip r:embed="rId1"/>
          <a:srcRect l="0" t="6383" r="0" b="0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矩形 7"/>
          <p:cNvSpPr/>
          <p:nvPr/>
        </p:nvSpPr>
        <p:spPr>
          <a:xfrm>
            <a:off x="0" y="4529160"/>
            <a:ext cx="12192120" cy="2328840"/>
          </a:xfrm>
          <a:prstGeom prst="rect">
            <a:avLst/>
          </a:prstGeom>
          <a:solidFill>
            <a:srgbClr val="ffffff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直接连接符 6"/>
          <p:cNvSpPr/>
          <p:nvPr/>
        </p:nvSpPr>
        <p:spPr>
          <a:xfrm>
            <a:off x="0" y="4481640"/>
            <a:ext cx="12192120" cy="0"/>
          </a:xfrm>
          <a:prstGeom prst="line">
            <a:avLst/>
          </a:prstGeom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文本框 8"/>
          <p:cNvSpPr/>
          <p:nvPr/>
        </p:nvSpPr>
        <p:spPr>
          <a:xfrm>
            <a:off x="2927520" y="5232240"/>
            <a:ext cx="303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敬请指正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直接连接符 10"/>
          <p:cNvSpPr/>
          <p:nvPr/>
        </p:nvSpPr>
        <p:spPr>
          <a:xfrm>
            <a:off x="6105600" y="5022720"/>
            <a:ext cx="0" cy="14065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文本框 11"/>
          <p:cNvSpPr/>
          <p:nvPr/>
        </p:nvSpPr>
        <p:spPr>
          <a:xfrm>
            <a:off x="6246720" y="5248440"/>
            <a:ext cx="2940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###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姓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###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日期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###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21T14:48:49Z</dcterms:created>
  <dc:creator>www.eeppt.com</dc:creator>
  <dc:description>www.eeppt.com</dc:description>
  <cp:keywords>www.eeppt.com</cp:keywords>
  <dc:language>en-US</dc:language>
  <cp:lastModifiedBy>YANGS2015</cp:lastModifiedBy>
  <dcterms:modified xsi:type="dcterms:W3CDTF">2015-08-11T14:20:40Z</dcterms:modified>
  <cp:revision>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