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A6A-2028-46EB-ADDF-6A7431A4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998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D09-C2A5-4C16-A95E-8EA20F29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C7A-7603-48A6-A457-5FE4C16F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FCF-1D16-4338-8FDE-37D075A8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A7FD-6470-483B-A5EB-9CC85262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DD5B-DCCB-47C4-A7FB-E78BE35B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5BE2-1422-4769-B339-E9F562BB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A065-121B-4710-84AF-99B272A8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F538-5A8D-4061-95A7-01633FF2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53BD-303D-4309-81C5-ACC578E0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2557-D568-44B1-AA69-A4D2F59E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027-0AA5-4CAD-A343-2D6B1B68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04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7291-84AC-4E09-AAE2-B380ECCD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2EB3-8628-4832-A5E3-73D2160D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998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BE6B-7086-482F-9626-8A38C699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04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F37A-A452-40AC-85A2-78BA9113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516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516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6E71-57EE-4BF0-B511-6D448348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45C04-E748-4674-96ED-24BA5848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2BD21-9E35-4D0E-B38F-2B9823CC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F1CD5-87EF-46A6-8EB3-E8F20196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4FF51-B76F-4D2C-8649-429FD17C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21A1D-B664-4FE9-8E2A-AAAD96B2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197-2171-4300-BF83-C5D5D6A9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595B3-D725-4001-B7DE-AAC17AA9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7987F-6F2B-4B63-B3AF-56E0FF11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04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B05D8-C812-4A5D-A2D9-822BD561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59DFB-8DC7-480D-BE89-6590EB9B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998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53B3-E03E-446C-A1E1-9C57D80C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04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F439-797F-4AA3-8F53-5B9DF2D1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516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4944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1516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4944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D9F5D-489B-4804-B50B-CA4283EF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E39-B76F-40CC-8618-10F0D678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EE5-D699-4E8E-BFB0-FA6D58F9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7E7-7B31-4CB0-8CCC-2AB87683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79B-A260-4455-80CF-DB6AFCAD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77D-4EE6-48C5-8728-B0BA27F5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175-26FC-43D3-AA7E-DC5E5207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38480" y="655272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EC91-EBD3-47DC-ACDC-DE45CFEAD89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矩形 6" descr=""/>
          <p:cNvPicPr/>
          <p:nvPr/>
        </p:nvPicPr>
        <p:blipFill>
          <a:blip r:embed="rId3"/>
          <a:stretch/>
        </p:blipFill>
        <p:spPr>
          <a:xfrm>
            <a:off x="378000" y="5924520"/>
            <a:ext cx="287784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360" y="655272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4785-15A2-49B7-81A2-1013D1E20D3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2A2A-CFAF-43DE-963B-4111168767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D691-2EDD-4A57-A261-0AF7342848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5409720"/>
            <a:ext cx="74678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国外会议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04760" y="6171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0:34:54Z</dcterms:created>
  <dc:creator>www.eeppt.com</dc:creator>
  <dc:description/>
  <cp:keywords>www.eeppt.com</cp:keywords>
  <dc:language>en-US</dc:language>
  <cp:lastModifiedBy/>
  <dcterms:modified xsi:type="dcterms:W3CDTF">2015-08-11T14:21:42Z</dcterms:modified>
  <cp:revision>0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