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5FA0-4C17-493C-BFDC-E094C20B6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0939-E531-4DFC-AC60-72154D11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782B-5D88-445D-B20F-17DC0BDA6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711C-F98F-4E50-B781-8A09816C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6592-1040-49B7-8AA2-68EBE71DB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3C39-DCBC-4F2B-826E-72EA1654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6B0A-5C26-4D01-AA91-AC69D4C5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66FB-5312-4072-A325-7B5451C8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4E58-C52E-484A-B288-B77BE414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C114-B750-4F6F-87F9-BDEDAA0F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0602-AD84-41BF-9199-9B3917F6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5C2D-61D6-478E-AFEF-A2F7A287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9941-728C-4639-912D-37CEB688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ECDD-A906-4742-B14E-C77A4D8D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B39E-C226-4395-AE39-4D0BB854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BCF7-D06C-48AC-ABB9-8389F93AA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8E11-B085-42AE-8700-FDDAF0E4C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5A1CA-FDF1-4BAC-9706-0CED47430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BCEFA-4568-4F35-885E-216E94E2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76C92-61B4-4513-8BB5-3BAA94AD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DBAA4-6C24-4954-A95C-FA795DEF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917AB-1C64-45C0-BE18-3000ACEF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664B-0291-442E-AB4E-BD48AE0D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D9FE1-3C05-4C67-ACD9-2B83C31F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9820C-D6D2-4A0B-94DD-7C9E2487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01EA5-8B88-4B7F-8CDF-2C9473FD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926BC-578F-4AF5-8DC1-1B2CF34C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76D13-43E9-4B43-A61B-639118C7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8AD22-59A2-4549-91C9-7A51526F0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59DE2-A64F-4D4C-B706-F9DD9FA2E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9C5A-98F4-4814-8B68-DB524E9C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3444-8180-4270-9BD8-191378C5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2602-E7AB-4F3B-A906-7FEDDDC2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C05F-CB30-44BF-9BF3-5A522B84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13AA-461C-449F-84C6-2239CA15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13A6-3A1A-46E0-9906-1B7F439E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A1B0-8AA8-4BB4-8C95-D6265DFA60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D457-581E-457A-A52D-9B8769F5EE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7"/>
          <p:cNvSpPr/>
          <p:nvPr/>
        </p:nvSpPr>
        <p:spPr>
          <a:xfrm>
            <a:off x="7812000" y="115920"/>
            <a:ext cx="122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812F-15D0-4F3B-AB29-F5654FEDD8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图片 6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工作规划</a:t>
            </a: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630864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2160" y="30574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2160" y="15570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828720" y="2276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80DC-D619-415D-BFE5-DB0484A62F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0:19:21Z</dcterms:created>
  <dc:creator>www.eeppt.com</dc:creator>
  <dc:description>www.eeppt.com</dc:description>
  <cp:keywords>www.eeppt.com</cp:keywords>
  <dc:language>en-US</dc:language>
  <cp:lastModifiedBy>雨林木风</cp:lastModifiedBy>
  <dcterms:modified xsi:type="dcterms:W3CDTF">2015-08-11T14:22:0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NXTAG2">
    <vt:lpwstr>0008001806000000000001024100</vt:lpwstr>
  </property>
</Properties>
</file>