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B36-26C7-4377-B558-B2FB1A0A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655-198D-4234-ABF8-C2940014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CDF-EB5E-4DBF-9C5D-D754AA5A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E40-80FA-4879-A21C-E349A4B6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D466-8F6C-4084-BFE0-2F26E376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0C60-7B14-47DD-BA8E-155362B5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CE46-EC11-477E-9453-A2A17E18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EAFB-F4A4-4180-9DBA-028457B6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E35B-8EB3-48DA-B581-81AF6997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F60A-2687-4A81-9257-4B31E6DE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B27A-D643-4134-AE00-DBA07AED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4C8-D9BB-4EA8-8E6B-A9AFE72B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BAF6-1DF3-47B6-A763-42AD4D22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AA29-F813-4901-A646-FFA798F6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0570-854E-4933-926F-B2AD99EF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D00F-7D6C-44A0-8896-247986D9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30ED-5FC9-4F07-BF8F-1ABF1A9E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098-6BCD-4DED-BB2D-FC10BFD1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5FC-0DA9-4F9D-B007-6BE391AE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225-534C-4873-A817-1063526B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7FE-014F-4A0A-9349-45DA5730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CD9-FF0A-4039-82FE-A9D3DF0A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D3E-93F8-4222-86CF-E79C07EE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034-9C5B-4694-AB05-881E4149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63080" cy="98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0031-7AD7-4607-98CA-A33D38507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995400" y="295200"/>
            <a:ext cx="278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××××××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E912-1F24-43EF-9E77-07E721069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34960" y="549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工作汇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/>
          <p:cNvSpPr/>
          <p:nvPr/>
        </p:nvSpPr>
        <p:spPr>
          <a:xfrm>
            <a:off x="3043080" y="2492280"/>
            <a:ext cx="5129280" cy="6206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0e0e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755640" y="2646360"/>
            <a:ext cx="2608200" cy="49536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682809"/>
              </a:gs>
              <a:gs pos="100000">
                <a:srgbClr val="db541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1258920" y="1353960"/>
            <a:ext cx="6408720" cy="635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2809"/>
              </a:gs>
              <a:gs pos="100000">
                <a:srgbClr val="db541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043080" y="3500280"/>
            <a:ext cx="5129280" cy="6210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0e0e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755640" y="3654360"/>
            <a:ext cx="2608200" cy="49536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682809"/>
              </a:gs>
              <a:gs pos="100000">
                <a:srgbClr val="db541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043080" y="4435560"/>
            <a:ext cx="5129280" cy="6206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0e0e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755640" y="4589640"/>
            <a:ext cx="2608200" cy="4950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682809"/>
              </a:gs>
              <a:gs pos="100000">
                <a:srgbClr val="db541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3043080" y="5445000"/>
            <a:ext cx="5129280" cy="6210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0e0e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755640" y="5599080"/>
            <a:ext cx="2608200" cy="4939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682809"/>
              </a:gs>
              <a:gs pos="100000">
                <a:srgbClr val="db541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50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A48B-2C31-4078-A4D9-6C9079194C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219320" y="4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1905120" y="2362320"/>
            <a:ext cx="4952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谢 谢</a:t>
            </a:r>
            <a:endParaRPr b="1" lang="en-US" sz="40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200400" y="573408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48:13Z</dcterms:created>
  <dc:creator>www.eeppt.com</dc:creator>
  <dc:description>www.eeppt.com</dc:description>
  <cp:keywords>www.eeppt.com</cp:keywords>
  <dc:language>en-US</dc:language>
  <cp:lastModifiedBy>jccook</cp:lastModifiedBy>
  <dcterms:modified xsi:type="dcterms:W3CDTF">2015-08-11T14:22:04Z</dcterms:modified>
  <cp:revision>10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