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662-CAAE-49E4-8D38-F26CE7B8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3FB-C7DD-4D65-9996-CD3D5DC0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6F6-46C0-4D9A-9AA7-307372A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7BB-6E95-4814-A3BB-78BBE878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B7F-A8C1-4B75-8C5B-5FBCCE0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5ED-FD9F-429E-B54D-EB52FAE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AF9-5F18-40D3-954D-3A5BABF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079-49D1-4D8F-9FCD-01C72CE6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5CB-CB03-422A-BCE9-7CC5D40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FF0-6935-494A-91BE-2A9DF15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F23-9BEE-44B9-9CE0-3DEDF3C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5F1-DCD6-44D4-AFB4-B2D34E0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bliue stripe.png"/>
          <p:cNvPicPr/>
          <p:nvPr/>
        </p:nvPicPr>
        <p:blipFill>
          <a:blip r:embed="rId3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7E7-CC86-422B-93F7-75CEFFBA99D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6" descr="down light.png"/>
          <p:cNvPicPr/>
          <p:nvPr/>
        </p:nvPicPr>
        <p:blipFill>
          <a:blip r:embed="rId4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</a:t>
            </a:r>
            <a:fld id="{88F86C73-4438-48D8-A706-C7CCE0512A2D}" type="slidenum"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bliue stripe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down light.png"/>
          <p:cNvPicPr/>
          <p:nvPr/>
        </p:nvPicPr>
        <p:blipFill>
          <a:blip r:embed="rId3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4"/>
          <a:stretch/>
        </p:blipFill>
        <p:spPr>
          <a:xfrm>
            <a:off x="297000" y="4417920"/>
            <a:ext cx="1774800" cy="184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143000" y="1339920"/>
            <a:ext cx="7000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会议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50960" y="620640"/>
            <a:ext cx="4781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7" descr="bliue stripe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down light.png"/>
          <p:cNvPicPr/>
          <p:nvPr/>
        </p:nvPicPr>
        <p:blipFill>
          <a:blip r:embed="rId3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61880" y="1066680"/>
            <a:ext cx="2813040" cy="7920"/>
            <a:chOff x="461880" y="1066680"/>
            <a:chExt cx="2813040" cy="7920"/>
          </a:xfrm>
        </p:grpSpPr>
        <p:sp>
          <p:nvSpPr>
            <p:cNvPr id="53" name="Line 3"/>
            <p:cNvSpPr/>
            <p:nvPr/>
          </p:nvSpPr>
          <p:spPr>
            <a:xfrm flipH="1" flipV="1">
              <a:off x="461880" y="1066680"/>
              <a:ext cx="2813040" cy="792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 rot="10800000">
              <a:off x="461880" y="1066320"/>
              <a:ext cx="28130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890680" y="1066680"/>
            <a:ext cx="2813400" cy="7920"/>
            <a:chOff x="5890680" y="1066680"/>
            <a:chExt cx="2813400" cy="7920"/>
          </a:xfrm>
        </p:grpSpPr>
        <p:sp>
          <p:nvSpPr>
            <p:cNvPr id="56" name="Line 4"/>
            <p:cNvSpPr/>
            <p:nvPr/>
          </p:nvSpPr>
          <p:spPr>
            <a:xfrm flipH="1" flipV="1">
              <a:off x="5890680" y="1066680"/>
              <a:ext cx="2813400" cy="792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 rot="10800000">
              <a:off x="5890680" y="1066320"/>
              <a:ext cx="281340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1558800" y="2000160"/>
            <a:ext cx="2068200" cy="3043080"/>
            <a:chOff x="1558800" y="2000160"/>
            <a:chExt cx="2068200" cy="3043080"/>
          </a:xfrm>
        </p:grpSpPr>
        <p:sp>
          <p:nvSpPr>
            <p:cNvPr id="59" name="Rectangle 6"/>
            <p:cNvSpPr/>
            <p:nvPr/>
          </p:nvSpPr>
          <p:spPr>
            <a:xfrm>
              <a:off x="1558800" y="2000160"/>
              <a:ext cx="1798920" cy="2878200"/>
            </a:xfrm>
            <a:prstGeom prst="rect">
              <a:avLst/>
            </a:prstGeom>
            <a:solidFill>
              <a:srgbClr val="fa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1629720" y="2214000"/>
              <a:ext cx="161964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2513880" y="2993040"/>
              <a:ext cx="1113120" cy="8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9" descr=""/>
            <p:cNvPicPr/>
            <p:nvPr/>
          </p:nvPicPr>
          <p:blipFill>
            <a:blip r:embed="rId4"/>
            <a:stretch/>
          </p:blipFill>
          <p:spPr>
            <a:xfrm>
              <a:off x="1629720" y="3856320"/>
              <a:ext cx="1141920" cy="11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10"/>
          <p:cNvGrpSpPr/>
          <p:nvPr/>
        </p:nvGrpSpPr>
        <p:grpSpPr>
          <a:xfrm>
            <a:off x="3929040" y="2027160"/>
            <a:ext cx="1800360" cy="3044880"/>
            <a:chOff x="3929040" y="2027160"/>
            <a:chExt cx="1800360" cy="3044880"/>
          </a:xfrm>
        </p:grpSpPr>
        <p:sp>
          <p:nvSpPr>
            <p:cNvPr id="64" name="Rectangle 11"/>
            <p:cNvSpPr/>
            <p:nvPr/>
          </p:nvSpPr>
          <p:spPr>
            <a:xfrm>
              <a:off x="3929040" y="2027160"/>
              <a:ext cx="1800360" cy="287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00320" y="2241360"/>
              <a:ext cx="162108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验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4649760" y="3014640"/>
              <a:ext cx="10288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4" descr=""/>
            <p:cNvPicPr/>
            <p:nvPr/>
          </p:nvPicPr>
          <p:blipFill>
            <a:blip r:embed="rId5"/>
            <a:stretch/>
          </p:blipFill>
          <p:spPr>
            <a:xfrm>
              <a:off x="4392720" y="3884400"/>
              <a:ext cx="118728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5"/>
          <p:cNvGrpSpPr/>
          <p:nvPr/>
        </p:nvGrpSpPr>
        <p:grpSpPr>
          <a:xfrm>
            <a:off x="6202440" y="2000160"/>
            <a:ext cx="1798560" cy="3043080"/>
            <a:chOff x="6202440" y="2000160"/>
            <a:chExt cx="1798560" cy="3043080"/>
          </a:xfrm>
        </p:grpSpPr>
        <p:sp>
          <p:nvSpPr>
            <p:cNvPr id="69" name="Rectangle 16"/>
            <p:cNvSpPr/>
            <p:nvPr/>
          </p:nvSpPr>
          <p:spPr>
            <a:xfrm>
              <a:off x="6202440" y="2000160"/>
              <a:ext cx="1798560" cy="2878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6273360" y="2214000"/>
              <a:ext cx="16192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展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6958440" y="3058200"/>
              <a:ext cx="10278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9" descr=""/>
            <p:cNvPicPr/>
            <p:nvPr/>
          </p:nvPicPr>
          <p:blipFill>
            <a:blip r:embed="rId6"/>
            <a:stretch/>
          </p:blipFill>
          <p:spPr>
            <a:xfrm>
              <a:off x="6630480" y="3856320"/>
              <a:ext cx="1053000" cy="11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DCA-10D2-40A6-9A8E-26025952CA4E}" type="slidenum">
              <a:t>2</a:t>
            </a:fld>
          </a:p>
        </p:txBody>
      </p:sp>
    </p:spTree>
  </p:cSld>
  <p:transition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7" descr="bliue stripe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" descr="down light.png"/>
          <p:cNvPicPr/>
          <p:nvPr/>
        </p:nvPicPr>
        <p:blipFill>
          <a:blip r:embed="rId3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6858000" y="261936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929040" y="3013200"/>
            <a:ext cx="26463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640560" y="2484360"/>
            <a:ext cx="7920" cy="1944720"/>
            <a:chOff x="6640560" y="2484360"/>
            <a:chExt cx="7920" cy="1944720"/>
          </a:xfrm>
        </p:grpSpPr>
        <p:sp>
          <p:nvSpPr>
            <p:cNvPr id="78" name="Line 4"/>
            <p:cNvSpPr/>
            <p:nvPr/>
          </p:nvSpPr>
          <p:spPr>
            <a:xfrm flipH="1">
              <a:off x="6640560" y="2484360"/>
              <a:ext cx="7920" cy="1944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640560" y="2484360"/>
              <a:ext cx="79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6F0-DBB5-4B8E-9217-C623FDF32923}" type="slidenum">
              <a:t>3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up light.png"/>
          <p:cNvPicPr/>
          <p:nvPr/>
        </p:nvPicPr>
        <p:blipFill>
          <a:blip r:embed="rId2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down light.png"/>
          <p:cNvPicPr/>
          <p:nvPr/>
        </p:nvPicPr>
        <p:blipFill>
          <a:blip r:embed="rId3"/>
          <a:stretch/>
        </p:blipFill>
        <p:spPr>
          <a:xfrm>
            <a:off x="0" y="6143760"/>
            <a:ext cx="9142560" cy="714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8"/>
          <p:cNvSpPr/>
          <p:nvPr/>
        </p:nvSpPr>
        <p:spPr>
          <a:xfrm>
            <a:off x="6643800" y="640728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9"/>
          <p:cNvGrpSpPr/>
          <p:nvPr/>
        </p:nvGrpSpPr>
        <p:grpSpPr>
          <a:xfrm>
            <a:off x="1428840" y="1000080"/>
            <a:ext cx="2855520" cy="2232000"/>
            <a:chOff x="1428840" y="1000080"/>
            <a:chExt cx="2855520" cy="2232000"/>
          </a:xfrm>
        </p:grpSpPr>
        <p:sp>
          <p:nvSpPr>
            <p:cNvPr id="84" name="Rectangle 40"/>
            <p:cNvSpPr/>
            <p:nvPr/>
          </p:nvSpPr>
          <p:spPr>
            <a:xfrm>
              <a:off x="1446120" y="1384200"/>
              <a:ext cx="2829600" cy="1847880"/>
            </a:xfrm>
            <a:prstGeom prst="rect">
              <a:avLst/>
            </a:prstGeom>
            <a:solidFill>
              <a:srgbClr val="fc3c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1"/>
            <p:cNvSpPr/>
            <p:nvPr/>
          </p:nvSpPr>
          <p:spPr>
            <a:xfrm>
              <a:off x="1428840" y="1000080"/>
              <a:ext cx="2855520" cy="457200"/>
            </a:xfrm>
            <a:prstGeom prst="rect">
              <a:avLst/>
            </a:prstGeom>
            <a:solidFill>
              <a:srgbClr val="fc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2"/>
            <p:cNvSpPr/>
            <p:nvPr/>
          </p:nvSpPr>
          <p:spPr>
            <a:xfrm>
              <a:off x="1476000" y="1033560"/>
              <a:ext cx="270540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43"/>
          <p:cNvSpPr/>
          <p:nvPr/>
        </p:nvSpPr>
        <p:spPr>
          <a:xfrm>
            <a:off x="1459440" y="1084320"/>
            <a:ext cx="3052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7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952560" y="1622520"/>
            <a:ext cx="331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员工资历较深（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驻厂公关能力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全售后服务体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效异常反馈机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5"/>
          <p:cNvGrpSpPr/>
          <p:nvPr/>
        </p:nvGrpSpPr>
        <p:grpSpPr>
          <a:xfrm>
            <a:off x="5005440" y="1000080"/>
            <a:ext cx="2852280" cy="2232000"/>
            <a:chOff x="5005440" y="1000080"/>
            <a:chExt cx="2852280" cy="2232000"/>
          </a:xfrm>
        </p:grpSpPr>
        <p:sp>
          <p:nvSpPr>
            <p:cNvPr id="90" name="Rectangle 46"/>
            <p:cNvSpPr/>
            <p:nvPr/>
          </p:nvSpPr>
          <p:spPr>
            <a:xfrm>
              <a:off x="5022720" y="1384200"/>
              <a:ext cx="2826360" cy="1847880"/>
            </a:xfrm>
            <a:prstGeom prst="rect">
              <a:avLst/>
            </a:prstGeom>
            <a:solidFill>
              <a:srgbClr val="ffc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7"/>
            <p:cNvSpPr/>
            <p:nvPr/>
          </p:nvSpPr>
          <p:spPr>
            <a:xfrm>
              <a:off x="5005440" y="1000080"/>
              <a:ext cx="285228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8"/>
            <p:cNvSpPr/>
            <p:nvPr/>
          </p:nvSpPr>
          <p:spPr>
            <a:xfrm>
              <a:off x="5052240" y="1033560"/>
              <a:ext cx="270216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50"/>
          <p:cNvSpPr/>
          <p:nvPr/>
        </p:nvSpPr>
        <p:spPr>
          <a:xfrm>
            <a:off x="5000760" y="1571760"/>
            <a:ext cx="3429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售后驻厂人力紧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内部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llow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改善力度不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驻厂返厂次数太低，厂内信息了解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新品送样时效需改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专业知识匮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1"/>
          <p:cNvGrpSpPr/>
          <p:nvPr/>
        </p:nvGrpSpPr>
        <p:grpSpPr>
          <a:xfrm>
            <a:off x="5005440" y="3846600"/>
            <a:ext cx="2852280" cy="2232000"/>
            <a:chOff x="5005440" y="3846600"/>
            <a:chExt cx="2852280" cy="2232000"/>
          </a:xfrm>
        </p:grpSpPr>
        <p:sp>
          <p:nvSpPr>
            <p:cNvPr id="95" name="Rectangle 52"/>
            <p:cNvSpPr/>
            <p:nvPr/>
          </p:nvSpPr>
          <p:spPr>
            <a:xfrm>
              <a:off x="5022720" y="4230720"/>
              <a:ext cx="2826360" cy="1847880"/>
            </a:xfrm>
            <a:prstGeom prst="rect">
              <a:avLst/>
            </a:pr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5005440" y="3846600"/>
              <a:ext cx="2852280" cy="457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54"/>
            <p:cNvSpPr/>
            <p:nvPr/>
          </p:nvSpPr>
          <p:spPr>
            <a:xfrm>
              <a:off x="5052240" y="3880080"/>
              <a:ext cx="270216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56"/>
          <p:cNvSpPr/>
          <p:nvPr/>
        </p:nvSpPr>
        <p:spPr>
          <a:xfrm>
            <a:off x="5000760" y="4541760"/>
            <a:ext cx="2857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local CS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外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代工案售后服务不明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元化代工，客户要求复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7"/>
          <p:cNvGrpSpPr/>
          <p:nvPr/>
        </p:nvGrpSpPr>
        <p:grpSpPr>
          <a:xfrm>
            <a:off x="1428840" y="3879720"/>
            <a:ext cx="2855520" cy="2232000"/>
            <a:chOff x="1428840" y="3879720"/>
            <a:chExt cx="2855520" cy="2232000"/>
          </a:xfrm>
        </p:grpSpPr>
        <p:sp>
          <p:nvSpPr>
            <p:cNvPr id="100" name="Rectangle 58"/>
            <p:cNvSpPr/>
            <p:nvPr/>
          </p:nvSpPr>
          <p:spPr>
            <a:xfrm>
              <a:off x="1446120" y="4263840"/>
              <a:ext cx="2829600" cy="1847880"/>
            </a:xfrm>
            <a:prstGeom prst="rect">
              <a:avLst/>
            </a:prstGeom>
            <a:solidFill>
              <a:srgbClr val="0046f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9"/>
            <p:cNvSpPr/>
            <p:nvPr/>
          </p:nvSpPr>
          <p:spPr>
            <a:xfrm>
              <a:off x="1428840" y="3879720"/>
              <a:ext cx="2855520" cy="457200"/>
            </a:xfrm>
            <a:prstGeom prst="rect">
              <a:avLst/>
            </a:prstGeom>
            <a:solidFill>
              <a:srgbClr val="0046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60"/>
            <p:cNvSpPr/>
            <p:nvPr/>
          </p:nvSpPr>
          <p:spPr>
            <a:xfrm>
              <a:off x="1476000" y="3913200"/>
              <a:ext cx="2705400" cy="350640"/>
            </a:xfrm>
            <a:prstGeom prst="roundRect">
              <a:avLst>
                <a:gd name="adj" fmla="val 179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62"/>
          <p:cNvSpPr/>
          <p:nvPr/>
        </p:nvSpPr>
        <p:spPr>
          <a:xfrm>
            <a:off x="1571760" y="4433760"/>
            <a:ext cx="2428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关系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.1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于订单保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客户信息获取，供高层决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3"/>
          <p:cNvGrpSpPr/>
          <p:nvPr/>
        </p:nvGrpSpPr>
        <p:grpSpPr>
          <a:xfrm>
            <a:off x="3643200" y="2714760"/>
            <a:ext cx="1582920" cy="1541160"/>
            <a:chOff x="3643200" y="2714760"/>
            <a:chExt cx="1582920" cy="1541160"/>
          </a:xfrm>
        </p:grpSpPr>
        <p:sp>
          <p:nvSpPr>
            <p:cNvPr id="105" name="Freeform 66"/>
            <p:cNvSpPr/>
            <p:nvPr/>
          </p:nvSpPr>
          <p:spPr>
            <a:xfrm>
              <a:off x="4431600" y="2859480"/>
              <a:ext cx="794520" cy="92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3800160" y="2714760"/>
              <a:ext cx="952200" cy="77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3643200" y="3177720"/>
              <a:ext cx="794520" cy="92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7"/>
            <p:cNvSpPr/>
            <p:nvPr/>
          </p:nvSpPr>
          <p:spPr>
            <a:xfrm>
              <a:off x="4119840" y="3605400"/>
              <a:ext cx="937080" cy="65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709"/>
          <p:cNvSpPr/>
          <p:nvPr/>
        </p:nvSpPr>
        <p:spPr>
          <a:xfrm>
            <a:off x="5786280" y="1072800"/>
            <a:ext cx="128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ak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12"/>
          <p:cNvSpPr/>
          <p:nvPr/>
        </p:nvSpPr>
        <p:spPr>
          <a:xfrm>
            <a:off x="2143080" y="3930120"/>
            <a:ext cx="171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Opport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11"/>
          <p:cNvSpPr/>
          <p:nvPr/>
        </p:nvSpPr>
        <p:spPr>
          <a:xfrm>
            <a:off x="5857920" y="3930120"/>
            <a:ext cx="838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re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529240" y="0"/>
            <a:ext cx="3328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微软雅黑"/>
                <a:ea typeface="微软雅黑"/>
              </a:rPr>
              <a:t>SWOT</a:t>
            </a:r>
            <a:r>
              <a:rPr b="1" lang="zh-CN" sz="4100" spc="-1" strike="noStrike">
                <a:solidFill>
                  <a:srgbClr val="1f497d"/>
                </a:solidFill>
                <a:latin typeface="微软雅黑"/>
                <a:ea typeface="微软雅黑"/>
              </a:rPr>
              <a:t>分析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466-A5EA-4C0D-951C-4130CF83827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7" descr="bliue stripe.png"/>
          <p:cNvPicPr/>
          <p:nvPr/>
        </p:nvPicPr>
        <p:blipFill>
          <a:blip r:embed="rId2"/>
          <a:stretch/>
        </p:blipFill>
        <p:spPr>
          <a:xfrm>
            <a:off x="0" y="0"/>
            <a:ext cx="9142560" cy="64990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6" descr="down light.png"/>
          <p:cNvPicPr/>
          <p:nvPr/>
        </p:nvPicPr>
        <p:blipFill>
          <a:blip r:embed="rId3"/>
          <a:stretch/>
        </p:blipFill>
        <p:spPr>
          <a:xfrm>
            <a:off x="0" y="5762520"/>
            <a:ext cx="9142560" cy="1095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3071880" y="3013200"/>
            <a:ext cx="26463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783400" y="2484360"/>
            <a:ext cx="7920" cy="1944720"/>
            <a:chOff x="5783400" y="2484360"/>
            <a:chExt cx="7920" cy="1944720"/>
          </a:xfrm>
        </p:grpSpPr>
        <p:sp>
          <p:nvSpPr>
            <p:cNvPr id="118" name="Line 3"/>
            <p:cNvSpPr/>
            <p:nvPr/>
          </p:nvSpPr>
          <p:spPr>
            <a:xfrm flipH="1">
              <a:off x="5783400" y="2484360"/>
              <a:ext cx="7920" cy="1944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783400" y="2484360"/>
              <a:ext cx="79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6072120" y="2595600"/>
            <a:ext cx="1621080" cy="1619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up light.png"/>
          <p:cNvPicPr/>
          <p:nvPr/>
        </p:nvPicPr>
        <p:blipFill>
          <a:blip r:embed="rId2"/>
          <a:stretch/>
        </p:blipFill>
        <p:spPr>
          <a:xfrm>
            <a:off x="0" y="0"/>
            <a:ext cx="9142560" cy="11336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7" descr="down light.png"/>
          <p:cNvPicPr/>
          <p:nvPr/>
        </p:nvPicPr>
        <p:blipFill>
          <a:blip r:embed="rId3"/>
          <a:stretch/>
        </p:blipFill>
        <p:spPr>
          <a:xfrm>
            <a:off x="0" y="6143760"/>
            <a:ext cx="9142560" cy="714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6643800" y="640728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1428840" y="2143080"/>
            <a:ext cx="6572160" cy="3600360"/>
            <a:chOff x="1428840" y="2143080"/>
            <a:chExt cx="6572160" cy="3600360"/>
          </a:xfrm>
        </p:grpSpPr>
        <p:sp>
          <p:nvSpPr>
            <p:cNvPr id="125" name="Freeform 13"/>
            <p:cNvSpPr/>
            <p:nvPr/>
          </p:nvSpPr>
          <p:spPr>
            <a:xfrm>
              <a:off x="1876320" y="2143080"/>
              <a:ext cx="2695680" cy="36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 flipH="1">
              <a:off x="4572000" y="2143080"/>
              <a:ext cx="2695680" cy="360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"/>
            <p:cNvSpPr/>
            <p:nvPr/>
          </p:nvSpPr>
          <p:spPr>
            <a:xfrm>
              <a:off x="1428840" y="2357280"/>
              <a:ext cx="657216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使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注市场动态，聆听客户心声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1599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协调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衡厂内外资源，实现公司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顾客双赢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4"/>
          <p:cNvSpPr/>
          <p:nvPr/>
        </p:nvSpPr>
        <p:spPr>
          <a:xfrm flipV="1">
            <a:off x="1139760" y="3621600"/>
            <a:ext cx="6864480" cy="21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flipV="1">
            <a:off x="1139760" y="3524760"/>
            <a:ext cx="6864480" cy="21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6"/>
          <p:cNvSpPr/>
          <p:nvPr/>
        </p:nvSpPr>
        <p:spPr>
          <a:xfrm>
            <a:off x="419040" y="3860640"/>
            <a:ext cx="2111400" cy="105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6467400" y="3860640"/>
            <a:ext cx="2111400" cy="105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3"/>
          <p:cNvSpPr/>
          <p:nvPr/>
        </p:nvSpPr>
        <p:spPr>
          <a:xfrm>
            <a:off x="3301920" y="4951440"/>
            <a:ext cx="2540160" cy="126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1"/>
          <p:cNvGrpSpPr/>
          <p:nvPr/>
        </p:nvGrpSpPr>
        <p:grpSpPr>
          <a:xfrm>
            <a:off x="1379520" y="928800"/>
            <a:ext cx="6550200" cy="1285920"/>
            <a:chOff x="1379520" y="928800"/>
            <a:chExt cx="6550200" cy="1285920"/>
          </a:xfrm>
        </p:grpSpPr>
        <p:sp>
          <p:nvSpPr>
            <p:cNvPr id="134" name="AutoShape 57"/>
            <p:cNvSpPr/>
            <p:nvPr/>
          </p:nvSpPr>
          <p:spPr>
            <a:xfrm>
              <a:off x="1379520" y="928800"/>
              <a:ext cx="6550200" cy="128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8"/>
            <p:cNvSpPr/>
            <p:nvPr/>
          </p:nvSpPr>
          <p:spPr>
            <a:xfrm>
              <a:off x="1500120" y="1000080"/>
              <a:ext cx="6286680" cy="1143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客户提供优质、高效、便捷服务，塑造无忧售后形象，提高客户忠诚度，利于公司利益最大化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Oval 70"/>
          <p:cNvSpPr/>
          <p:nvPr/>
        </p:nvSpPr>
        <p:spPr>
          <a:xfrm flipV="1">
            <a:off x="3429000" y="4970520"/>
            <a:ext cx="2286000" cy="1138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694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公司利益最大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1"/>
          <p:cNvSpPr/>
          <p:nvPr/>
        </p:nvSpPr>
        <p:spPr>
          <a:xfrm flipV="1">
            <a:off x="6500880" y="3928320"/>
            <a:ext cx="1920960" cy="95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微软雅黑"/>
                <a:ea typeface="微软雅黑"/>
              </a:rPr>
              <a:t>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2"/>
          <p:cNvSpPr/>
          <p:nvPr/>
        </p:nvSpPr>
        <p:spPr>
          <a:xfrm flipV="1">
            <a:off x="514440" y="3885480"/>
            <a:ext cx="1920960" cy="95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28d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微软雅黑"/>
                <a:ea typeface="微软雅黑"/>
              </a:rPr>
              <a:t>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3"/>
          <p:cNvSpPr/>
          <p:nvPr/>
        </p:nvSpPr>
        <p:spPr>
          <a:xfrm>
            <a:off x="2214720" y="2335320"/>
            <a:ext cx="5214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0" descr="02장_04-1"/>
          <p:cNvPicPr/>
          <p:nvPr/>
        </p:nvPicPr>
        <p:blipFill>
          <a:blip r:embed="rId4"/>
          <a:stretch/>
        </p:blipFill>
        <p:spPr>
          <a:xfrm>
            <a:off x="7391520" y="3600360"/>
            <a:ext cx="103824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8" descr="28"/>
          <p:cNvPicPr/>
          <p:nvPr/>
        </p:nvPicPr>
        <p:blipFill>
          <a:blip r:embed="rId5"/>
          <a:stretch/>
        </p:blipFill>
        <p:spPr>
          <a:xfrm>
            <a:off x="3857760" y="4022640"/>
            <a:ext cx="1714320" cy="154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21"/>
          <p:cNvPicPr/>
          <p:nvPr/>
        </p:nvPicPr>
        <p:blipFill>
          <a:blip r:embed="rId6"/>
          <a:stretch/>
        </p:blipFill>
        <p:spPr>
          <a:xfrm>
            <a:off x="285840" y="3071880"/>
            <a:ext cx="1430280" cy="1531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5529240" y="71280"/>
            <a:ext cx="3328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微软雅黑"/>
                <a:ea typeface="微软雅黑"/>
              </a:rPr>
              <a:t>工作使命与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F3E-A5F5-47A0-A2DF-6EE12CDB50E1}" type="slidenum">
              <a:t>6</a:t>
            </a:fld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931-B527-4F0B-A012-654F50F611F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7" descr="THANK.png"/>
          <p:cNvPicPr/>
          <p:nvPr/>
        </p:nvPicPr>
        <p:blipFill>
          <a:blip r:embed="rId2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" descr="THANK LIGHT.png"/>
          <p:cNvPicPr/>
          <p:nvPr/>
        </p:nvPicPr>
        <p:blipFill>
          <a:blip r:embed="rId3"/>
          <a:stretch/>
        </p:blipFill>
        <p:spPr>
          <a:xfrm>
            <a:off x="1440" y="1285920"/>
            <a:ext cx="9142560" cy="2400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9" descr="THANK BLUE.png"/>
          <p:cNvPicPr/>
          <p:nvPr/>
        </p:nvPicPr>
        <p:blipFill>
          <a:blip r:embed="rId4"/>
          <a:stretch/>
        </p:blipFill>
        <p:spPr>
          <a:xfrm>
            <a:off x="0" y="1285920"/>
            <a:ext cx="91425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6:47:00Z</dcterms:created>
  <dc:creator>www.eeppt.com</dc:creator>
  <dc:description/>
  <cp:keywords>www.eeppt.com</cp:keywords>
  <dc:language>en-US</dc:language>
  <cp:lastModifiedBy>User</cp:lastModifiedBy>
  <dcterms:modified xsi:type="dcterms:W3CDTF">2015-08-11T14:22:02Z</dcterms:modified>
  <cp:revision>540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