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114D-11D8-47A4-838A-C6E479985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3600" y="428760"/>
            <a:ext cx="8915400" cy="54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2500" spc="-1" strike="noStrike">
              <a:solidFill>
                <a:srgbClr val="00b0f0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3600" y="1307880"/>
            <a:ext cx="8915400" cy="215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3600" y="3671280"/>
            <a:ext cx="8915400" cy="215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7E65-D19C-4CFC-9C19-72191C44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3600" y="428760"/>
            <a:ext cx="8915400" cy="54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2500" spc="-1" strike="noStrike">
              <a:solidFill>
                <a:srgbClr val="00b0f0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3600" y="1307880"/>
            <a:ext cx="4350600" cy="215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22000" y="1307880"/>
            <a:ext cx="4350600" cy="215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3600" y="3671280"/>
            <a:ext cx="4350600" cy="215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22000" y="3671280"/>
            <a:ext cx="4350600" cy="215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3C8A-2113-4D2E-B364-9EE1E0B1D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3600" y="428760"/>
            <a:ext cx="8915400" cy="54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2500" spc="-1" strike="noStrike">
              <a:solidFill>
                <a:srgbClr val="00b0f0"/>
              </a:solidFill>
              <a:latin typeface="微软雅黑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3600" y="1307880"/>
            <a:ext cx="2870640" cy="215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8240" y="1307880"/>
            <a:ext cx="2870640" cy="215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82880" y="1307880"/>
            <a:ext cx="2870640" cy="215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3600" y="3671280"/>
            <a:ext cx="2870640" cy="215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8240" y="3671280"/>
            <a:ext cx="2870640" cy="215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82880" y="3671280"/>
            <a:ext cx="2870640" cy="215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CABD-E438-497E-B86A-A6EA513A8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3600" y="428760"/>
            <a:ext cx="8915400" cy="54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2500" spc="-1" strike="noStrike">
              <a:solidFill>
                <a:srgbClr val="00b0f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3600" y="1307880"/>
            <a:ext cx="8915400" cy="45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69C9-A475-41B2-85C4-62A9482F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3600" y="428760"/>
            <a:ext cx="8915400" cy="54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2500" spc="-1" strike="noStrike">
              <a:solidFill>
                <a:srgbClr val="00b0f0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3600" y="1307880"/>
            <a:ext cx="8915400" cy="4524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DEB8-E089-4633-91A0-ABA685367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3600" y="428760"/>
            <a:ext cx="8915400" cy="54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2500" spc="-1" strike="noStrike">
              <a:solidFill>
                <a:srgbClr val="00b0f0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3600" y="1307880"/>
            <a:ext cx="4350600" cy="4524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22000" y="1307880"/>
            <a:ext cx="4350600" cy="4524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5B75-E3D7-428F-BE66-F6694F65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3600" y="428760"/>
            <a:ext cx="8915400" cy="54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2500" spc="-1" strike="noStrike">
              <a:solidFill>
                <a:srgbClr val="00b0f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E12F-B586-42DE-826B-749FB4B4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3600" y="428760"/>
            <a:ext cx="8915400" cy="25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729E-DF38-4DE1-9240-B54F3E88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3600" y="428760"/>
            <a:ext cx="8915400" cy="54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2500" spc="-1" strike="noStrike">
              <a:solidFill>
                <a:srgbClr val="00b0f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3600" y="1307880"/>
            <a:ext cx="4350600" cy="215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22000" y="1307880"/>
            <a:ext cx="4350600" cy="4524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3600" y="3671280"/>
            <a:ext cx="4350600" cy="215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7B05-111A-4D76-B79D-3C770085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3600" y="428760"/>
            <a:ext cx="8915400" cy="54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2500" spc="-1" strike="noStrike">
              <a:solidFill>
                <a:srgbClr val="00b0f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3600" y="1307880"/>
            <a:ext cx="4350600" cy="4524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2000" y="1307880"/>
            <a:ext cx="4350600" cy="215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2000" y="3671280"/>
            <a:ext cx="4350600" cy="215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5229-B1B2-4481-AABB-E46BC256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3600" y="428760"/>
            <a:ext cx="8915400" cy="54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1" lang="en-US" sz="2500" spc="-1" strike="noStrike">
              <a:solidFill>
                <a:srgbClr val="00b0f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3600" y="1307880"/>
            <a:ext cx="4350600" cy="215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2000" y="1307880"/>
            <a:ext cx="4350600" cy="215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3600" y="3671280"/>
            <a:ext cx="8915400" cy="2157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A395-168F-4CB2-A3F2-9533442C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3600" y="428760"/>
            <a:ext cx="8915400" cy="542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500" spc="-1" strike="noStrike">
                <a:solidFill>
                  <a:srgbClr val="00b0f0"/>
                </a:solidFill>
                <a:latin typeface="微软雅黑"/>
              </a:rPr>
              <a:t>Click to edit the title text format</a:t>
            </a:r>
            <a:endParaRPr b="1" lang="en-US" sz="2500" spc="-1" strike="noStrike">
              <a:solidFill>
                <a:srgbClr val="00b0f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3600" y="1307880"/>
            <a:ext cx="8915400" cy="4524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479520" indent="479160">
              <a:spcBef>
                <a:spcPts val="85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2" marL="958680">
              <a:spcBef>
                <a:spcPts val="850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3" marL="1438200" indent="-479520">
              <a:spcBef>
                <a:spcPts val="85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4" marL="1916280" indent="-957600">
              <a:spcBef>
                <a:spcPts val="85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5" marL="1916280" indent="-957600">
              <a:spcBef>
                <a:spcPts val="85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6" marL="1916280" indent="-957600">
              <a:spcBef>
                <a:spcPts val="85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marL="9586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586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395E-34D6-4DA0-8FC1-46017CA8CC5E}" type="datetime">
              <a:rPr b="0" lang="zh-CN" sz="1300" spc="-1" strike="noStrike">
                <a:solidFill>
                  <a:srgbClr val="898989"/>
                </a:solidFill>
                <a:latin typeface="Calibri"/>
                <a:ea typeface="Calibri"/>
              </a:rPr>
              <a:t>26/7/28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marL="9586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marL="95868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5868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6873-2D99-4C83-A7C9-1795D4DC0381}" type="slidenum">
              <a:rPr b="0" lang="zh-CN" sz="13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圆角矩形 3"/>
          <p:cNvSpPr/>
          <p:nvPr/>
        </p:nvSpPr>
        <p:spPr>
          <a:xfrm>
            <a:off x="0" y="0"/>
            <a:ext cx="9906120" cy="7650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8680" indent="-95868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组合 9"/>
          <p:cNvGrpSpPr/>
          <p:nvPr/>
        </p:nvGrpSpPr>
        <p:grpSpPr>
          <a:xfrm>
            <a:off x="-14400" y="6524640"/>
            <a:ext cx="9904680" cy="333360"/>
            <a:chOff x="-14400" y="6524640"/>
            <a:chExt cx="9904680" cy="333360"/>
          </a:xfrm>
        </p:grpSpPr>
        <p:sp>
          <p:nvSpPr>
            <p:cNvPr id="7" name="圆角矩形 6"/>
            <p:cNvSpPr/>
            <p:nvPr/>
          </p:nvSpPr>
          <p:spPr>
            <a:xfrm>
              <a:off x="-14400" y="6524640"/>
              <a:ext cx="1988280" cy="333360"/>
            </a:xfrm>
            <a:prstGeom prst="roundRect">
              <a:avLst>
                <a:gd name="adj" fmla="val 0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58680" indent="-95868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圆角矩形 7"/>
            <p:cNvSpPr/>
            <p:nvPr/>
          </p:nvSpPr>
          <p:spPr>
            <a:xfrm>
              <a:off x="1973880" y="6524640"/>
              <a:ext cx="7916400" cy="333360"/>
            </a:xfrm>
            <a:prstGeom prst="roundRect">
              <a:avLst>
                <a:gd name="adj" fmla="val 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58680" indent="-95868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5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8680" indent="-95868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7" descr=""/>
          <p:cNvPicPr/>
          <p:nvPr/>
        </p:nvPicPr>
        <p:blipFill>
          <a:blip r:embed="rId1"/>
          <a:stretch/>
        </p:blipFill>
        <p:spPr>
          <a:xfrm>
            <a:off x="3683160" y="2178000"/>
            <a:ext cx="1520640" cy="1467000"/>
          </a:xfrm>
          <a:prstGeom prst="rect">
            <a:avLst/>
          </a:prstGeom>
          <a:ln w="0">
            <a:noFill/>
          </a:ln>
        </p:spPr>
      </p:pic>
      <p:sp>
        <p:nvSpPr>
          <p:cNvPr id="47" name="圆角矩形 10"/>
          <p:cNvSpPr/>
          <p:nvPr/>
        </p:nvSpPr>
        <p:spPr>
          <a:xfrm>
            <a:off x="3710160" y="549360"/>
            <a:ext cx="1466640" cy="1466640"/>
          </a:xfrm>
          <a:prstGeom prst="roundRect">
            <a:avLst>
              <a:gd name="adj" fmla="val 8644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8680" indent="-958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圆角矩形 11"/>
          <p:cNvSpPr/>
          <p:nvPr/>
        </p:nvSpPr>
        <p:spPr>
          <a:xfrm>
            <a:off x="2081160" y="2178000"/>
            <a:ext cx="1467000" cy="1467000"/>
          </a:xfrm>
          <a:prstGeom prst="roundRect">
            <a:avLst>
              <a:gd name="adj" fmla="val 7500"/>
            </a:avLst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8680" indent="-958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圆角矩形 12"/>
          <p:cNvSpPr/>
          <p:nvPr/>
        </p:nvSpPr>
        <p:spPr>
          <a:xfrm>
            <a:off x="5340240" y="2178000"/>
            <a:ext cx="1465200" cy="1467000"/>
          </a:xfrm>
          <a:custGeom>
            <a:avLst/>
            <a:gdLst>
              <a:gd name="textAreaLeft" fmla="*/ 32040 w 1465200"/>
              <a:gd name="textAreaRight" fmla="*/ 1433160 w 1465200"/>
              <a:gd name="textAreaTop" fmla="*/ 32040 h 1467000"/>
              <a:gd name="textAreaBottom" fmla="*/ 1434960 h 1467000"/>
            </a:gdLst>
            <a:ahLst/>
            <a:rect l="textAreaLeft" t="textAreaTop" r="textAreaRight" b="textAreaBottom"/>
            <a:pathLst>
              <a:path w="21600" h="21627">
                <a:moveTo>
                  <a:pt x="1620" y="0"/>
                </a:moveTo>
                <a:arcTo wR="1620" hR="1620" stAng="16200000" swAng="-5400000"/>
                <a:lnTo>
                  <a:pt x="0" y="20007"/>
                </a:lnTo>
                <a:arcTo wR="1620" hR="1620" stAng="10800000" swAng="-5400000"/>
                <a:lnTo>
                  <a:pt x="19980" y="21627"/>
                </a:lnTo>
                <a:arcTo wR="1620" hR="1620" stAng="5400000" swAng="-5400000"/>
                <a:lnTo>
                  <a:pt x="21600" y="1620"/>
                </a:lnTo>
                <a:arcTo wR="1620" hR="1620" stAng="0" swAng="-5400000"/>
                <a:close/>
              </a:path>
            </a:pathLst>
          </a:custGeom>
          <a:solidFill>
            <a:srgbClr val="5f49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8680" indent="-958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图片 10" descr=""/>
          <p:cNvPicPr/>
          <p:nvPr/>
        </p:nvPicPr>
        <p:blipFill>
          <a:blip r:embed="rId2"/>
          <a:srcRect l="16887" t="0" r="10487" b="5076"/>
          <a:stretch/>
        </p:blipFill>
        <p:spPr>
          <a:xfrm>
            <a:off x="2079720" y="549360"/>
            <a:ext cx="1504800" cy="146988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1" descr=""/>
          <p:cNvPicPr/>
          <p:nvPr/>
        </p:nvPicPr>
        <p:blipFill>
          <a:blip r:embed="rId3"/>
          <a:srcRect l="26520" t="0" r="0" b="6260"/>
          <a:stretch/>
        </p:blipFill>
        <p:spPr>
          <a:xfrm>
            <a:off x="3683160" y="2138400"/>
            <a:ext cx="1536480" cy="150660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2" descr=""/>
          <p:cNvPicPr/>
          <p:nvPr/>
        </p:nvPicPr>
        <p:blipFill>
          <a:blip r:embed="rId4"/>
          <a:srcRect l="3391" t="0" r="23946" b="8863"/>
          <a:stretch/>
        </p:blipFill>
        <p:spPr>
          <a:xfrm>
            <a:off x="6921360" y="2178000"/>
            <a:ext cx="1487520" cy="146700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3" descr=""/>
          <p:cNvPicPr/>
          <p:nvPr/>
        </p:nvPicPr>
        <p:blipFill>
          <a:blip r:embed="rId5"/>
          <a:srcRect l="6649" t="14009" r="6972" b="2644"/>
          <a:stretch/>
        </p:blipFill>
        <p:spPr>
          <a:xfrm>
            <a:off x="200160" y="1133640"/>
            <a:ext cx="1730160" cy="2511360"/>
          </a:xfrm>
          <a:prstGeom prst="rect">
            <a:avLst/>
          </a:prstGeom>
          <a:ln w="0">
            <a:noFill/>
          </a:ln>
        </p:spPr>
      </p:pic>
      <p:sp>
        <p:nvSpPr>
          <p:cNvPr id="54" name="圆角矩形 14"/>
          <p:cNvSpPr/>
          <p:nvPr/>
        </p:nvSpPr>
        <p:spPr>
          <a:xfrm>
            <a:off x="258840" y="479520"/>
            <a:ext cx="1671480" cy="639720"/>
          </a:xfrm>
          <a:prstGeom prst="roundRect">
            <a:avLst>
              <a:gd name="adj" fmla="val 7602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8680" indent="-95868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矩形 17"/>
          <p:cNvSpPr/>
          <p:nvPr/>
        </p:nvSpPr>
        <p:spPr>
          <a:xfrm>
            <a:off x="7832880" y="260280"/>
            <a:ext cx="187308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8680" indent="-95868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00000"/>
                </a:solidFill>
                <a:latin typeface="Calibri"/>
                <a:ea typeface="Calibri"/>
              </a:rPr>
              <a:t> </a:t>
            </a:r>
            <a:r>
              <a:rPr b="0" lang="en-US" sz="1900" spc="-1" strike="noStrike">
                <a:solidFill>
                  <a:srgbClr val="c00000"/>
                </a:solidFill>
                <a:latin typeface="Calibri"/>
                <a:ea typeface="Calibri"/>
              </a:rPr>
              <a:t>LOGO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60160" y="4619160"/>
            <a:ext cx="9072360" cy="825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微软雅黑"/>
              </a:rPr>
              <a:t>某某部门工作总结报告</a:t>
            </a:r>
            <a:r>
              <a:rPr b="1" lang="en-US" sz="4000" spc="-1" strike="noStrike">
                <a:solidFill>
                  <a:srgbClr val="c00000"/>
                </a:solidFill>
                <a:latin typeface="微软雅黑"/>
              </a:rPr>
              <a:t>PPT</a:t>
            </a:r>
            <a:r>
              <a:rPr b="1" lang="zh-CN" sz="4000" spc="-1" strike="noStrike">
                <a:solidFill>
                  <a:srgbClr val="c00000"/>
                </a:solidFill>
                <a:latin typeface="微软雅黑"/>
              </a:rPr>
              <a:t>模板</a:t>
            </a:r>
            <a:endParaRPr b="1" lang="en-US" sz="4000" spc="-1" strike="noStrike">
              <a:solidFill>
                <a:srgbClr val="00b0f0"/>
              </a:solidFill>
              <a:latin typeface="微软雅黑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631800" y="4005360"/>
            <a:ext cx="30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8680" indent="-958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XXXXX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公司名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920880" y="5518080"/>
            <a:ext cx="829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58680" indent="-9586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红色大气工作总结报告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圆角矩形 5"/>
          <p:cNvSpPr/>
          <p:nvPr/>
        </p:nvSpPr>
        <p:spPr>
          <a:xfrm>
            <a:off x="0" y="0"/>
            <a:ext cx="9906120" cy="3645000"/>
          </a:xfrm>
          <a:prstGeom prst="roundRect">
            <a:avLst>
              <a:gd name="adj" fmla="val 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8680" indent="-958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组合 1"/>
          <p:cNvGrpSpPr/>
          <p:nvPr/>
        </p:nvGrpSpPr>
        <p:grpSpPr>
          <a:xfrm>
            <a:off x="1239840" y="1263600"/>
            <a:ext cx="3706920" cy="1157400"/>
            <a:chOff x="1239840" y="1263600"/>
            <a:chExt cx="3706920" cy="1157400"/>
          </a:xfrm>
        </p:grpSpPr>
        <p:pic>
          <p:nvPicPr>
            <p:cNvPr id="62" name="Picture 7" descr=""/>
            <p:cNvPicPr/>
            <p:nvPr/>
          </p:nvPicPr>
          <p:blipFill>
            <a:blip r:embed="rId1"/>
            <a:stretch/>
          </p:blipFill>
          <p:spPr>
            <a:xfrm>
              <a:off x="2536920" y="1263600"/>
              <a:ext cx="1195560" cy="115272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pic>
          <p:nvPicPr>
            <p:cNvPr id="63" name="Picture 6" descr=""/>
            <p:cNvPicPr/>
            <p:nvPr/>
          </p:nvPicPr>
          <p:blipFill>
            <a:blip r:embed="rId2"/>
            <a:stretch/>
          </p:blipFill>
          <p:spPr>
            <a:xfrm>
              <a:off x="1239840" y="1263600"/>
              <a:ext cx="1217160" cy="115272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pic>
          <p:nvPicPr>
            <p:cNvPr id="64" name="Picture 8" descr=""/>
            <p:cNvPicPr/>
            <p:nvPr/>
          </p:nvPicPr>
          <p:blipFill>
            <a:blip r:embed="rId3"/>
            <a:srcRect l="0" t="5579" r="0" b="9538"/>
            <a:stretch/>
          </p:blipFill>
          <p:spPr>
            <a:xfrm>
              <a:off x="3810240" y="1268280"/>
              <a:ext cx="1136520" cy="115272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671560" y="2790360"/>
            <a:ext cx="6242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</a:t>
            </a:r>
            <a:br>
              <a:rPr sz="2500"/>
            </a:br>
            <a:endParaRPr b="1" lang="en-US" sz="2500" spc="-1" strike="noStrike">
              <a:solidFill>
                <a:srgbClr val="00b0f0"/>
              </a:solidFill>
              <a:latin typeface="微软雅黑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1100880" y="2741760"/>
            <a:ext cx="276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58680" indent="-958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20"/>
          <p:cNvSpPr/>
          <p:nvPr/>
        </p:nvSpPr>
        <p:spPr>
          <a:xfrm>
            <a:off x="1928880" y="3762360"/>
            <a:ext cx="367200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93895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38953"/>
                </a:solidFill>
                <a:latin typeface="微软雅黑"/>
                <a:ea typeface="微软雅黑"/>
              </a:rPr>
              <a:t>XXXXX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704880" y="620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8680" indent="-9586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7600" y="189000"/>
            <a:ext cx="8891640" cy="574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zh-CN" sz="2500" spc="-1" strike="noStrike">
                <a:solidFill>
                  <a:srgbClr val="00b0f0"/>
                </a:solidFill>
                <a:latin typeface="微软雅黑"/>
              </a:rPr>
              <a:t>使用规范说明</a:t>
            </a:r>
            <a:endParaRPr b="1" lang="en-US" sz="2500" spc="-1" strike="noStrike">
              <a:solidFill>
                <a:srgbClr val="00b0f0"/>
              </a:solidFill>
              <a:latin typeface="微软雅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360" y="1269720"/>
            <a:ext cx="9671040" cy="52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7894800" y="333360"/>
            <a:ext cx="150480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58680" indent="-95868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31D8-C730-4D0A-93DC-AFE086E3C6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2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8680" indent="-95868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矩形 3"/>
          <p:cNvSpPr/>
          <p:nvPr/>
        </p:nvSpPr>
        <p:spPr>
          <a:xfrm>
            <a:off x="0" y="4572000"/>
            <a:ext cx="9906120" cy="2313000"/>
          </a:xfrm>
          <a:prstGeom prst="rect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8680" indent="-95868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1 Título"/>
          <p:cNvSpPr/>
          <p:nvPr/>
        </p:nvSpPr>
        <p:spPr>
          <a:xfrm>
            <a:off x="419040" y="1123920"/>
            <a:ext cx="5902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8680" indent="-958680">
              <a:lnSpc>
                <a:spcPts val="576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404040"/>
                </a:solidFill>
                <a:latin typeface="Rockwell"/>
                <a:ea typeface="宋体"/>
              </a:rPr>
              <a:t>THANK  </a:t>
            </a:r>
            <a:r>
              <a:rPr b="1" lang="en-US" sz="4900" spc="-1" strike="noStrike">
                <a:solidFill>
                  <a:srgbClr val="c00000"/>
                </a:solidFill>
                <a:latin typeface="Rockwell"/>
                <a:ea typeface="宋体"/>
              </a:rPr>
              <a:t>YOU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2 Marcador de contenido"/>
          <p:cNvSpPr/>
          <p:nvPr/>
        </p:nvSpPr>
        <p:spPr>
          <a:xfrm>
            <a:off x="622440" y="1917720"/>
            <a:ext cx="7499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8680" indent="-95868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华文细黑"/>
                <a:ea typeface="华文细黑"/>
              </a:rPr>
              <a:t>联系人：</a:t>
            </a:r>
            <a:r>
              <a:rPr b="0" lang="en-US" sz="1800" spc="-1" strike="noStrike">
                <a:solidFill>
                  <a:srgbClr val="3f3f3f"/>
                </a:solidFill>
                <a:latin typeface="华文细黑"/>
                <a:ea typeface="华文细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58680" indent="-95868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华文细黑"/>
                <a:ea typeface="华文细黑"/>
              </a:rPr>
              <a:t>电话：</a:t>
            </a:r>
            <a:r>
              <a:rPr b="0" lang="en-US" sz="1800" spc="-1" strike="noStrike">
                <a:solidFill>
                  <a:srgbClr val="3f3f3f"/>
                </a:solidFill>
                <a:latin typeface="华文细黑"/>
                <a:ea typeface="华文细黑"/>
              </a:rPr>
              <a:t>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58680" indent="-95868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华文细黑"/>
                <a:ea typeface="华文细黑"/>
              </a:rPr>
              <a:t>邮箱：</a:t>
            </a:r>
            <a:r>
              <a:rPr b="0" lang="en-US" sz="1800" spc="-1" strike="noStrike">
                <a:solidFill>
                  <a:srgbClr val="3f3f3f"/>
                </a:solidFill>
                <a:latin typeface="华文细黑"/>
                <a:ea typeface="华文细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58680" indent="-95868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华文细黑"/>
                <a:ea typeface="华文细黑"/>
              </a:rPr>
              <a:t>地址：</a:t>
            </a:r>
            <a:r>
              <a:rPr b="0" lang="en-US" sz="1800" spc="-1" strike="noStrike">
                <a:solidFill>
                  <a:srgbClr val="3f3f3f"/>
                </a:solidFill>
                <a:latin typeface="华文细黑"/>
                <a:ea typeface="华文细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Abstract_christmas_tree (5) [转换]"/>
          <p:cNvPicPr/>
          <p:nvPr/>
        </p:nvPicPr>
        <p:blipFill>
          <a:blip r:embed="rId1"/>
          <a:srcRect l="0" t="0" r="0" b="4217"/>
          <a:stretch/>
        </p:blipFill>
        <p:spPr>
          <a:xfrm>
            <a:off x="6681960" y="420840"/>
            <a:ext cx="271116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950"/>
                            </p:stCondLst>
                            <p:childTnLst>
                              <p:par>
                                <p:cTn id="1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6T07:13:00Z</dcterms:created>
  <dc:creator>www.eeppt.cpm</dc:creator>
  <dc:description>www.eeppt.cpm</dc:description>
  <cp:keywords>www.eeppt.cpm</cp:keywords>
  <dc:language>en-US</dc:language>
  <cp:lastModifiedBy>a</cp:lastModifiedBy>
  <dcterms:modified xsi:type="dcterms:W3CDTF">2015-08-11T14:22:46Z</dcterms:modified>
  <cp:revision>8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