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AD2-84FF-48AF-B715-C74F0A6F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396-82A7-4E80-BE1C-76D1B63C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2D8-1FA3-4213-AE40-7A6148B9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2E7-8B3A-479E-AE4A-08B599E5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689-4F71-4DDB-8809-13E9A776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4F0-83AA-4C8D-AB1E-3986D01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B06-6717-4D09-BA65-E8FFB220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FB1-7108-40F3-8578-A464C413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A2C-92F3-4741-896B-85813C84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71C-8C55-4339-8477-C956106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4D6-5D5B-49D2-90BD-83197A63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3A2-3E3F-4FB2-8D3A-A571334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F02C-DB3F-4B49-A56E-DCEA916CA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6391_8_sma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5880" y="90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家乡报告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ost-34-1093645534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765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41760" y="533520"/>
            <a:ext cx="550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请写一篇关于你家乡的报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g_fz" descr=""/>
          <p:cNvPicPr/>
          <p:nvPr/>
        </p:nvPicPr>
        <p:blipFill>
          <a:blip r:embed="rId1"/>
          <a:stretch/>
        </p:blipFill>
        <p:spPr>
          <a:xfrm>
            <a:off x="0" y="-303120"/>
            <a:ext cx="9144000" cy="775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080" y="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连一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289160"/>
            <a:ext cx="9023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原地区                    美国中部                亚洲东南部的中南半岛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湄南河                    美国中部平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区                            元阳                        新疆中部的天山山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卢卡索                     云南的哀牢山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山                        法国阿尔卑斯山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沿海沿湖地区            大鱼岛                    太湖流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威尼斯                    山东半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乡                        意大利东北部、地中海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草原地区                    内蒙古                    澳大利亚的中部和西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澳大利亚                中国的内蒙古自治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干旱地区                    波斯湾沿岸            中国的西北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疆绿洲                亚洲西部的阿拉伯半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城市地区                    上海                        日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筑波                        法国首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巴黎                       长江的入海口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ance07" descr=""/>
          <p:cNvPicPr/>
          <p:nvPr/>
        </p:nvPicPr>
        <p:blipFill>
          <a:blip r:embed="rId2"/>
          <a:stretch/>
        </p:blipFill>
        <p:spPr>
          <a:xfrm>
            <a:off x="3962520" y="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6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013200" cy="4495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8120" y="17524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请你说出自己家乡所在的位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g_f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51880"/>
          </a:xfrm>
          <a:prstGeom prst="rect">
            <a:avLst/>
          </a:prstGeom>
          <a:ln w="0">
            <a:noFill/>
          </a:ln>
        </p:spPr>
      </p:pic>
      <p:pic>
        <p:nvPicPr>
          <p:cNvPr id="51" name="dance02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79480" cy="1040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4360" y="369720"/>
            <a:ext cx="23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cc"/>
                </a:solidFill>
                <a:latin typeface="Times New Roman"/>
              </a:rPr>
              <a:t>判一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11880" y="10875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哪些表达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人文特点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哪些说明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自然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29200" y="1676520"/>
            <a:ext cx="800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温多雨、水网密布、土层深厚、肥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通便利、机械化耕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广人稀、地势平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梯田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旅游胜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亚非欧三洲贸易往来的通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代化的大牧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气候干热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土地是干旱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农区牧区和城市                               逐水草而居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丝绸之路                                            坎儿井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绿洲农业                                           茫茫沙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际大都市                                        艺术之都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动漫4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7108920" cy="256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9907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你是怎样判断自然特征和人文特征的？它们的区别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1360" y="380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58720" y="496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写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8600" y="1463760"/>
            <a:ext cx="7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、区域所在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、区域的自然特征和人文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31251" descr=""/>
          <p:cNvPicPr/>
          <p:nvPr/>
        </p:nvPicPr>
        <p:blipFill>
          <a:blip r:embed="rId1"/>
          <a:stretch/>
        </p:blipFill>
        <p:spPr>
          <a:xfrm>
            <a:off x="1981080" y="3733920"/>
            <a:ext cx="4038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4160" y="68580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Times New Roman"/>
                <a:ea typeface="隶书"/>
              </a:rPr>
              <a:t>怎么写？（步骤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2480" y="2819520"/>
            <a:ext cx="95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、确定区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、收集资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、分析整理资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4</a:t>
            </a:r>
            <a:r>
              <a:rPr b="1" lang="zh-CN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、形成成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ance03" descr=""/>
          <p:cNvPicPr/>
          <p:nvPr/>
        </p:nvPicPr>
        <p:blipFill>
          <a:blip r:embed="rId1"/>
          <a:stretch/>
        </p:blipFill>
        <p:spPr>
          <a:xfrm>
            <a:off x="457200" y="0"/>
            <a:ext cx="237168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272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49" b="-19"/>
          <a:stretch/>
        </p:blipFill>
        <p:spPr>
          <a:xfrm>
            <a:off x="-22716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2209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  <a:ea typeface="仿宋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57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美人鱼" descr=""/>
          <p:cNvPicPr/>
          <p:nvPr/>
        </p:nvPicPr>
        <p:blipFill>
          <a:blip r:embed="rId2"/>
          <a:stretch/>
        </p:blipFill>
        <p:spPr>
          <a:xfrm>
            <a:off x="5562720" y="4952880"/>
            <a:ext cx="88884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3880" y="5731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隶书"/>
              </a:rPr>
              <a:t>写调查报告应注意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1430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确定要了解或介绍的区域。区域可大      可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确定从哪些方面介绍这个地区。选择区     域内独特的自然现象或人文特征，有侧重  地介绍，切忌面面俱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查找资料。如去图书馆、上网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资料的归纳、总结，并确定成果的呈现      方式。可以是调查报告、报道、介绍家乡的网页、或其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CEA-24FF-4A95-B784-CBC0CE534E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8:40:25Z</dcterms:created>
  <dc:creator>www.eeppt.cpm</dc:creator>
  <dc:description>www.eeppt.cpm</dc:description>
  <cp:keywords>www.eeppt.cpm</cp:keywords>
  <dc:language>en-US</dc:language>
  <cp:lastModifiedBy>wzz</cp:lastModifiedBy>
  <dcterms:modified xsi:type="dcterms:W3CDTF">2015-08-11T14:21:5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