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51BE-8CC3-48FA-A542-AB8B390CC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320" y="3909240"/>
            <a:ext cx="7620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ED97-7193-45ED-9C7C-A4293112C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320" y="390924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71240" y="390924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43752-C058-45F8-8FC2-6A5DC6A6E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42840" y="137160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19360" y="137160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320" y="390924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42840" y="390924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19360" y="390924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1A54-FB49-4D46-8A43-24D0C0EBB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1ACB6-97C3-4F1D-AFB3-C75268A6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320" y="1371600"/>
            <a:ext cx="762012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EE929-BE68-484E-9C06-4469CDD6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69A46-7217-4848-AEC0-68C424D2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D69BB-E6A9-45C9-B64D-99F65A9E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758DD-B24E-4EE4-AF69-49E86308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4920" y="456840"/>
            <a:ext cx="7086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A3E4D-A6C3-4F3C-A7C8-1FAB6576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320" y="390924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A8A6E-29C6-438E-9D75-00CF7321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320" y="1371600"/>
            <a:ext cx="762012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5D51-4577-457C-BEE7-599D9312C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71240" y="390924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E283F-A6C7-4396-BEC4-ECF4244B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3909240"/>
            <a:ext cx="7620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5DFCF-0CF0-4623-8E44-0DC60AE2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320" y="3909240"/>
            <a:ext cx="7620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A03C3-181E-42B1-AF3B-BC8D395C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320" y="390924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71240" y="390924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C328D-3C10-43DC-8294-8C24F59F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42840" y="137160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19360" y="137160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320" y="390924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42840" y="390924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19360" y="3909240"/>
            <a:ext cx="2453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BFF22-BC39-49EE-BA11-2C3E1759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F159-90C9-46C4-8E0D-2DC8006D1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6D5B-E136-4393-8208-4306FA85D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3B19-ECF9-43E7-8ECF-51F0C96A7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94920" y="456840"/>
            <a:ext cx="7086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03BD-C8D1-4ADE-8352-10005B932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924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B8F5-4624-4A5D-B725-D25871F06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71240" y="390924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3050-09A3-43DA-B772-3A2E6D547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44784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320" y="3909240"/>
            <a:ext cx="7620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DE1A8-796B-46EC-8DD5-37E6BD95F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0"/>
          <a:ext cx="914400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3"/>
          <p:cNvSpPr/>
          <p:nvPr/>
        </p:nvSpPr>
        <p:spPr>
          <a:xfrm>
            <a:off x="5715000" y="6305400"/>
            <a:ext cx="300996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066320" y="1371600"/>
            <a:ext cx="7620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453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d93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b174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b174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22824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4881-FDC9-426C-8CBD-FB9C834CFE3B}" type="slidenum">
              <a:rPr b="0" lang="en-US" sz="9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3b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6" name="Group 7"/>
          <p:cNvGrpSpPr/>
          <p:nvPr/>
        </p:nvGrpSpPr>
        <p:grpSpPr>
          <a:xfrm>
            <a:off x="228600" y="228600"/>
            <a:ext cx="990360" cy="1219320"/>
            <a:chOff x="228600" y="228600"/>
            <a:chExt cx="990360" cy="1219320"/>
          </a:xfrm>
        </p:grpSpPr>
        <p:sp>
          <p:nvSpPr>
            <p:cNvPr id="7" name="AutoShape 8"/>
            <p:cNvSpPr/>
            <p:nvPr/>
          </p:nvSpPr>
          <p:spPr>
            <a:xfrm>
              <a:off x="718560" y="696600"/>
              <a:ext cx="500400" cy="341640"/>
            </a:xfrm>
            <a:prstGeom prst="diamond">
              <a:avLst/>
            </a:prstGeom>
            <a:solidFill>
              <a:srgbClr val="4d7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228600" y="355320"/>
              <a:ext cx="511920" cy="347760"/>
            </a:xfrm>
            <a:prstGeom prst="diamond">
              <a:avLst/>
            </a:prstGeom>
            <a:solidFill>
              <a:srgbClr val="0b1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480240" y="228600"/>
              <a:ext cx="477000" cy="348480"/>
            </a:xfrm>
            <a:prstGeom prst="diamond">
              <a:avLst/>
            </a:prstGeom>
            <a:solidFill>
              <a:srgbClr val="245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718920" y="866520"/>
              <a:ext cx="257040" cy="466920"/>
            </a:xfrm>
            <a:custGeom>
              <a:avLst/>
              <a:gdLst/>
              <a:ahLst/>
              <a:rect l="l" t="t" r="r" b="b"/>
              <a:pathLst>
                <a:path w="648" h="1066">
                  <a:moveTo>
                    <a:pt x="648" y="1066"/>
                  </a:moveTo>
                  <a:lnTo>
                    <a:pt x="641" y="389"/>
                  </a:lnTo>
                  <a:lnTo>
                    <a:pt x="0" y="0"/>
                  </a:lnTo>
                  <a:lnTo>
                    <a:pt x="2" y="681"/>
                  </a:lnTo>
                  <a:lnTo>
                    <a:pt x="648" y="1066"/>
                  </a:lnTo>
                  <a:close/>
                </a:path>
              </a:pathLst>
            </a:custGeom>
            <a:solidFill>
              <a:srgbClr val="4d9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228960" y="525960"/>
              <a:ext cx="256680" cy="478080"/>
            </a:xfrm>
            <a:custGeom>
              <a:avLst/>
              <a:gdLst/>
              <a:ahLst/>
              <a:rect l="l" t="t" r="r" b="b"/>
              <a:pathLst>
                <a:path w="626" h="991">
                  <a:moveTo>
                    <a:pt x="626" y="991"/>
                  </a:moveTo>
                  <a:lnTo>
                    <a:pt x="626" y="362"/>
                  </a:lnTo>
                  <a:lnTo>
                    <a:pt x="0" y="0"/>
                  </a:lnTo>
                  <a:lnTo>
                    <a:pt x="2" y="617"/>
                  </a:lnTo>
                  <a:lnTo>
                    <a:pt x="626" y="991"/>
                  </a:lnTo>
                  <a:close/>
                </a:path>
              </a:pathLst>
            </a:custGeom>
            <a:solidFill>
              <a:srgbClr val="6a9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484560" y="992520"/>
              <a:ext cx="235080" cy="455400"/>
            </a:xfrm>
            <a:custGeom>
              <a:avLst/>
              <a:gdLst/>
              <a:ahLst/>
              <a:rect l="l" t="t" r="r" b="b"/>
              <a:pathLst>
                <a:path w="582" h="944">
                  <a:moveTo>
                    <a:pt x="582" y="944"/>
                  </a:moveTo>
                  <a:lnTo>
                    <a:pt x="582" y="346"/>
                  </a:lnTo>
                  <a:lnTo>
                    <a:pt x="0" y="0"/>
                  </a:lnTo>
                  <a:lnTo>
                    <a:pt x="1" y="610"/>
                  </a:lnTo>
                  <a:lnTo>
                    <a:pt x="582" y="944"/>
                  </a:lnTo>
                  <a:close/>
                </a:path>
              </a:pathLst>
            </a:custGeom>
            <a:solidFill>
              <a:srgbClr val="0b1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483480" y="401400"/>
              <a:ext cx="236520" cy="470520"/>
            </a:xfrm>
            <a:custGeom>
              <a:avLst/>
              <a:gdLst/>
              <a:ahLst/>
              <a:rect l="l" t="t" r="r" b="b"/>
              <a:pathLst>
                <a:path w="576" h="976">
                  <a:moveTo>
                    <a:pt x="576" y="976"/>
                  </a:moveTo>
                  <a:lnTo>
                    <a:pt x="574" y="350"/>
                  </a:lnTo>
                  <a:lnTo>
                    <a:pt x="0" y="0"/>
                  </a:lnTo>
                  <a:lnTo>
                    <a:pt x="0" y="625"/>
                  </a:lnTo>
                  <a:lnTo>
                    <a:pt x="576" y="976"/>
                  </a:ln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0" y="0"/>
          <a:ext cx="9144000" cy="31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AutoShape 8"/>
          <p:cNvSpPr/>
          <p:nvPr/>
        </p:nvSpPr>
        <p:spPr>
          <a:xfrm>
            <a:off x="6684840" y="3438360"/>
            <a:ext cx="2001960" cy="1238400"/>
          </a:xfrm>
          <a:prstGeom prst="diamond">
            <a:avLst/>
          </a:prstGeom>
          <a:solidFill>
            <a:srgbClr val="4d9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4724280" y="2201760"/>
            <a:ext cx="2048040" cy="1260720"/>
          </a:xfrm>
          <a:prstGeom prst="diamond">
            <a:avLst/>
          </a:prstGeom>
          <a:solidFill>
            <a:srgbClr val="0b1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5742000" y="1752480"/>
            <a:ext cx="1908000" cy="1263600"/>
          </a:xfrm>
          <a:prstGeom prst="diamond">
            <a:avLst/>
          </a:prstGeom>
          <a:solidFill>
            <a:srgbClr val="77a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5" name="未知"/>
          <p:cNvSpPr/>
          <p:nvPr/>
        </p:nvSpPr>
        <p:spPr>
          <a:xfrm>
            <a:off x="6686640" y="4054320"/>
            <a:ext cx="1028520" cy="1692360"/>
          </a:xfrm>
          <a:custGeom>
            <a:avLst/>
            <a:gdLst/>
            <a:ahLst/>
            <a:rect l="l" t="t" r="r" b="b"/>
            <a:pathLst>
              <a:path w="648" h="1066">
                <a:moveTo>
                  <a:pt x="648" y="1066"/>
                </a:moveTo>
                <a:lnTo>
                  <a:pt x="641" y="389"/>
                </a:lnTo>
                <a:lnTo>
                  <a:pt x="0" y="0"/>
                </a:lnTo>
                <a:lnTo>
                  <a:pt x="2" y="681"/>
                </a:lnTo>
                <a:lnTo>
                  <a:pt x="648" y="106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6" name="未知"/>
          <p:cNvSpPr/>
          <p:nvPr/>
        </p:nvSpPr>
        <p:spPr>
          <a:xfrm>
            <a:off x="4726080" y="2819520"/>
            <a:ext cx="1027080" cy="1733400"/>
          </a:xfrm>
          <a:custGeom>
            <a:avLst/>
            <a:gdLst/>
            <a:ahLst/>
            <a:rect l="l" t="t" r="r" b="b"/>
            <a:pathLst>
              <a:path w="626" h="991">
                <a:moveTo>
                  <a:pt x="626" y="991"/>
                </a:moveTo>
                <a:lnTo>
                  <a:pt x="626" y="362"/>
                </a:lnTo>
                <a:lnTo>
                  <a:pt x="0" y="0"/>
                </a:lnTo>
                <a:lnTo>
                  <a:pt x="2" y="617"/>
                </a:lnTo>
                <a:lnTo>
                  <a:pt x="626" y="991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7" name="未知"/>
          <p:cNvSpPr/>
          <p:nvPr/>
        </p:nvSpPr>
        <p:spPr>
          <a:xfrm>
            <a:off x="5749920" y="4537080"/>
            <a:ext cx="939960" cy="1635120"/>
          </a:xfrm>
          <a:custGeom>
            <a:avLst/>
            <a:gdLst/>
            <a:ahLst/>
            <a:rect l="l" t="t" r="r" b="b"/>
            <a:pathLst>
              <a:path w="592" h="1030">
                <a:moveTo>
                  <a:pt x="592" y="1030"/>
                </a:moveTo>
                <a:lnTo>
                  <a:pt x="592" y="371"/>
                </a:lnTo>
                <a:lnTo>
                  <a:pt x="1" y="0"/>
                </a:lnTo>
                <a:lnTo>
                  <a:pt x="0" y="662"/>
                </a:lnTo>
                <a:lnTo>
                  <a:pt x="592" y="1030"/>
                </a:lnTo>
                <a:close/>
              </a:path>
            </a:pathLst>
          </a:custGeom>
          <a:solidFill>
            <a:srgbClr val="4d7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8" name="未知"/>
          <p:cNvSpPr/>
          <p:nvPr/>
        </p:nvSpPr>
        <p:spPr>
          <a:xfrm>
            <a:off x="5742000" y="2382840"/>
            <a:ext cx="961920" cy="1671480"/>
          </a:xfrm>
          <a:custGeom>
            <a:avLst/>
            <a:gdLst/>
            <a:ahLst/>
            <a:rect l="l" t="t" r="r" b="b"/>
            <a:pathLst>
              <a:path w="598" h="1053">
                <a:moveTo>
                  <a:pt x="589" y="1053"/>
                </a:moveTo>
                <a:lnTo>
                  <a:pt x="598" y="394"/>
                </a:lnTo>
                <a:lnTo>
                  <a:pt x="0" y="0"/>
                </a:lnTo>
                <a:lnTo>
                  <a:pt x="1" y="675"/>
                </a:lnTo>
                <a:lnTo>
                  <a:pt x="589" y="1053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066320" y="1371600"/>
            <a:ext cx="7620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453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d93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b174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b174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3b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2"/>
          </p:nvPr>
        </p:nvSpPr>
        <p:spPr>
          <a:xfrm>
            <a:off x="152280" y="6552720"/>
            <a:ext cx="2438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3"/>
          </p:nvPr>
        </p:nvSpPr>
        <p:spPr>
          <a:xfrm>
            <a:off x="3123720" y="6552720"/>
            <a:ext cx="3048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4"/>
          </p:nvPr>
        </p:nvSpPr>
        <p:spPr>
          <a:xfrm>
            <a:off x="6476760" y="655272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b1749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BAB9-8008-4CB5-A3B2-C62B5D5B67E6}" type="slidenum">
              <a:rPr b="0" lang="en-US" sz="1000" spc="-1" strike="noStrike">
                <a:solidFill>
                  <a:srgbClr val="0b1749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3"/>
          <p:cNvGrpSpPr/>
          <p:nvPr/>
        </p:nvGrpSpPr>
        <p:grpSpPr>
          <a:xfrm>
            <a:off x="685800" y="3200400"/>
            <a:ext cx="3429000" cy="1338120"/>
            <a:chOff x="685800" y="3200400"/>
            <a:chExt cx="3429000" cy="1338120"/>
          </a:xfrm>
        </p:grpSpPr>
        <p:sp>
          <p:nvSpPr>
            <p:cNvPr id="101" name="未知"/>
            <p:cNvSpPr/>
            <p:nvPr/>
          </p:nvSpPr>
          <p:spPr>
            <a:xfrm rot="21190200">
              <a:off x="717120" y="3897000"/>
              <a:ext cx="2568600" cy="490320"/>
            </a:xfrm>
            <a:custGeom>
              <a:avLst/>
              <a:gdLst/>
              <a:ahLst/>
              <a:rect l="l" t="t" r="r" b="b"/>
              <a:pathLst>
                <a:path w="3214" h="205">
                  <a:moveTo>
                    <a:pt x="3" y="145"/>
                  </a:moveTo>
                  <a:cubicBezTo>
                    <a:pt x="0" y="144"/>
                    <a:pt x="557" y="0"/>
                    <a:pt x="987" y="16"/>
                  </a:cubicBezTo>
                  <a:cubicBezTo>
                    <a:pt x="1417" y="33"/>
                    <a:pt x="1861" y="149"/>
                    <a:pt x="2232" y="168"/>
                  </a:cubicBezTo>
                  <a:cubicBezTo>
                    <a:pt x="2603" y="187"/>
                    <a:pt x="3208" y="126"/>
                    <a:pt x="3211" y="130"/>
                  </a:cubicBezTo>
                  <a:cubicBezTo>
                    <a:pt x="3214" y="134"/>
                    <a:pt x="2622" y="205"/>
                    <a:pt x="2251" y="194"/>
                  </a:cubicBezTo>
                  <a:cubicBezTo>
                    <a:pt x="1880" y="183"/>
                    <a:pt x="1362" y="70"/>
                    <a:pt x="987" y="62"/>
                  </a:cubicBezTo>
                  <a:cubicBezTo>
                    <a:pt x="384" y="54"/>
                    <a:pt x="168" y="144"/>
                    <a:pt x="3" y="145"/>
                  </a:cubicBezTo>
                  <a:close/>
                </a:path>
              </a:pathLst>
            </a:cu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lin ang="1120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85800" y="3200400"/>
              <a:ext cx="3429000" cy="1190520"/>
            </a:xfrm>
            <a:custGeom>
              <a:avLst/>
              <a:gdLst/>
              <a:ahLst/>
              <a:rect l="l" t="t" r="r" b="b"/>
              <a:pathLst>
                <a:path w="1731" h="565">
                  <a:moveTo>
                    <a:pt x="3" y="565"/>
                  </a:moveTo>
                  <a:cubicBezTo>
                    <a:pt x="0" y="563"/>
                    <a:pt x="215" y="289"/>
                    <a:pt x="460" y="237"/>
                  </a:cubicBezTo>
                  <a:cubicBezTo>
                    <a:pt x="704" y="187"/>
                    <a:pt x="892" y="343"/>
                    <a:pt x="1104" y="305"/>
                  </a:cubicBezTo>
                  <a:cubicBezTo>
                    <a:pt x="1316" y="267"/>
                    <a:pt x="1728" y="0"/>
                    <a:pt x="1731" y="6"/>
                  </a:cubicBezTo>
                  <a:cubicBezTo>
                    <a:pt x="1654" y="53"/>
                    <a:pt x="1362" y="291"/>
                    <a:pt x="1124" y="344"/>
                  </a:cubicBezTo>
                  <a:cubicBezTo>
                    <a:pt x="886" y="397"/>
                    <a:pt x="650" y="265"/>
                    <a:pt x="456" y="313"/>
                  </a:cubicBezTo>
                  <a:cubicBezTo>
                    <a:pt x="115" y="402"/>
                    <a:pt x="94" y="537"/>
                    <a:pt x="3" y="565"/>
                  </a:cubicBezTo>
                  <a:close/>
                </a:path>
              </a:pathLst>
            </a:custGeom>
            <a:gradFill rotWithShape="0">
              <a:gsLst>
                <a:gs pos="0">
                  <a:srgbClr val="c3dbf2"/>
                </a:gs>
                <a:gs pos="100000">
                  <a:srgbClr val="4d93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343040"/>
            <a:ext cx="5181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b1749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b1749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6560" y="45720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b1749"/>
                </a:solidFill>
                <a:latin typeface="Arial"/>
              </a:rPr>
              <a:t>科学研究开题报告幻灯片免费下载</a:t>
            </a:r>
            <a:endParaRPr b="0" lang="en-US" sz="4000" spc="-1" strike="noStrike">
              <a:solidFill>
                <a:srgbClr val="0b17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3b2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990720" y="1447920"/>
            <a:ext cx="5786280" cy="5077800"/>
            <a:chOff x="990720" y="1447920"/>
            <a:chExt cx="5786280" cy="5077800"/>
          </a:xfrm>
        </p:grpSpPr>
        <p:sp>
          <p:nvSpPr>
            <p:cNvPr id="305" name="Oval 4"/>
            <p:cNvSpPr/>
            <p:nvPr/>
          </p:nvSpPr>
          <p:spPr>
            <a:xfrm>
              <a:off x="4905360" y="2307960"/>
              <a:ext cx="743040" cy="205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06" name="Oval 5"/>
            <p:cNvSpPr/>
            <p:nvPr/>
          </p:nvSpPr>
          <p:spPr>
            <a:xfrm>
              <a:off x="3619800" y="3993840"/>
              <a:ext cx="1257120" cy="348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07" name="Oval 6"/>
            <p:cNvSpPr/>
            <p:nvPr/>
          </p:nvSpPr>
          <p:spPr>
            <a:xfrm>
              <a:off x="4953240" y="6019560"/>
              <a:ext cx="182376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08" name="Oval 7"/>
            <p:cNvSpPr/>
            <p:nvPr/>
          </p:nvSpPr>
          <p:spPr>
            <a:xfrm>
              <a:off x="1219320" y="4655880"/>
              <a:ext cx="1481040" cy="410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09" name="Rectangle 8"/>
            <p:cNvSpPr/>
            <p:nvPr/>
          </p:nvSpPr>
          <p:spPr>
            <a:xfrm rot="13770000">
              <a:off x="4451400" y="3883680"/>
              <a:ext cx="96012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10" name="Rectangle 9"/>
            <p:cNvSpPr/>
            <p:nvPr/>
          </p:nvSpPr>
          <p:spPr>
            <a:xfrm rot="20856000">
              <a:off x="2466720" y="3436560"/>
              <a:ext cx="1009800" cy="1728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311" name="Group 10"/>
            <p:cNvGrpSpPr/>
            <p:nvPr/>
          </p:nvGrpSpPr>
          <p:grpSpPr>
            <a:xfrm>
              <a:off x="3405240" y="2129760"/>
              <a:ext cx="1701360" cy="1836360"/>
              <a:chOff x="3405240" y="2129760"/>
              <a:chExt cx="1701360" cy="1836360"/>
            </a:xfrm>
          </p:grpSpPr>
          <p:sp>
            <p:nvSpPr>
              <p:cNvPr id="312" name="Rectangle 11"/>
              <p:cNvSpPr/>
              <p:nvPr/>
            </p:nvSpPr>
            <p:spPr>
              <a:xfrm rot="18394200">
                <a:off x="4578480" y="2342160"/>
                <a:ext cx="5950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grpSp>
            <p:nvGrpSpPr>
              <p:cNvPr id="313" name="Group 12"/>
              <p:cNvGrpSpPr/>
              <p:nvPr/>
            </p:nvGrpSpPr>
            <p:grpSpPr>
              <a:xfrm>
                <a:off x="3405240" y="2379600"/>
                <a:ext cx="1609560" cy="1586520"/>
                <a:chOff x="3405240" y="2379600"/>
                <a:chExt cx="1609560" cy="1586520"/>
              </a:xfrm>
            </p:grpSpPr>
            <p:sp>
              <p:nvSpPr>
                <p:cNvPr id="314" name="Oval 13"/>
                <p:cNvSpPr/>
                <p:nvPr/>
              </p:nvSpPr>
              <p:spPr>
                <a:xfrm>
                  <a:off x="3405240" y="2379600"/>
                  <a:ext cx="1609560" cy="158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93bc"/>
                    </a:gs>
                    <a:gs pos="100000">
                      <a:srgbClr val="1a24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315" name="未知"/>
                <p:cNvSpPr/>
                <p:nvPr/>
              </p:nvSpPr>
              <p:spPr>
                <a:xfrm>
                  <a:off x="3589200" y="2405880"/>
                  <a:ext cx="1241640" cy="59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a93b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Text Box 15"/>
              <p:cNvSpPr/>
              <p:nvPr/>
            </p:nvSpPr>
            <p:spPr>
              <a:xfrm>
                <a:off x="3492000" y="30700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16"/>
            <p:cNvGrpSpPr/>
            <p:nvPr/>
          </p:nvGrpSpPr>
          <p:grpSpPr>
            <a:xfrm>
              <a:off x="4815000" y="1447920"/>
              <a:ext cx="891720" cy="861480"/>
              <a:chOff x="4815000" y="1447920"/>
              <a:chExt cx="891720" cy="861480"/>
            </a:xfrm>
          </p:grpSpPr>
          <p:grpSp>
            <p:nvGrpSpPr>
              <p:cNvPr id="318" name="Group 17"/>
              <p:cNvGrpSpPr/>
              <p:nvPr/>
            </p:nvGrpSpPr>
            <p:grpSpPr>
              <a:xfrm>
                <a:off x="4815000" y="1447920"/>
                <a:ext cx="871560" cy="861480"/>
                <a:chOff x="4815000" y="1447920"/>
                <a:chExt cx="871560" cy="861480"/>
              </a:xfrm>
            </p:grpSpPr>
            <p:sp>
              <p:nvSpPr>
                <p:cNvPr id="319" name="Oval 18"/>
                <p:cNvSpPr/>
                <p:nvPr/>
              </p:nvSpPr>
              <p:spPr>
                <a:xfrm>
                  <a:off x="4815000" y="1447920"/>
                  <a:ext cx="871560" cy="86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93d9"/>
                    </a:gs>
                    <a:gs pos="100000">
                      <a:srgbClr val="234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320" name="未知"/>
                <p:cNvSpPr/>
                <p:nvPr/>
              </p:nvSpPr>
              <p:spPr>
                <a:xfrm>
                  <a:off x="4914360" y="14619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d93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Text Box 20"/>
              <p:cNvSpPr/>
              <p:nvPr/>
            </p:nvSpPr>
            <p:spPr>
              <a:xfrm>
                <a:off x="4835520" y="17794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21"/>
            <p:cNvGrpSpPr/>
            <p:nvPr/>
          </p:nvGrpSpPr>
          <p:grpSpPr>
            <a:xfrm>
              <a:off x="990720" y="2773080"/>
              <a:ext cx="1744560" cy="1790280"/>
              <a:chOff x="990720" y="2773080"/>
              <a:chExt cx="1744560" cy="1790280"/>
            </a:xfrm>
          </p:grpSpPr>
          <p:grpSp>
            <p:nvGrpSpPr>
              <p:cNvPr id="323" name="Group 22"/>
              <p:cNvGrpSpPr/>
              <p:nvPr/>
            </p:nvGrpSpPr>
            <p:grpSpPr>
              <a:xfrm>
                <a:off x="990720" y="2773080"/>
                <a:ext cx="1744560" cy="1790280"/>
                <a:chOff x="990720" y="2773080"/>
                <a:chExt cx="1744560" cy="1790280"/>
              </a:xfrm>
            </p:grpSpPr>
            <p:sp>
              <p:nvSpPr>
                <p:cNvPr id="324" name="Oval 23"/>
                <p:cNvSpPr/>
                <p:nvPr/>
              </p:nvSpPr>
              <p:spPr>
                <a:xfrm>
                  <a:off x="990720" y="2773080"/>
                  <a:ext cx="1744560" cy="179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567e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325" name="未知"/>
                <p:cNvSpPr/>
                <p:nvPr/>
              </p:nvSpPr>
              <p:spPr>
                <a:xfrm>
                  <a:off x="1190160" y="280260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Text Box 25"/>
              <p:cNvSpPr/>
              <p:nvPr/>
            </p:nvSpPr>
            <p:spPr>
              <a:xfrm>
                <a:off x="1085040" y="35679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26"/>
            <p:cNvGrpSpPr/>
            <p:nvPr/>
          </p:nvGrpSpPr>
          <p:grpSpPr>
            <a:xfrm>
              <a:off x="4746600" y="4033440"/>
              <a:ext cx="2013120" cy="1989000"/>
              <a:chOff x="4746600" y="4033440"/>
              <a:chExt cx="2013120" cy="1989000"/>
            </a:xfrm>
          </p:grpSpPr>
          <p:grpSp>
            <p:nvGrpSpPr>
              <p:cNvPr id="328" name="Group 27"/>
              <p:cNvGrpSpPr/>
              <p:nvPr/>
            </p:nvGrpSpPr>
            <p:grpSpPr>
              <a:xfrm>
                <a:off x="4746600" y="4033440"/>
                <a:ext cx="2013120" cy="1989000"/>
                <a:chOff x="4746600" y="4033440"/>
                <a:chExt cx="2013120" cy="1989000"/>
              </a:xfrm>
            </p:grpSpPr>
            <p:sp>
              <p:nvSpPr>
                <p:cNvPr id="329" name="Oval 28"/>
                <p:cNvSpPr/>
                <p:nvPr/>
              </p:nvSpPr>
              <p:spPr>
                <a:xfrm>
                  <a:off x="4746600" y="403344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798f"/>
                    </a:gs>
                    <a:gs pos="100000">
                      <a:srgbClr val="2a424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330" name="未知"/>
                <p:cNvSpPr/>
                <p:nvPr/>
              </p:nvSpPr>
              <p:spPr>
                <a:xfrm>
                  <a:off x="4976640" y="406620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d798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" name="Text Box 30"/>
              <p:cNvSpPr/>
              <p:nvPr/>
            </p:nvSpPr>
            <p:spPr>
              <a:xfrm>
                <a:off x="5034960" y="48952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3b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333" name="Group 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34" name="AutoShape 4"/>
            <p:cNvSpPr/>
            <p:nvPr/>
          </p:nvSpPr>
          <p:spPr>
            <a:xfrm rot="17973000">
              <a:off x="4559760" y="2532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d9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35" name="AutoShape 5"/>
            <p:cNvSpPr/>
            <p:nvPr/>
          </p:nvSpPr>
          <p:spPr>
            <a:xfrm rot="3465600">
              <a:off x="4610520" y="46425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d9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36" name="AutoShape 6"/>
            <p:cNvSpPr/>
            <p:nvPr/>
          </p:nvSpPr>
          <p:spPr>
            <a:xfrm rot="14368800">
              <a:off x="3391200" y="25549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4d9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37" name="AutoShape 7"/>
            <p:cNvSpPr/>
            <p:nvPr/>
          </p:nvSpPr>
          <p:spPr>
            <a:xfrm rot="7534800">
              <a:off x="3353040" y="46090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d9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38" name="AutoShape 8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d9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39" name="AutoShape 9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4d9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40" name="Oval 10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41" name="Text Box 11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b174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42" name="Text Box 12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b174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43" name="Text Box 13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b174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44" name="Text Box 14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b174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45" name="Text Box 15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b174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46" name="Text Box 16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b174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47" name="Oval 17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48" name="Oval 18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49" name="Oval 19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50" name="Oval 20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51" name="Oval 21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52" name="Oval 22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53" name="Oval 2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d798f"/>
                </a:gs>
                <a:gs pos="50000">
                  <a:srgbClr val="ffffff"/>
                </a:gs>
                <a:gs pos="100000">
                  <a:srgbClr val="4d798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54" name="Oval 24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d798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55" name="Oval 25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d798f"/>
                </a:gs>
                <a:gs pos="50000">
                  <a:srgbClr val="2a414d"/>
                </a:gs>
                <a:gs pos="100000">
                  <a:srgbClr val="4d79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56" name="Oval 26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d798f">
                    <a:alpha val="0"/>
                  </a:srgbClr>
                </a:gs>
                <a:gs pos="100000">
                  <a:srgbClr val="314d5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57" name="Oval 27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358" name="Group 28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9" name="Oval 29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360" name="Oval 30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361" name="Oval 31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362" name="Oval 32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363" name="Text Box 33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3b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365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6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67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68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69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70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71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372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73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374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375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376" name="Oval 14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377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378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b1749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79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grpSp>
        <p:nvGrpSpPr>
          <p:cNvPr id="380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81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82" name="AutoShape 20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83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84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85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86" name="Oval 24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87" name="Oval 25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88" name="Oval 26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89" name="Oval 27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90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b1749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91" name="Text Box 29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92" name="AutoShape 30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93" name="AutoShape 31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grpSp>
        <p:nvGrpSpPr>
          <p:cNvPr id="394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5" name="AutoShape 33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96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97" name="AutoShape 35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98" name="AutoShape 36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399" name="Group 37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00" name="Oval 38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01" name="Oval 39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02" name="Oval 40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03" name="Oval 41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04" name="Oval 42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405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b1749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406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407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8a4b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408" name="AutoShape 46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dbd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3b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410" name="Group 3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11" name="Group 4"/>
            <p:cNvGrpSpPr/>
            <p:nvPr/>
          </p:nvGrpSpPr>
          <p:grpSpPr>
            <a:xfrm>
              <a:off x="0" y="3279600"/>
              <a:ext cx="9144000" cy="149040"/>
              <a:chOff x="0" y="3279600"/>
              <a:chExt cx="9144000" cy="149040"/>
            </a:xfrm>
          </p:grpSpPr>
          <p:sp>
            <p:nvSpPr>
              <p:cNvPr id="412" name="Rectangle 5"/>
              <p:cNvSpPr/>
              <p:nvPr/>
            </p:nvSpPr>
            <p:spPr>
              <a:xfrm>
                <a:off x="0" y="3279600"/>
                <a:ext cx="9144000" cy="583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13" name="Rectangle 6"/>
              <p:cNvSpPr/>
              <p:nvPr/>
            </p:nvSpPr>
            <p:spPr>
              <a:xfrm>
                <a:off x="0" y="3336840"/>
                <a:ext cx="9144000" cy="9180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7"/>
            <p:cNvGrpSpPr/>
            <p:nvPr/>
          </p:nvGrpSpPr>
          <p:grpSpPr>
            <a:xfrm>
              <a:off x="762120" y="2685960"/>
              <a:ext cx="1932120" cy="3265200"/>
              <a:chOff x="762120" y="2685960"/>
              <a:chExt cx="1932120" cy="3265200"/>
            </a:xfrm>
          </p:grpSpPr>
          <p:grpSp>
            <p:nvGrpSpPr>
              <p:cNvPr id="415" name="Group 8"/>
              <p:cNvGrpSpPr/>
              <p:nvPr/>
            </p:nvGrpSpPr>
            <p:grpSpPr>
              <a:xfrm>
                <a:off x="1167480" y="3525480"/>
                <a:ext cx="1526760" cy="2425680"/>
                <a:chOff x="1167480" y="3525480"/>
                <a:chExt cx="1526760" cy="2425680"/>
              </a:xfrm>
            </p:grpSpPr>
            <p:grpSp>
              <p:nvGrpSpPr>
                <p:cNvPr id="416" name="Group 9"/>
                <p:cNvGrpSpPr/>
                <p:nvPr/>
              </p:nvGrpSpPr>
              <p:grpSpPr>
                <a:xfrm>
                  <a:off x="1167480" y="3683520"/>
                  <a:ext cx="1420920" cy="2267640"/>
                  <a:chOff x="1167480" y="3683520"/>
                  <a:chExt cx="1420920" cy="2267640"/>
                </a:xfrm>
              </p:grpSpPr>
              <p:sp>
                <p:nvSpPr>
                  <p:cNvPr id="417" name="未知"/>
                  <p:cNvSpPr/>
                  <p:nvPr/>
                </p:nvSpPr>
                <p:spPr>
                  <a:xfrm rot="3876600">
                    <a:off x="73980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未知"/>
                  <p:cNvSpPr/>
                  <p:nvPr/>
                </p:nvSpPr>
                <p:spPr>
                  <a:xfrm rot="3876600">
                    <a:off x="210744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Group 12"/>
                <p:cNvGrpSpPr/>
                <p:nvPr/>
              </p:nvGrpSpPr>
              <p:grpSpPr>
                <a:xfrm>
                  <a:off x="1603800" y="3525480"/>
                  <a:ext cx="1090440" cy="1740240"/>
                  <a:chOff x="1603800" y="3525480"/>
                  <a:chExt cx="1090440" cy="1740240"/>
                </a:xfrm>
              </p:grpSpPr>
              <p:sp>
                <p:nvSpPr>
                  <p:cNvPr id="420" name="未知"/>
                  <p:cNvSpPr/>
                  <p:nvPr/>
                </p:nvSpPr>
                <p:spPr>
                  <a:xfrm flipV="1" rot="3876600">
                    <a:off x="1275480" y="42062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未知"/>
                  <p:cNvSpPr/>
                  <p:nvPr/>
                </p:nvSpPr>
                <p:spPr>
                  <a:xfrm flipV="1" rot="3876600">
                    <a:off x="2309040" y="48880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2" name="Group 15"/>
              <p:cNvGrpSpPr/>
              <p:nvPr/>
            </p:nvGrpSpPr>
            <p:grpSpPr>
              <a:xfrm>
                <a:off x="762120" y="2685960"/>
                <a:ext cx="1271520" cy="1310040"/>
                <a:chOff x="762120" y="2685960"/>
                <a:chExt cx="1271520" cy="1310040"/>
              </a:xfrm>
            </p:grpSpPr>
            <p:sp>
              <p:nvSpPr>
                <p:cNvPr id="423" name="Oval 16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24" name="Oval 17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25" name="Oval 18"/>
                <p:cNvSpPr/>
                <p:nvPr/>
              </p:nvSpPr>
              <p:spPr>
                <a:xfrm>
                  <a:off x="8463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26" name="Oval 19"/>
                <p:cNvSpPr/>
                <p:nvPr/>
              </p:nvSpPr>
              <p:spPr>
                <a:xfrm>
                  <a:off x="8463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27" name="Oval 20"/>
                <p:cNvSpPr/>
                <p:nvPr/>
              </p:nvSpPr>
              <p:spPr>
                <a:xfrm>
                  <a:off x="9007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grpSp>
              <p:nvGrpSpPr>
                <p:cNvPr id="428" name="Group 21"/>
                <p:cNvGrpSpPr/>
                <p:nvPr/>
              </p:nvGrpSpPr>
              <p:grpSpPr>
                <a:xfrm>
                  <a:off x="916200" y="2844720"/>
                  <a:ext cx="963000" cy="993600"/>
                  <a:chOff x="916200" y="2844720"/>
                  <a:chExt cx="963000" cy="993600"/>
                </a:xfrm>
              </p:grpSpPr>
              <p:sp>
                <p:nvSpPr>
                  <p:cNvPr id="429" name="Oval 22"/>
                  <p:cNvSpPr/>
                  <p:nvPr/>
                </p:nvSpPr>
                <p:spPr>
                  <a:xfrm>
                    <a:off x="9162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Oval 23"/>
                  <p:cNvSpPr/>
                  <p:nvPr/>
                </p:nvSpPr>
                <p:spPr>
                  <a:xfrm>
                    <a:off x="9284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Oval 24"/>
                  <p:cNvSpPr/>
                  <p:nvPr/>
                </p:nvSpPr>
                <p:spPr>
                  <a:xfrm>
                    <a:off x="9385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25"/>
                  <p:cNvSpPr/>
                  <p:nvPr/>
                </p:nvSpPr>
                <p:spPr>
                  <a:xfrm>
                    <a:off x="9907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3" name="Text Box 26"/>
              <p:cNvSpPr/>
              <p:nvPr/>
            </p:nvSpPr>
            <p:spPr>
              <a:xfrm rot="3925800">
                <a:off x="112968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34" name="Text Box 27"/>
              <p:cNvSpPr/>
              <p:nvPr/>
            </p:nvSpPr>
            <p:spPr>
              <a:xfrm rot="3925800">
                <a:off x="158976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b1749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28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436" name="Group 29"/>
              <p:cNvGrpSpPr/>
              <p:nvPr/>
            </p:nvGrpSpPr>
            <p:grpSpPr>
              <a:xfrm>
                <a:off x="2913480" y="3525840"/>
                <a:ext cx="1526760" cy="2425320"/>
                <a:chOff x="2913480" y="3525840"/>
                <a:chExt cx="1526760" cy="2425320"/>
              </a:xfrm>
            </p:grpSpPr>
            <p:grpSp>
              <p:nvGrpSpPr>
                <p:cNvPr id="437" name="Group 30"/>
                <p:cNvGrpSpPr/>
                <p:nvPr/>
              </p:nvGrpSpPr>
              <p:grpSpPr>
                <a:xfrm>
                  <a:off x="2913480" y="3683520"/>
                  <a:ext cx="1420920" cy="2267640"/>
                  <a:chOff x="2913480" y="3683520"/>
                  <a:chExt cx="1420920" cy="2267640"/>
                </a:xfrm>
              </p:grpSpPr>
              <p:sp>
                <p:nvSpPr>
                  <p:cNvPr id="438" name="未知"/>
                  <p:cNvSpPr/>
                  <p:nvPr/>
                </p:nvSpPr>
                <p:spPr>
                  <a:xfrm rot="3876600">
                    <a:off x="248580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未知"/>
                  <p:cNvSpPr/>
                  <p:nvPr/>
                </p:nvSpPr>
                <p:spPr>
                  <a:xfrm rot="3876600">
                    <a:off x="385344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33"/>
                <p:cNvGrpSpPr/>
                <p:nvPr/>
              </p:nvGrpSpPr>
              <p:grpSpPr>
                <a:xfrm>
                  <a:off x="3350160" y="3525840"/>
                  <a:ext cx="1090080" cy="1739880"/>
                  <a:chOff x="3350160" y="3525840"/>
                  <a:chExt cx="1090080" cy="1739880"/>
                </a:xfrm>
              </p:grpSpPr>
              <p:sp>
                <p:nvSpPr>
                  <p:cNvPr id="441" name="未知"/>
                  <p:cNvSpPr/>
                  <p:nvPr/>
                </p:nvSpPr>
                <p:spPr>
                  <a:xfrm flipV="1" rot="3876600">
                    <a:off x="3021840" y="420624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未知"/>
                  <p:cNvSpPr/>
                  <p:nvPr/>
                </p:nvSpPr>
                <p:spPr>
                  <a:xfrm flipV="1" rot="3876600">
                    <a:off x="4055400" y="48877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3" name="Group 36"/>
              <p:cNvGrpSpPr/>
              <p:nvPr/>
            </p:nvGrpSpPr>
            <p:grpSpPr>
              <a:xfrm>
                <a:off x="2509920" y="2685960"/>
                <a:ext cx="1271520" cy="1310040"/>
                <a:chOff x="2509920" y="2685960"/>
                <a:chExt cx="1271520" cy="1310040"/>
              </a:xfrm>
            </p:grpSpPr>
            <p:sp>
              <p:nvSpPr>
                <p:cNvPr id="444" name="Oval 37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45" name="Oval 38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46" name="Oval 39"/>
                <p:cNvSpPr/>
                <p:nvPr/>
              </p:nvSpPr>
              <p:spPr>
                <a:xfrm>
                  <a:off x="25941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47" name="Oval 40"/>
                <p:cNvSpPr/>
                <p:nvPr/>
              </p:nvSpPr>
              <p:spPr>
                <a:xfrm>
                  <a:off x="25941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48" name="Oval 41"/>
                <p:cNvSpPr/>
                <p:nvPr/>
              </p:nvSpPr>
              <p:spPr>
                <a:xfrm>
                  <a:off x="26485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grpSp>
              <p:nvGrpSpPr>
                <p:cNvPr id="449" name="Group 42"/>
                <p:cNvGrpSpPr/>
                <p:nvPr/>
              </p:nvGrpSpPr>
              <p:grpSpPr>
                <a:xfrm>
                  <a:off x="2664000" y="2844720"/>
                  <a:ext cx="963000" cy="993600"/>
                  <a:chOff x="2664000" y="2844720"/>
                  <a:chExt cx="963000" cy="993600"/>
                </a:xfrm>
              </p:grpSpPr>
              <p:sp>
                <p:nvSpPr>
                  <p:cNvPr id="450" name="Oval 43"/>
                  <p:cNvSpPr/>
                  <p:nvPr/>
                </p:nvSpPr>
                <p:spPr>
                  <a:xfrm>
                    <a:off x="26640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44"/>
                  <p:cNvSpPr/>
                  <p:nvPr/>
                </p:nvSpPr>
                <p:spPr>
                  <a:xfrm>
                    <a:off x="26762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Oval 45"/>
                  <p:cNvSpPr/>
                  <p:nvPr/>
                </p:nvSpPr>
                <p:spPr>
                  <a:xfrm>
                    <a:off x="26863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46"/>
                  <p:cNvSpPr/>
                  <p:nvPr/>
                </p:nvSpPr>
                <p:spPr>
                  <a:xfrm>
                    <a:off x="27385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4" name="Text Box 47"/>
              <p:cNvSpPr/>
              <p:nvPr/>
            </p:nvSpPr>
            <p:spPr>
              <a:xfrm rot="3925800">
                <a:off x="287172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55" name="Text Box 48"/>
              <p:cNvSpPr/>
              <p:nvPr/>
            </p:nvSpPr>
            <p:spPr>
              <a:xfrm rot="3925800">
                <a:off x="333144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b1749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49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457" name="Group 50"/>
              <p:cNvGrpSpPr/>
              <p:nvPr/>
            </p:nvGrpSpPr>
            <p:grpSpPr>
              <a:xfrm>
                <a:off x="4718520" y="3525480"/>
                <a:ext cx="1526760" cy="2425680"/>
                <a:chOff x="4718520" y="3525480"/>
                <a:chExt cx="1526760" cy="2425680"/>
              </a:xfrm>
            </p:grpSpPr>
            <p:grpSp>
              <p:nvGrpSpPr>
                <p:cNvPr id="458" name="Group 51"/>
                <p:cNvGrpSpPr/>
                <p:nvPr/>
              </p:nvGrpSpPr>
              <p:grpSpPr>
                <a:xfrm>
                  <a:off x="4718520" y="3683520"/>
                  <a:ext cx="1420920" cy="2267640"/>
                  <a:chOff x="4718520" y="3683520"/>
                  <a:chExt cx="1420920" cy="2267640"/>
                </a:xfrm>
              </p:grpSpPr>
              <p:sp>
                <p:nvSpPr>
                  <p:cNvPr id="459" name="未知"/>
                  <p:cNvSpPr/>
                  <p:nvPr/>
                </p:nvSpPr>
                <p:spPr>
                  <a:xfrm rot="3876600">
                    <a:off x="429084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未知"/>
                  <p:cNvSpPr/>
                  <p:nvPr/>
                </p:nvSpPr>
                <p:spPr>
                  <a:xfrm rot="3876600">
                    <a:off x="565848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Group 54"/>
                <p:cNvGrpSpPr/>
                <p:nvPr/>
              </p:nvGrpSpPr>
              <p:grpSpPr>
                <a:xfrm>
                  <a:off x="5154840" y="3525480"/>
                  <a:ext cx="1090440" cy="1740240"/>
                  <a:chOff x="5154840" y="3525480"/>
                  <a:chExt cx="1090440" cy="1740240"/>
                </a:xfrm>
              </p:grpSpPr>
              <p:sp>
                <p:nvSpPr>
                  <p:cNvPr id="462" name="未知"/>
                  <p:cNvSpPr/>
                  <p:nvPr/>
                </p:nvSpPr>
                <p:spPr>
                  <a:xfrm flipV="1" rot="3876600">
                    <a:off x="4826520" y="42062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未知"/>
                  <p:cNvSpPr/>
                  <p:nvPr/>
                </p:nvSpPr>
                <p:spPr>
                  <a:xfrm flipV="1" rot="3876600">
                    <a:off x="5860080" y="48880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4" name="Group 57"/>
              <p:cNvGrpSpPr/>
              <p:nvPr/>
            </p:nvGrpSpPr>
            <p:grpSpPr>
              <a:xfrm>
                <a:off x="4313160" y="2685960"/>
                <a:ext cx="1273320" cy="1310040"/>
                <a:chOff x="4313160" y="2685960"/>
                <a:chExt cx="1273320" cy="1310040"/>
              </a:xfrm>
            </p:grpSpPr>
            <p:sp>
              <p:nvSpPr>
                <p:cNvPr id="465" name="Oval 58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66" name="Oval 59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67" name="Oval 60"/>
                <p:cNvSpPr/>
                <p:nvPr/>
              </p:nvSpPr>
              <p:spPr>
                <a:xfrm>
                  <a:off x="4397400" y="277092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68" name="Oval 61"/>
                <p:cNvSpPr/>
                <p:nvPr/>
              </p:nvSpPr>
              <p:spPr>
                <a:xfrm>
                  <a:off x="4397400" y="277380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69" name="Oval 62"/>
                <p:cNvSpPr/>
                <p:nvPr/>
              </p:nvSpPr>
              <p:spPr>
                <a:xfrm>
                  <a:off x="4452120" y="2828880"/>
                  <a:ext cx="99504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grpSp>
              <p:nvGrpSpPr>
                <p:cNvPr id="470" name="Group 63"/>
                <p:cNvGrpSpPr/>
                <p:nvPr/>
              </p:nvGrpSpPr>
              <p:grpSpPr>
                <a:xfrm>
                  <a:off x="4467240" y="2844720"/>
                  <a:ext cx="964440" cy="993600"/>
                  <a:chOff x="4467240" y="2844720"/>
                  <a:chExt cx="964440" cy="993600"/>
                </a:xfrm>
              </p:grpSpPr>
              <p:sp>
                <p:nvSpPr>
                  <p:cNvPr id="471" name="Oval 64"/>
                  <p:cNvSpPr/>
                  <p:nvPr/>
                </p:nvSpPr>
                <p:spPr>
                  <a:xfrm>
                    <a:off x="4467240" y="2844720"/>
                    <a:ext cx="96444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Oval 65"/>
                  <p:cNvSpPr/>
                  <p:nvPr/>
                </p:nvSpPr>
                <p:spPr>
                  <a:xfrm>
                    <a:off x="4479480" y="2850120"/>
                    <a:ext cx="9410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Oval 66"/>
                  <p:cNvSpPr/>
                  <p:nvPr/>
                </p:nvSpPr>
                <p:spPr>
                  <a:xfrm>
                    <a:off x="4489560" y="2859840"/>
                    <a:ext cx="89496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Oval 67"/>
                  <p:cNvSpPr/>
                  <p:nvPr/>
                </p:nvSpPr>
                <p:spPr>
                  <a:xfrm>
                    <a:off x="4541760" y="2885040"/>
                    <a:ext cx="79560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Text Box 68"/>
              <p:cNvSpPr/>
              <p:nvPr/>
            </p:nvSpPr>
            <p:spPr>
              <a:xfrm rot="3925800">
                <a:off x="468396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76" name="Text Box 69"/>
              <p:cNvSpPr/>
              <p:nvPr/>
            </p:nvSpPr>
            <p:spPr>
              <a:xfrm rot="3925800">
                <a:off x="514404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b1749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70"/>
            <p:cNvGrpSpPr/>
            <p:nvPr/>
          </p:nvGrpSpPr>
          <p:grpSpPr>
            <a:xfrm>
              <a:off x="6089760" y="2541600"/>
              <a:ext cx="2122560" cy="3476160"/>
              <a:chOff x="6089760" y="2541600"/>
              <a:chExt cx="2122560" cy="3476160"/>
            </a:xfrm>
          </p:grpSpPr>
          <p:grpSp>
            <p:nvGrpSpPr>
              <p:cNvPr id="478" name="Group 71"/>
              <p:cNvGrpSpPr/>
              <p:nvPr/>
            </p:nvGrpSpPr>
            <p:grpSpPr>
              <a:xfrm>
                <a:off x="6685560" y="3592440"/>
                <a:ext cx="1526760" cy="2425320"/>
                <a:chOff x="6685560" y="3592440"/>
                <a:chExt cx="1526760" cy="2425320"/>
              </a:xfrm>
            </p:grpSpPr>
            <p:grpSp>
              <p:nvGrpSpPr>
                <p:cNvPr id="479" name="Group 72"/>
                <p:cNvGrpSpPr/>
                <p:nvPr/>
              </p:nvGrpSpPr>
              <p:grpSpPr>
                <a:xfrm>
                  <a:off x="6685560" y="3750120"/>
                  <a:ext cx="1420920" cy="2267640"/>
                  <a:chOff x="6685560" y="3750120"/>
                  <a:chExt cx="1420920" cy="2267640"/>
                </a:xfrm>
              </p:grpSpPr>
              <p:sp>
                <p:nvSpPr>
                  <p:cNvPr id="480" name="未知"/>
                  <p:cNvSpPr/>
                  <p:nvPr/>
                </p:nvSpPr>
                <p:spPr>
                  <a:xfrm rot="3876600">
                    <a:off x="6257880" y="46375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未知"/>
                  <p:cNvSpPr/>
                  <p:nvPr/>
                </p:nvSpPr>
                <p:spPr>
                  <a:xfrm rot="3876600">
                    <a:off x="7625520" y="55166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Group 75"/>
                <p:cNvGrpSpPr/>
                <p:nvPr/>
              </p:nvGrpSpPr>
              <p:grpSpPr>
                <a:xfrm>
                  <a:off x="7122240" y="3592440"/>
                  <a:ext cx="1090080" cy="1739880"/>
                  <a:chOff x="7122240" y="3592440"/>
                  <a:chExt cx="1090080" cy="1739880"/>
                </a:xfrm>
              </p:grpSpPr>
              <p:sp>
                <p:nvSpPr>
                  <p:cNvPr id="483" name="未知"/>
                  <p:cNvSpPr/>
                  <p:nvPr/>
                </p:nvSpPr>
                <p:spPr>
                  <a:xfrm flipV="1" rot="3876600">
                    <a:off x="6793920" y="427284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未知"/>
                  <p:cNvSpPr/>
                  <p:nvPr/>
                </p:nvSpPr>
                <p:spPr>
                  <a:xfrm flipV="1" rot="3876600">
                    <a:off x="7827480" y="49543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5" name="Oval 78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86" name="Oval 79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87" name="Oval 80"/>
              <p:cNvSpPr/>
              <p:nvPr/>
            </p:nvSpPr>
            <p:spPr>
              <a:xfrm>
                <a:off x="6191280" y="2644920"/>
                <a:ext cx="1327320" cy="136368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88" name="Oval 81"/>
              <p:cNvSpPr/>
              <p:nvPr/>
            </p:nvSpPr>
            <p:spPr>
              <a:xfrm>
                <a:off x="6193080" y="2647800"/>
                <a:ext cx="1326960" cy="136404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1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89" name="Oval 82"/>
              <p:cNvSpPr/>
              <p:nvPr/>
            </p:nvSpPr>
            <p:spPr>
              <a:xfrm>
                <a:off x="6256800" y="2712960"/>
                <a:ext cx="1195200" cy="122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grpSp>
            <p:nvGrpSpPr>
              <p:cNvPr id="490" name="Group 83"/>
              <p:cNvGrpSpPr/>
              <p:nvPr/>
            </p:nvGrpSpPr>
            <p:grpSpPr>
              <a:xfrm>
                <a:off x="6275880" y="2732040"/>
                <a:ext cx="1158120" cy="1190520"/>
                <a:chOff x="6275880" y="2732040"/>
                <a:chExt cx="1158120" cy="1190520"/>
              </a:xfrm>
            </p:grpSpPr>
            <p:sp>
              <p:nvSpPr>
                <p:cNvPr id="491" name="Oval 84"/>
                <p:cNvSpPr/>
                <p:nvPr/>
              </p:nvSpPr>
              <p:spPr>
                <a:xfrm>
                  <a:off x="6275880" y="2732040"/>
                  <a:ext cx="1158120" cy="119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92" name="Oval 85"/>
                <p:cNvSpPr/>
                <p:nvPr/>
              </p:nvSpPr>
              <p:spPr>
                <a:xfrm>
                  <a:off x="6290640" y="2738520"/>
                  <a:ext cx="1130040" cy="116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93" name="Oval 86"/>
                <p:cNvSpPr/>
                <p:nvPr/>
              </p:nvSpPr>
              <p:spPr>
                <a:xfrm>
                  <a:off x="6302520" y="2750040"/>
                  <a:ext cx="1074960" cy="108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494" name="Oval 87"/>
                <p:cNvSpPr/>
                <p:nvPr/>
              </p:nvSpPr>
              <p:spPr>
                <a:xfrm>
                  <a:off x="6365520" y="2780280"/>
                  <a:ext cx="95544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Text Box 88"/>
              <p:cNvSpPr/>
              <p:nvPr/>
            </p:nvSpPr>
            <p:spPr>
              <a:xfrm rot="3925800">
                <a:off x="6636960" y="4647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96" name="Text Box 89"/>
              <p:cNvSpPr/>
              <p:nvPr/>
            </p:nvSpPr>
            <p:spPr>
              <a:xfrm rot="3925800">
                <a:off x="7095960" y="4366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b1749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90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98" name="Text Box 91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453b2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499" name="Text Box 92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453b2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00" name="Text Box 93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453b2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01" name="Text Box 94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453b2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cxnSp>
            <p:nvCxnSpPr>
              <p:cNvPr id="502" name="AutoShape 95"/>
              <p:cNvCxnSpPr>
                <a:stCxn id="498" idx="3"/>
                <a:endCxn id="499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2453b2"/>
                </a:solidFill>
                <a:miter/>
                <a:tailEnd len="med" type="triangle" w="med"/>
              </a:ln>
            </p:spPr>
          </p:cxnSp>
          <p:cxnSp>
            <p:nvCxnSpPr>
              <p:cNvPr id="503" name="AutoShape 96"/>
              <p:cNvCxnSpPr>
                <a:stCxn id="499" idx="3"/>
                <a:endCxn id="500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2453b2"/>
                </a:solidFill>
                <a:miter/>
                <a:tailEnd len="med" type="triangle" w="med"/>
              </a:ln>
            </p:spPr>
          </p:cxnSp>
          <p:cxnSp>
            <p:nvCxnSpPr>
              <p:cNvPr id="504" name="AutoShape 97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2453b2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3b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506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7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3f3f3"/>
                </a:gs>
                <a:gs pos="50000">
                  <a:srgbClr val="dddddd"/>
                </a:gs>
                <a:gs pos="100000">
                  <a:srgbClr val="f3f3f3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508" name="Group 5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09" name="AutoShape 6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d93d9"/>
                  </a:gs>
                  <a:gs pos="100000">
                    <a:srgbClr val="366797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10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93d9">
                      <a:alpha val="0"/>
                    </a:srgbClr>
                  </a:gs>
                  <a:gs pos="50000">
                    <a:srgbClr val="9ec4ea"/>
                  </a:gs>
                  <a:gs pos="100000">
                    <a:srgbClr val="4d93d9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11" name="Text Box 8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512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grpSp>
        <p:nvGrpSpPr>
          <p:cNvPr id="513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4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2f2f2"/>
                </a:gs>
                <a:gs pos="50000">
                  <a:srgbClr val="dddddd"/>
                </a:gs>
                <a:gs pos="100000">
                  <a:srgbClr val="f2f2f2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515" name="Group 12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16" name="AutoShape 13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e9eae"/>
                  </a:gs>
                  <a:gs pos="100000">
                    <a:srgbClr val="4d798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17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798f">
                      <a:alpha val="0"/>
                    </a:srgbClr>
                  </a:gs>
                  <a:gs pos="100000">
                    <a:srgbClr val="b4c6d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18" name="Text Box 15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519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grpSp>
        <p:nvGrpSpPr>
          <p:cNvPr id="520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1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5000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522" name="Group 19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23" name="AutoShape 20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0bad4"/>
                  </a:gs>
                  <a:gs pos="100000">
                    <a:srgbClr val="6a93b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24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93bc">
                      <a:alpha val="0"/>
                    </a:srgbClr>
                  </a:gs>
                  <a:gs pos="100000">
                    <a:srgbClr val="b7cad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25" name="Text Box 22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526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3b2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528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29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grpSp>
        <p:nvGrpSpPr>
          <p:cNvPr id="532" name="Group 7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33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d798f"/>
                </a:gs>
                <a:gs pos="100000">
                  <a:srgbClr val="24384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534" name="Group 9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35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36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37" name="Oval 12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38" name="Oval 13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539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4d93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540" name="Group 15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41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42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44" name="Oval 19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545" name="Rectangle 20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4d798f"/>
                </a:gs>
                <a:gs pos="100000">
                  <a:srgbClr val="24384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546" name="Group 21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47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48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50" name="Oval 25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551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4d93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sp>
        <p:nvSpPr>
          <p:cNvPr id="552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174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174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174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174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d798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3b2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419120" y="2378160"/>
          <a:ext cx="6915240" cy="2933640"/>
        </p:xfrm>
        <a:graphic>
          <a:graphicData uri="http://schemas.openxmlformats.org/drawingml/2006/table">
            <a:tbl>
              <a:tblPr/>
              <a:tblGrid>
                <a:gridCol w="1558800"/>
                <a:gridCol w="1089000"/>
                <a:gridCol w="1067040"/>
                <a:gridCol w="1063440"/>
                <a:gridCol w="1073160"/>
                <a:gridCol w="1063800"/>
              </a:tblGrid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b1749"/>
                      </a:solidFill>
                    </a:lnR>
                    <a:lnT>
                      <a:noFill/>
                    </a:lnT>
                    <a:lnB w="5760">
                      <a:solidFill>
                        <a:srgbClr val="0b17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4d93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4d93d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4d93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4d93d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4d93d9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0b174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1749"/>
                      </a:solidFill>
                    </a:lnL>
                    <a:lnR w="5760">
                      <a:solidFill>
                        <a:srgbClr val="0b1749"/>
                      </a:solidFill>
                    </a:lnR>
                    <a:lnT w="5760">
                      <a:solidFill>
                        <a:srgbClr val="0b1749"/>
                      </a:solidFill>
                    </a:lnT>
                    <a:lnB w="5760">
                      <a:solidFill>
                        <a:srgbClr val="0b1749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1128600" y="1356840"/>
            <a:ext cx="6575400" cy="4665960"/>
            <a:chOff x="1128600" y="1356840"/>
            <a:chExt cx="6575400" cy="4665960"/>
          </a:xfrm>
        </p:grpSpPr>
        <p:sp>
          <p:nvSpPr>
            <p:cNvPr id="564" name="Oval 3"/>
            <p:cNvSpPr/>
            <p:nvPr/>
          </p:nvSpPr>
          <p:spPr>
            <a:xfrm>
              <a:off x="2141640" y="43671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65" name="Oval 4"/>
            <p:cNvSpPr/>
            <p:nvPr/>
          </p:nvSpPr>
          <p:spPr>
            <a:xfrm rot="20601600">
              <a:off x="1452240" y="225540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575757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66" name="Oval 5"/>
            <p:cNvSpPr/>
            <p:nvPr/>
          </p:nvSpPr>
          <p:spPr>
            <a:xfrm rot="20601600">
              <a:off x="1471320" y="209232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67" name="Arc 6"/>
            <p:cNvSpPr/>
            <p:nvPr/>
          </p:nvSpPr>
          <p:spPr>
            <a:xfrm rot="20601600">
              <a:off x="4128840" y="198108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9cb7d2"/>
                </a:gs>
                <a:gs pos="100000">
                  <a:srgbClr val="6a93bc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68" name="Arc 7"/>
            <p:cNvSpPr/>
            <p:nvPr/>
          </p:nvSpPr>
          <p:spPr>
            <a:xfrm flipH="1" rot="20602200">
              <a:off x="1716480" y="385596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63899d"/>
                </a:gs>
                <a:gs pos="100000">
                  <a:srgbClr val="4d798f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69" name="Arc 8"/>
            <p:cNvSpPr/>
            <p:nvPr/>
          </p:nvSpPr>
          <p:spPr>
            <a:xfrm rot="20601600">
              <a:off x="2603520" y="2071440"/>
              <a:ext cx="3184560" cy="141624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132c5e"/>
                </a:gs>
                <a:gs pos="100000">
                  <a:srgbClr val="2453b2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70" name="Arc 9"/>
            <p:cNvSpPr/>
            <p:nvPr/>
          </p:nvSpPr>
          <p:spPr>
            <a:xfrm flipH="1" rot="20602200">
              <a:off x="1370880" y="259020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59fbe"/>
                </a:gs>
                <a:gs pos="100000">
                  <a:srgbClr val="6d7ba5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71" name="Oval 10"/>
            <p:cNvSpPr/>
            <p:nvPr/>
          </p:nvSpPr>
          <p:spPr>
            <a:xfrm rot="20601600">
              <a:off x="2933640" y="2806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f7f7f7"/>
                </a:gs>
                <a:gs pos="50000">
                  <a:srgbClr val="dddddd"/>
                </a:gs>
                <a:gs pos="100000">
                  <a:srgbClr val="f7f7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72" name="Text Box 11"/>
            <p:cNvSpPr/>
            <p:nvPr/>
          </p:nvSpPr>
          <p:spPr>
            <a:xfrm>
              <a:off x="1924560" y="3485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73" name="Text Box 12"/>
            <p:cNvSpPr/>
            <p:nvPr/>
          </p:nvSpPr>
          <p:spPr>
            <a:xfrm>
              <a:off x="3829680" y="2266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74" name="Text Box 13"/>
            <p:cNvSpPr/>
            <p:nvPr/>
          </p:nvSpPr>
          <p:spPr>
            <a:xfrm>
              <a:off x="5658480" y="2571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575" name="Group 14"/>
            <p:cNvGrpSpPr/>
            <p:nvPr/>
          </p:nvGrpSpPr>
          <p:grpSpPr>
            <a:xfrm>
              <a:off x="4293720" y="2542680"/>
              <a:ext cx="3164400" cy="2769120"/>
              <a:chOff x="4293720" y="2542680"/>
              <a:chExt cx="3164400" cy="2769120"/>
            </a:xfrm>
          </p:grpSpPr>
          <p:sp>
            <p:nvSpPr>
              <p:cNvPr id="576" name="未知"/>
              <p:cNvSpPr/>
              <p:nvPr/>
            </p:nvSpPr>
            <p:spPr>
              <a:xfrm>
                <a:off x="5448240" y="352440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a93bc"/>
                  </a:gs>
                  <a:gs pos="100000">
                    <a:srgbClr val="40597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77" name="Arc 16"/>
              <p:cNvSpPr/>
              <p:nvPr/>
            </p:nvSpPr>
            <p:spPr>
              <a:xfrm rot="20539200">
                <a:off x="4511520" y="2913120"/>
                <a:ext cx="272880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14457"/>
                  </a:gs>
                  <a:gs pos="100000">
                    <a:srgbClr val="6a93bc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78" name="未知"/>
              <p:cNvSpPr/>
              <p:nvPr/>
            </p:nvSpPr>
            <p:spPr>
              <a:xfrm>
                <a:off x="4582800" y="400068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14457"/>
                  </a:gs>
                  <a:gs pos="100000">
                    <a:srgbClr val="6a93b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579" name="Text Box 18"/>
              <p:cNvSpPr/>
              <p:nvPr/>
            </p:nvSpPr>
            <p:spPr>
              <a:xfrm>
                <a:off x="5353200" y="379116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580" name="Text Box 19"/>
            <p:cNvSpPr/>
            <p:nvPr/>
          </p:nvSpPr>
          <p:spPr>
            <a:xfrm>
              <a:off x="3143880" y="4476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4427640" y="406692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7676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82" name="Oval 21"/>
            <p:cNvSpPr/>
            <p:nvPr/>
          </p:nvSpPr>
          <p:spPr>
            <a:xfrm rot="20601600">
              <a:off x="3036960" y="305748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53b2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3b2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585" name="Group 3"/>
          <p:cNvGrpSpPr/>
          <p:nvPr/>
        </p:nvGrpSpPr>
        <p:grpSpPr>
          <a:xfrm>
            <a:off x="1219320" y="1981080"/>
            <a:ext cx="6781320" cy="4266720"/>
            <a:chOff x="1219320" y="1981080"/>
            <a:chExt cx="6781320" cy="4266720"/>
          </a:xfrm>
        </p:grpSpPr>
        <p:sp>
          <p:nvSpPr>
            <p:cNvPr id="586" name="AutoShape 4"/>
            <p:cNvSpPr/>
            <p:nvPr/>
          </p:nvSpPr>
          <p:spPr>
            <a:xfrm>
              <a:off x="2127960" y="2669400"/>
              <a:ext cx="5074200" cy="247788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87" name="AutoShape 5"/>
            <p:cNvSpPr/>
            <p:nvPr/>
          </p:nvSpPr>
          <p:spPr>
            <a:xfrm>
              <a:off x="1918440" y="1981080"/>
              <a:ext cx="5312880" cy="51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da9b7"/>
                </a:gs>
                <a:gs pos="50000">
                  <a:srgbClr val="4d798f"/>
                </a:gs>
                <a:gs pos="100000">
                  <a:srgbClr val="8da9b7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588" name="Text Box 6"/>
            <p:cNvSpPr/>
            <p:nvPr/>
          </p:nvSpPr>
          <p:spPr>
            <a:xfrm>
              <a:off x="3661920" y="32198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b1749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589" name="Group 7"/>
            <p:cNvGrpSpPr/>
            <p:nvPr/>
          </p:nvGrpSpPr>
          <p:grpSpPr>
            <a:xfrm>
              <a:off x="1219320" y="4361400"/>
              <a:ext cx="1363320" cy="1796400"/>
              <a:chOff x="1219320" y="4361400"/>
              <a:chExt cx="1363320" cy="1796400"/>
            </a:xfrm>
          </p:grpSpPr>
          <p:grpSp>
            <p:nvGrpSpPr>
              <p:cNvPr id="590" name="Group 8"/>
              <p:cNvGrpSpPr/>
              <p:nvPr/>
            </p:nvGrpSpPr>
            <p:grpSpPr>
              <a:xfrm>
                <a:off x="1219320" y="4361400"/>
                <a:ext cx="1363320" cy="1368000"/>
                <a:chOff x="1219320" y="4361400"/>
                <a:chExt cx="1363320" cy="1368000"/>
              </a:xfrm>
            </p:grpSpPr>
            <p:grpSp>
              <p:nvGrpSpPr>
                <p:cNvPr id="591" name="Group 9"/>
                <p:cNvGrpSpPr/>
                <p:nvPr/>
              </p:nvGrpSpPr>
              <p:grpSpPr>
                <a:xfrm>
                  <a:off x="1219320" y="4361400"/>
                  <a:ext cx="1363320" cy="1368000"/>
                  <a:chOff x="1219320" y="4361400"/>
                  <a:chExt cx="1363320" cy="1368000"/>
                </a:xfrm>
              </p:grpSpPr>
              <p:sp>
                <p:nvSpPr>
                  <p:cNvPr id="592" name="Oval 10"/>
                  <p:cNvSpPr/>
                  <p:nvPr/>
                </p:nvSpPr>
                <p:spPr>
                  <a:xfrm>
                    <a:off x="1219320" y="436140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7ae26"/>
                      </a:gs>
                      <a:gs pos="100000">
                        <a:srgbClr val="4c6f1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未知"/>
                  <p:cNvSpPr/>
                  <p:nvPr/>
                </p:nvSpPr>
                <p:spPr>
                  <a:xfrm>
                    <a:off x="1375200" y="4384080"/>
                    <a:ext cx="1051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7ae2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4" name="Text Box 12"/>
                <p:cNvSpPr/>
                <p:nvPr/>
              </p:nvSpPr>
              <p:spPr>
                <a:xfrm>
                  <a:off x="1316160" y="505692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Oval 13"/>
              <p:cNvSpPr/>
              <p:nvPr/>
            </p:nvSpPr>
            <p:spPr>
              <a:xfrm>
                <a:off x="1359000" y="5806800"/>
                <a:ext cx="1107000" cy="351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4"/>
            <p:cNvGrpSpPr/>
            <p:nvPr/>
          </p:nvGrpSpPr>
          <p:grpSpPr>
            <a:xfrm>
              <a:off x="6602400" y="4321440"/>
              <a:ext cx="1398240" cy="1866240"/>
              <a:chOff x="6602400" y="4321440"/>
              <a:chExt cx="1398240" cy="1866240"/>
            </a:xfrm>
          </p:grpSpPr>
          <p:grpSp>
            <p:nvGrpSpPr>
              <p:cNvPr id="597" name="Group 15"/>
              <p:cNvGrpSpPr/>
              <p:nvPr/>
            </p:nvGrpSpPr>
            <p:grpSpPr>
              <a:xfrm>
                <a:off x="6602400" y="4321440"/>
                <a:ext cx="1398240" cy="1383120"/>
                <a:chOff x="6602400" y="4321440"/>
                <a:chExt cx="1398240" cy="1383120"/>
              </a:xfrm>
            </p:grpSpPr>
            <p:grpSp>
              <p:nvGrpSpPr>
                <p:cNvPr id="598" name="Group 16"/>
                <p:cNvGrpSpPr/>
                <p:nvPr/>
              </p:nvGrpSpPr>
              <p:grpSpPr>
                <a:xfrm>
                  <a:off x="6602400" y="4321440"/>
                  <a:ext cx="1398240" cy="1383120"/>
                  <a:chOff x="6602400" y="4321440"/>
                  <a:chExt cx="1398240" cy="1383120"/>
                </a:xfrm>
              </p:grpSpPr>
              <p:sp>
                <p:nvSpPr>
                  <p:cNvPr id="599" name="Oval 17"/>
                  <p:cNvSpPr/>
                  <p:nvPr/>
                </p:nvSpPr>
                <p:spPr>
                  <a:xfrm>
                    <a:off x="6602400" y="432144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a93bc"/>
                      </a:gs>
                      <a:gs pos="100000">
                        <a:srgbClr val="1a242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未知"/>
                  <p:cNvSpPr/>
                  <p:nvPr/>
                </p:nvSpPr>
                <p:spPr>
                  <a:xfrm>
                    <a:off x="6762240" y="4344120"/>
                    <a:ext cx="1078560" cy="5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a93b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1" name="Text Box 19"/>
                <p:cNvSpPr/>
                <p:nvPr/>
              </p:nvSpPr>
              <p:spPr>
                <a:xfrm>
                  <a:off x="6684120" y="49651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" name="Oval 20"/>
              <p:cNvSpPr/>
              <p:nvPr/>
            </p:nvSpPr>
            <p:spPr>
              <a:xfrm>
                <a:off x="6641640" y="5748120"/>
                <a:ext cx="1335600" cy="4395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21"/>
            <p:cNvGrpSpPr/>
            <p:nvPr/>
          </p:nvGrpSpPr>
          <p:grpSpPr>
            <a:xfrm>
              <a:off x="2967120" y="4361400"/>
              <a:ext cx="1397880" cy="1886400"/>
              <a:chOff x="2967120" y="4361400"/>
              <a:chExt cx="1397880" cy="1886400"/>
            </a:xfrm>
          </p:grpSpPr>
          <p:grpSp>
            <p:nvGrpSpPr>
              <p:cNvPr id="604" name="Group 22"/>
              <p:cNvGrpSpPr/>
              <p:nvPr/>
            </p:nvGrpSpPr>
            <p:grpSpPr>
              <a:xfrm>
                <a:off x="2967120" y="4361400"/>
                <a:ext cx="1397880" cy="1373400"/>
                <a:chOff x="2967120" y="4361400"/>
                <a:chExt cx="1397880" cy="1373400"/>
              </a:xfrm>
            </p:grpSpPr>
            <p:sp>
              <p:nvSpPr>
                <p:cNvPr id="605" name="Oval 23"/>
                <p:cNvSpPr/>
                <p:nvPr/>
              </p:nvSpPr>
              <p:spPr>
                <a:xfrm>
                  <a:off x="2967120" y="436140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798f"/>
                    </a:gs>
                    <a:gs pos="100000">
                      <a:srgbClr val="283e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606" name="未知"/>
                <p:cNvSpPr/>
                <p:nvPr/>
              </p:nvSpPr>
              <p:spPr>
                <a:xfrm>
                  <a:off x="3126960" y="438408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d798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" name="Text Box 25"/>
              <p:cNvSpPr/>
              <p:nvPr/>
            </p:nvSpPr>
            <p:spPr>
              <a:xfrm>
                <a:off x="3036960" y="502056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608" name="Oval 26"/>
              <p:cNvSpPr/>
              <p:nvPr/>
            </p:nvSpPr>
            <p:spPr>
              <a:xfrm>
                <a:off x="2967120" y="580644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609" name="Group 27"/>
            <p:cNvGrpSpPr/>
            <p:nvPr/>
          </p:nvGrpSpPr>
          <p:grpSpPr>
            <a:xfrm>
              <a:off x="4854600" y="4321440"/>
              <a:ext cx="1397880" cy="1886400"/>
              <a:chOff x="4854600" y="4321440"/>
              <a:chExt cx="1397880" cy="1886400"/>
            </a:xfrm>
          </p:grpSpPr>
          <p:grpSp>
            <p:nvGrpSpPr>
              <p:cNvPr id="610" name="Group 28"/>
              <p:cNvGrpSpPr/>
              <p:nvPr/>
            </p:nvGrpSpPr>
            <p:grpSpPr>
              <a:xfrm>
                <a:off x="4854600" y="4321440"/>
                <a:ext cx="1397880" cy="1373400"/>
                <a:chOff x="4854600" y="4321440"/>
                <a:chExt cx="1397880" cy="1373400"/>
              </a:xfrm>
            </p:grpSpPr>
            <p:sp>
              <p:nvSpPr>
                <p:cNvPr id="611" name="Oval 29"/>
                <p:cNvSpPr/>
                <p:nvPr/>
              </p:nvSpPr>
              <p:spPr>
                <a:xfrm>
                  <a:off x="4854600" y="432144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93d9"/>
                    </a:gs>
                    <a:gs pos="100000">
                      <a:srgbClr val="28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612" name="未知"/>
                <p:cNvSpPr/>
                <p:nvPr/>
              </p:nvSpPr>
              <p:spPr>
                <a:xfrm>
                  <a:off x="5014440" y="434412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d93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" name="Text Box 31"/>
              <p:cNvSpPr/>
              <p:nvPr/>
            </p:nvSpPr>
            <p:spPr>
              <a:xfrm>
                <a:off x="4924440" y="498060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614" name="Oval 32"/>
              <p:cNvSpPr/>
              <p:nvPr/>
            </p:nvSpPr>
            <p:spPr>
              <a:xfrm>
                <a:off x="4854600" y="576648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453b2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b174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068D1-1418-4427-8618-8E0225264A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2680" y="456840"/>
            <a:ext cx="7008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3b2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9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1" name="Text Box 7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grpSp>
        <p:nvGrpSpPr>
          <p:cNvPr id="113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4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d93d9"/>
                </a:gs>
                <a:gs pos="50000">
                  <a:srgbClr val="d9e8f7"/>
                </a:gs>
                <a:gs pos="100000">
                  <a:srgbClr val="4d93d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5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d93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7" name="Text Box 13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grpSp>
        <p:nvGrpSpPr>
          <p:cNvPr id="118" name="Group 14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9" name="AutoShape 15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453b2"/>
                </a:gs>
                <a:gs pos="50000">
                  <a:srgbClr val="d1dbef"/>
                </a:gs>
                <a:gs pos="100000">
                  <a:srgbClr val="2453b2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2453b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grpSp>
        <p:nvGrpSpPr>
          <p:cNvPr id="123" name="Group 19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4" name="AutoShape 20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a93bc"/>
                </a:gs>
                <a:gs pos="50000">
                  <a:srgbClr val="dfe8f1"/>
                </a:gs>
                <a:gs pos="100000">
                  <a:srgbClr val="6a93b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5" name="AutoShape 21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6a93b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6" name="Text Box 22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7" name="Text Box 23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WordArt 2"/>
          <p:cNvSpPr txBox="1"/>
          <p:nvPr/>
        </p:nvSpPr>
        <p:spPr>
          <a:xfrm>
            <a:off x="457200" y="4514760"/>
            <a:ext cx="4724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d93d9"/>
                    </a:gs>
                    <a:gs pos="100000">
                      <a:srgbClr val="2453b2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b1749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d93d9"/>
                  </a:gs>
                  <a:gs pos="100000">
                    <a:srgbClr val="2453b2"/>
                  </a:gs>
                </a:gsLst>
                <a:lin ang="10800000"/>
              </a:gradFill>
              <a:effectLst>
                <a:outerShdw dist="53966" dir="2700000" blurRad="0" rotWithShape="0">
                  <a:srgbClr val="0b1749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380880" y="5562720"/>
            <a:ext cx="518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3b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30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31" name="Text Box 5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b1749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sp>
        <p:nvSpPr>
          <p:cNvPr id="132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9cc75"/>
              </a:gs>
              <a:gs pos="100000">
                <a:srgbClr val="77a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grpSp>
        <p:nvGrpSpPr>
          <p:cNvPr id="133" name="Group 7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34" name="Group 8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35" name="Group 9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36" name="Oval 10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b46"/>
                    </a:gs>
                    <a:gs pos="100000">
                      <a:srgbClr val="4d798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  <p:sp>
              <p:nvSpPr>
                <p:cNvPr id="137" name="Oval 11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798f"/>
                    </a:gs>
                    <a:gs pos="100000">
                      <a:srgbClr val="b0c4c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Oval 12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d93d9"/>
                  </a:gs>
                  <a:gs pos="100000">
                    <a:srgbClr val="24446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39" name="Oval 13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1d9f2"/>
                  </a:gs>
                  <a:gs pos="100000">
                    <a:srgbClr val="4d93d9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40" name="Oval 14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d93d9">
                      <a:alpha val="48235"/>
                    </a:srgbClr>
                  </a:gs>
                  <a:gs pos="100000">
                    <a:srgbClr val="3d74a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41" name="Oval 15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d93d9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142" name="Text Box 16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b1749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grpSp>
        <p:nvGrpSpPr>
          <p:cNvPr id="143" name="Group 17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44" name="AutoShape 18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45" name="Text Box 19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b1749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sp>
        <p:nvSpPr>
          <p:cNvPr id="146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6d4db"/>
              </a:gs>
              <a:gs pos="100000">
                <a:srgbClr val="4d79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3b2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2453b2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49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5f5f5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0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d798f"/>
                </a:gs>
                <a:gs pos="100000">
                  <a:srgbClr val="1b2a3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1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d93d9"/>
                </a:gs>
                <a:gs pos="100000">
                  <a:srgbClr val="182e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a93bc"/>
                </a:gs>
                <a:gs pos="100000">
                  <a:srgbClr val="2533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7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8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9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60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b17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cxnSp>
          <p:nvCxnSpPr>
            <p:cNvPr id="162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b1749"/>
              </a:solidFill>
              <a:miter/>
            </a:ln>
          </p:spPr>
        </p:cxnSp>
        <p:sp>
          <p:nvSpPr>
            <p:cNvPr id="163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3b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6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93bc"/>
                </a:gs>
                <a:gs pos="50000">
                  <a:srgbClr val="314457"/>
                </a:gs>
                <a:gs pos="100000">
                  <a:srgbClr val="6a93b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67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93bc"/>
                </a:gs>
                <a:gs pos="50000">
                  <a:srgbClr val="314457"/>
                </a:gs>
                <a:gs pos="100000">
                  <a:srgbClr val="6a93b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68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93bc"/>
                </a:gs>
                <a:gs pos="50000">
                  <a:srgbClr val="314457"/>
                </a:gs>
                <a:gs pos="100000">
                  <a:srgbClr val="6a93b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69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2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3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4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5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6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7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8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d93d9"/>
                </a:gs>
                <a:gs pos="50000">
                  <a:srgbClr val="244464"/>
                </a:gs>
                <a:gs pos="100000">
                  <a:srgbClr val="4d93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9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80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81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d798f"/>
                </a:gs>
                <a:gs pos="50000">
                  <a:srgbClr val="243842"/>
                </a:gs>
                <a:gs pos="100000">
                  <a:srgbClr val="4d798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82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83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3b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6" name="Group 4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87" name="AutoShape 5"/>
              <p:cNvSpPr/>
              <p:nvPr/>
            </p:nvSpPr>
            <p:spPr>
              <a:xfrm flipH="1" rot="16200000">
                <a:off x="2927880" y="32554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9bce1"/>
                  </a:gs>
                  <a:gs pos="100000">
                    <a:srgbClr val="2453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88" name="AutoShape 6"/>
              <p:cNvSpPr/>
              <p:nvPr/>
            </p:nvSpPr>
            <p:spPr>
              <a:xfrm flipH="1" rot="5400000">
                <a:off x="5531400" y="32050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9bce1"/>
                  </a:gs>
                  <a:gs pos="100000">
                    <a:srgbClr val="2453b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89" name="AutoShape 7"/>
              <p:cNvSpPr/>
              <p:nvPr/>
            </p:nvSpPr>
            <p:spPr>
              <a:xfrm flipH="1" rot="10800000">
                <a:off x="423936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9bce1"/>
                  </a:gs>
                  <a:gs pos="100000">
                    <a:srgbClr val="2453b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90" name="Oval 8"/>
              <p:cNvSpPr/>
              <p:nvPr/>
            </p:nvSpPr>
            <p:spPr>
              <a:xfrm>
                <a:off x="3305880" y="2209680"/>
                <a:ext cx="232920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91" name="Oval 9"/>
              <p:cNvSpPr/>
              <p:nvPr/>
            </p:nvSpPr>
            <p:spPr>
              <a:xfrm>
                <a:off x="3438720" y="2344680"/>
                <a:ext cx="206244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92" name="Oval 10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4d798f"/>
                  </a:gs>
                  <a:gs pos="50000">
                    <a:srgbClr val="ffffff"/>
                  </a:gs>
                  <a:gs pos="100000">
                    <a:srgbClr val="4d798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93" name="Oval 11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94" name="Oval 12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4d798f"/>
                  </a:gs>
                  <a:gs pos="50000">
                    <a:srgbClr val="2a414d"/>
                  </a:gs>
                  <a:gs pos="100000">
                    <a:srgbClr val="4d798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95" name="Oval 13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196" name="AutoShape 14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93bc"/>
                </a:gs>
                <a:gs pos="50000">
                  <a:srgbClr val="314457"/>
                </a:gs>
                <a:gs pos="100000">
                  <a:srgbClr val="6a93b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97" name="AutoShape 15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93bc"/>
                </a:gs>
                <a:gs pos="50000">
                  <a:srgbClr val="314457"/>
                </a:gs>
                <a:gs pos="100000">
                  <a:srgbClr val="6a93b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98" name="AutoShape 16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93bc"/>
                </a:gs>
                <a:gs pos="50000">
                  <a:srgbClr val="314457"/>
                </a:gs>
                <a:gs pos="100000">
                  <a:srgbClr val="6a93b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99" name="AutoShape 17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d93d9"/>
                </a:gs>
                <a:gs pos="50000">
                  <a:srgbClr val="244464"/>
                </a:gs>
                <a:gs pos="100000">
                  <a:srgbClr val="4d93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00" name="AutoShape 18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d93d9"/>
                </a:gs>
                <a:gs pos="50000">
                  <a:srgbClr val="244464"/>
                </a:gs>
                <a:gs pos="100000">
                  <a:srgbClr val="4d93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01" name="AutoShape 19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d93d9"/>
                </a:gs>
                <a:gs pos="50000">
                  <a:srgbClr val="244464"/>
                </a:gs>
                <a:gs pos="100000">
                  <a:srgbClr val="4d93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02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03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04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05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06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07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08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09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3b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12" name="Line 4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16" name="Line 8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b174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b174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b174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b174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22" name="Text Box 14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23" name="Text Box 15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24" name="Text Box 16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225" name="Group 17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26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ae26"/>
                  </a:gs>
                  <a:gs pos="50000">
                    <a:srgbClr val="375112"/>
                  </a:gs>
                  <a:gs pos="100000">
                    <a:srgbClr val="77ae2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77ae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28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798f"/>
                  </a:gs>
                  <a:gs pos="50000">
                    <a:srgbClr val="243842"/>
                  </a:gs>
                  <a:gs pos="100000">
                    <a:srgbClr val="4d798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29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4d79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93bc"/>
                  </a:gs>
                  <a:gs pos="50000">
                    <a:srgbClr val="314457"/>
                  </a:gs>
                  <a:gs pos="100000">
                    <a:srgbClr val="6a93b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93d9"/>
                  </a:gs>
                  <a:gs pos="50000">
                    <a:srgbClr val="244464"/>
                  </a:gs>
                  <a:gs pos="100000">
                    <a:srgbClr val="4d93d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4d9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34" name="Rectangle 26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77ae26"/>
                  </a:gs>
                  <a:gs pos="50000">
                    <a:srgbClr val="567e1c"/>
                  </a:gs>
                  <a:gs pos="100000">
                    <a:srgbClr val="77ae2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35" name="Rectangle 27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4d798f"/>
                  </a:gs>
                  <a:gs pos="50000">
                    <a:srgbClr val="385868"/>
                  </a:gs>
                  <a:gs pos="100000">
                    <a:srgbClr val="4d798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6a93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37" name="Rectangle 29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a93bc"/>
                  </a:gs>
                  <a:gs pos="50000">
                    <a:srgbClr val="4d6b88"/>
                  </a:gs>
                  <a:gs pos="100000">
                    <a:srgbClr val="6a93b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38" name="Rectangle 30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4d93d9"/>
                  </a:gs>
                  <a:gs pos="50000">
                    <a:srgbClr val="386b9d"/>
                  </a:gs>
                  <a:gs pos="100000">
                    <a:srgbClr val="4d93d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3b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41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4d798f"/>
                </a:gs>
                <a:gs pos="100000">
                  <a:srgbClr val="5d8599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42" name="AutoShape 5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7ae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43" name="AutoShape 6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5112"/>
                </a:gs>
                <a:gs pos="50000">
                  <a:srgbClr val="77ae26"/>
                </a:gs>
                <a:gs pos="100000">
                  <a:srgbClr val="3751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44" name="AutoShape 7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45" name="AutoShape 8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46" name="AutoShape 9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d79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47" name="AutoShape 10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43842"/>
                </a:gs>
                <a:gs pos="50000">
                  <a:srgbClr val="4d798f"/>
                </a:gs>
                <a:gs pos="100000">
                  <a:srgbClr val="2438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48" name="AutoShape 11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49" name="AutoShape 12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a93bc"/>
                </a:gs>
                <a:gs pos="100000">
                  <a:srgbClr val="a9c1d8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52" name="Text Box 15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253" name="Group 16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54" name="AutoShape 17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6a93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55" name="AutoShape 18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93949"/>
                  </a:gs>
                  <a:gs pos="50000">
                    <a:srgbClr val="6a93bc"/>
                  </a:gs>
                  <a:gs pos="100000">
                    <a:srgbClr val="2939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56" name="AutoShape 19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57" name="AutoShape 20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58" name="Text Box 21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59" name="Text Box 22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b1749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b1749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260" name="Text Box 23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61" name="Text Box 24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b1749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d798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3b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453b2"/>
              </a:solidFill>
              <a:latin typeface="Verdana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65" name="AutoShape 4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66" name="AutoShape 5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67" name="AutoShape 6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b1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b1749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d9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d7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70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4d798f"/>
                </a:gs>
                <a:gs pos="50000">
                  <a:srgbClr val="ffffff"/>
                </a:gs>
                <a:gs pos="100000">
                  <a:srgbClr val="4d798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71" name="Oval 10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d798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72" name="Oval 11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d798f"/>
                </a:gs>
                <a:gs pos="50000">
                  <a:srgbClr val="2a414d"/>
                </a:gs>
                <a:gs pos="100000">
                  <a:srgbClr val="4d79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73" name="Oval 12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d798f">
                    <a:alpha val="0"/>
                  </a:srgbClr>
                </a:gs>
                <a:gs pos="100000">
                  <a:srgbClr val="314d5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74" name="Oval 13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75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6a93bc"/>
                </a:gs>
                <a:gs pos="50000">
                  <a:srgbClr val="ffffff"/>
                </a:gs>
                <a:gs pos="100000">
                  <a:srgbClr val="6a93b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76" name="Oval 15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a93bc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77" name="Oval 16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6a93bc"/>
                </a:gs>
                <a:gs pos="50000">
                  <a:srgbClr val="395066"/>
                </a:gs>
                <a:gs pos="100000">
                  <a:srgbClr val="6a93b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78" name="Oval 17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6a93bc">
                    <a:alpha val="0"/>
                  </a:srgbClr>
                </a:gs>
                <a:gs pos="100000">
                  <a:srgbClr val="435d7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79" name="Oval 18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280" name="Group 19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81" name="Oval 20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82" name="Oval 21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83" name="Oval 22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84" name="Oval 23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285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d93d9"/>
                </a:gs>
                <a:gs pos="50000">
                  <a:srgbClr val="ffffff"/>
                </a:gs>
                <a:gs pos="100000">
                  <a:srgbClr val="4d93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86" name="Oval 25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244464"/>
                </a:gs>
                <a:gs pos="100000">
                  <a:srgbClr val="4d93d9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87" name="Oval 26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d93d9"/>
                </a:gs>
                <a:gs pos="50000">
                  <a:srgbClr val="2a5075"/>
                </a:gs>
                <a:gs pos="100000">
                  <a:srgbClr val="4d93d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88" name="Oval 27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d93d9">
                    <a:alpha val="0"/>
                  </a:srgbClr>
                </a:gs>
                <a:gs pos="100000">
                  <a:srgbClr val="315d8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89" name="Oval 28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290" name="Group 29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91" name="Oval 30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94" name="Oval 33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34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96" name="Oval 35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97" name="Oval 36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98" name="Oval 37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299" name="Oval 38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300" name="Text Box 39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01" name="Text Box 40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302" name="Text Box 41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b1749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05:30:44Z</dcterms:created>
  <dc:creator>www.eeppt.cpm</dc:creator>
  <dc:description>www.eeppt.cpm</dc:description>
  <cp:keywords>www.eeppt.cpm</cp:keywords>
  <dc:language>en-US</dc:language>
  <cp:lastModifiedBy>微软中国</cp:lastModifiedBy>
  <dcterms:modified xsi:type="dcterms:W3CDTF">2015-08-11T14:22:35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