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D7B-9AF3-444E-86F2-CE1DE4E1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594-94B2-4E7E-A00C-DC595EEE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B268-CA73-4A44-B606-0E2ED7F6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5CED-46FD-4669-8DAB-4C59B9C7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B19E-2A9D-4DB8-ACDB-B503A2C2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1732-E579-4E4A-8AD5-43F87A03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9278-FB1B-4AE3-9779-17A547E4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A46D-2A6F-497B-8C62-8E1D92CD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DD30-2631-460D-BDB7-DD2394A4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37A6-26C7-473E-95F8-EF177153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F1CD-FE46-4CDD-BB23-5394C1CC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D8D0-8DEB-4C81-B13F-4632B7A4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362F-508B-4EA1-BFDD-97EB0B9E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AA58-4B7F-4C39-AE6A-8C3F3581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F6B2-5D6D-4B15-A1CD-1C15737C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6FAA-8516-4EEE-9B50-EC5489C3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6050-01E2-498A-A11C-72881545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478C5-0675-48C3-8F3F-6AC11EA8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77FDD-3DB1-41B6-A05F-63DDB909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AC6FE-41C5-421C-9E9A-16DBF039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714C7-4B1A-443D-941C-69F71467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E4016-0880-40D7-9EB9-DF2DB483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279D-6CE9-419B-9D9A-434D9668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AC077-0D4A-450B-A130-449D4B5F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5D2C2-EC83-44CB-939F-C8D1BE23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DEC94-0B18-4548-97B4-06022089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11849-3659-4E3F-B1B0-1A80884E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4513C-A18F-415B-B4CE-1FF37320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084F0-6573-4AF5-8391-6A25FA28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5E2E7-7CC7-45AE-B86E-D792E464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760-47BD-4679-8509-8EB46293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99FD-C78F-459D-9F40-156EAFCE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3544-CCA2-47B2-959D-4E30AC1D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35B8-C371-4C33-B0A3-14BD13D3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C254-2020-4129-BAB4-2F7EB626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64E-7E62-4FA2-BCE2-CE44B8D7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8A3C-A236-42A0-A932-2AE3E54E7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D861-A062-468E-AEBD-25EEB1C2A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1476-B9E4-49CC-9266-F54AC97AA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某集团公司营销工作会议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040" y="4419360"/>
            <a:ext cx="5715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6600"/>
                </a:solidFill>
                <a:latin typeface="Arial"/>
              </a:rPr>
              <a:t>会议主持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: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                 </a:t>
            </a:r>
            <a:r>
              <a:rPr b="1" lang="zh-CN" sz="1600" spc="-1" strike="noStrike">
                <a:solidFill>
                  <a:srgbClr val="ff6600"/>
                </a:solidFill>
                <a:latin typeface="Arial"/>
              </a:rPr>
              <a:t>会议时间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:2008.8.1.14:00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                                </a:t>
            </a:r>
            <a:r>
              <a:rPr b="1" lang="zh-CN" sz="1600" spc="-1" strike="noStrike">
                <a:solidFill>
                  <a:srgbClr val="ff6600"/>
                </a:solidFill>
                <a:latin typeface="Arial"/>
              </a:rPr>
              <a:t>会议地点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1" lang="zh-CN" sz="1600" spc="-1" strike="noStrike">
                <a:solidFill>
                  <a:srgbClr val="ff6600"/>
                </a:solidFill>
                <a:latin typeface="Arial"/>
              </a:rPr>
              <a:t>集团大厦二楼综合会议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0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228600"/>
            <a:ext cx="8915400" cy="2971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b2c4"/>
            </a:gs>
            <a:gs pos="100000">
              <a:srgbClr val="66c00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年营销收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Organization Chart 5"/>
          <p:cNvGrpSpPr/>
          <p:nvPr/>
        </p:nvGrpSpPr>
        <p:grpSpPr>
          <a:xfrm>
            <a:off x="457200" y="1523880"/>
            <a:ext cx="8457840" cy="4494600"/>
            <a:chOff x="457200" y="1523880"/>
            <a:chExt cx="8457840" cy="4494600"/>
          </a:xfrm>
        </p:grpSpPr>
        <p:cxnSp>
          <p:nvCxnSpPr>
            <p:cNvPr id="129" name="_s1028"/>
            <p:cNvCxnSpPr>
              <a:stCxn id="130" idx="0"/>
              <a:endCxn id="131" idx="2"/>
            </p:cNvCxnSpPr>
            <p:nvPr/>
          </p:nvCxnSpPr>
          <p:spPr>
            <a:xfrm flipV="1" rot="16200000">
              <a:off x="5974560" y="2028240"/>
              <a:ext cx="899640" cy="3485160"/>
            </a:xfrm>
            <a:prstGeom prst="bentConnector3">
              <a:avLst>
                <a:gd name="adj1" fmla="val 115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029"/>
            <p:cNvCxnSpPr>
              <a:stCxn id="133" idx="0"/>
              <a:endCxn id="131" idx="2"/>
            </p:cNvCxnSpPr>
            <p:nvPr/>
          </p:nvCxnSpPr>
          <p:spPr>
            <a:xfrm flipV="1" rot="16200000">
              <a:off x="5104080" y="2898720"/>
              <a:ext cx="899640" cy="1743840"/>
            </a:xfrm>
            <a:prstGeom prst="bentConnector3">
              <a:avLst>
                <a:gd name="adj1" fmla="val 115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030"/>
            <p:cNvCxnSpPr>
              <a:stCxn id="135" idx="0"/>
              <a:endCxn id="131" idx="2"/>
            </p:cNvCxnSpPr>
            <p:nvPr/>
          </p:nvCxnSpPr>
          <p:spPr>
            <a:xfrm flipV="1">
              <a:off x="4682160" y="3308400"/>
              <a:ext cx="2520" cy="89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031"/>
            <p:cNvCxnSpPr>
              <a:stCxn id="137" idx="0"/>
              <a:endCxn id="131" idx="2"/>
            </p:cNvCxnSpPr>
            <p:nvPr/>
          </p:nvCxnSpPr>
          <p:spPr>
            <a:xfrm flipH="1" flipV="1" rot="5400000">
              <a:off x="3365640" y="2899800"/>
              <a:ext cx="899640" cy="1742040"/>
            </a:xfrm>
            <a:prstGeom prst="bentConnector3">
              <a:avLst>
                <a:gd name="adj1" fmla="val 115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1032"/>
            <p:cNvCxnSpPr>
              <a:stCxn id="139" idx="0"/>
              <a:endCxn id="131" idx="2"/>
            </p:cNvCxnSpPr>
            <p:nvPr/>
          </p:nvCxnSpPr>
          <p:spPr>
            <a:xfrm flipH="1" flipV="1" rot="5400000">
              <a:off x="2495160" y="2029320"/>
              <a:ext cx="899640" cy="3483360"/>
            </a:xfrm>
            <a:prstGeom prst="bentConnector3">
              <a:avLst>
                <a:gd name="adj1" fmla="val 115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1" name="_s1033"/>
            <p:cNvSpPr/>
            <p:nvPr/>
          </p:nvSpPr>
          <p:spPr>
            <a:xfrm>
              <a:off x="3939840" y="1523880"/>
              <a:ext cx="1492560" cy="1797840"/>
            </a:xfrm>
            <a:custGeom>
              <a:avLst/>
              <a:gdLst>
                <a:gd name="textAreaLeft" fmla="*/ 72720 w 1492560"/>
                <a:gd name="textAreaRight" fmla="*/ 1419840 w 1492560"/>
                <a:gd name="textAreaTop" fmla="*/ 72720 h 1797840"/>
                <a:gd name="textAreaBottom" fmla="*/ 1725120 h 1797840"/>
              </a:gdLst>
              <a:ahLst/>
              <a:rect l="textAreaLeft" t="textAreaTop" r="textAreaRight" b="textAreaBottom"/>
              <a:pathLst>
                <a:path w="21600" h="26017">
                  <a:moveTo>
                    <a:pt x="3600" y="0"/>
                  </a:moveTo>
                  <a:arcTo wR="3600" hR="3600" stAng="16200000" swAng="-5400000"/>
                  <a:lnTo>
                    <a:pt x="0" y="22417"/>
                  </a:lnTo>
                  <a:arcTo wR="3600" hR="3600" stAng="10800000" swAng="-5400000"/>
                  <a:lnTo>
                    <a:pt x="18000" y="26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上半年总收入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457200" y="4220640"/>
              <a:ext cx="1492560" cy="1797840"/>
            </a:xfrm>
            <a:custGeom>
              <a:avLst/>
              <a:gdLst>
                <a:gd name="textAreaLeft" fmla="*/ 72720 w 1492560"/>
                <a:gd name="textAreaRight" fmla="*/ 1419840 w 1492560"/>
                <a:gd name="textAreaTop" fmla="*/ 72720 h 1797840"/>
                <a:gd name="textAreaBottom" fmla="*/ 1725120 h 1797840"/>
              </a:gdLst>
              <a:ahLst/>
              <a:rect l="textAreaLeft" t="textAreaTop" r="textAreaRight" b="textAreaBottom"/>
              <a:pathLst>
                <a:path w="21600" h="26017">
                  <a:moveTo>
                    <a:pt x="3600" y="0"/>
                  </a:moveTo>
                  <a:arcTo wR="3600" hR="3600" stAng="16200000" swAng="-5400000"/>
                  <a:lnTo>
                    <a:pt x="0" y="22417"/>
                  </a:lnTo>
                  <a:arcTo wR="3600" hR="3600" stAng="10800000" swAng="-5400000"/>
                  <a:lnTo>
                    <a:pt x="18000" y="26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T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事业群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5"/>
            <p:cNvSpPr/>
            <p:nvPr/>
          </p:nvSpPr>
          <p:spPr>
            <a:xfrm>
              <a:off x="2198520" y="4220640"/>
              <a:ext cx="1492560" cy="1797840"/>
            </a:xfrm>
            <a:custGeom>
              <a:avLst/>
              <a:gdLst>
                <a:gd name="textAreaLeft" fmla="*/ 72720 w 1492560"/>
                <a:gd name="textAreaRight" fmla="*/ 1419840 w 1492560"/>
                <a:gd name="textAreaTop" fmla="*/ 72720 h 1797840"/>
                <a:gd name="textAreaBottom" fmla="*/ 1725120 h 1797840"/>
              </a:gdLst>
              <a:ahLst/>
              <a:rect l="textAreaLeft" t="textAreaTop" r="textAreaRight" b="textAreaBottom"/>
              <a:pathLst>
                <a:path w="21600" h="26017">
                  <a:moveTo>
                    <a:pt x="3600" y="0"/>
                  </a:moveTo>
                  <a:arcTo wR="3600" hR="3600" stAng="16200000" swAng="-5400000"/>
                  <a:lnTo>
                    <a:pt x="0" y="22417"/>
                  </a:lnTo>
                  <a:arcTo wR="3600" hR="3600" stAng="10800000" swAng="-5400000"/>
                  <a:lnTo>
                    <a:pt x="18000" y="26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房地产事业群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36"/>
            <p:cNvSpPr/>
            <p:nvPr/>
          </p:nvSpPr>
          <p:spPr>
            <a:xfrm>
              <a:off x="3939840" y="4220640"/>
              <a:ext cx="1492560" cy="1797840"/>
            </a:xfrm>
            <a:custGeom>
              <a:avLst/>
              <a:gdLst>
                <a:gd name="textAreaLeft" fmla="*/ 72720 w 1492560"/>
                <a:gd name="textAreaRight" fmla="*/ 1419840 w 1492560"/>
                <a:gd name="textAreaTop" fmla="*/ 72720 h 1797840"/>
                <a:gd name="textAreaBottom" fmla="*/ 1725120 h 1797840"/>
              </a:gdLst>
              <a:ahLst/>
              <a:rect l="textAreaLeft" t="textAreaTop" r="textAreaRight" b="textAreaBottom"/>
              <a:pathLst>
                <a:path w="21600" h="26017">
                  <a:moveTo>
                    <a:pt x="3600" y="0"/>
                  </a:moveTo>
                  <a:arcTo wR="3600" hR="3600" stAng="16200000" swAng="-5400000"/>
                  <a:lnTo>
                    <a:pt x="0" y="22417"/>
                  </a:lnTo>
                  <a:arcTo wR="3600" hR="3600" stAng="10800000" swAng="-5400000"/>
                  <a:lnTo>
                    <a:pt x="18000" y="26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网游事业群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7"/>
            <p:cNvSpPr/>
            <p:nvPr/>
          </p:nvSpPr>
          <p:spPr>
            <a:xfrm>
              <a:off x="5681160" y="4220640"/>
              <a:ext cx="1492560" cy="1797840"/>
            </a:xfrm>
            <a:custGeom>
              <a:avLst/>
              <a:gdLst>
                <a:gd name="textAreaLeft" fmla="*/ 72720 w 1492560"/>
                <a:gd name="textAreaRight" fmla="*/ 1419840 w 1492560"/>
                <a:gd name="textAreaTop" fmla="*/ 72720 h 1797840"/>
                <a:gd name="textAreaBottom" fmla="*/ 1725120 h 1797840"/>
              </a:gdLst>
              <a:ahLst/>
              <a:rect l="textAreaLeft" t="textAreaTop" r="textAreaRight" b="textAreaBottom"/>
              <a:pathLst>
                <a:path w="21600" h="26017">
                  <a:moveTo>
                    <a:pt x="3600" y="0"/>
                  </a:moveTo>
                  <a:arcTo wR="3600" hR="3600" stAng="16200000" swAng="-5400000"/>
                  <a:lnTo>
                    <a:pt x="0" y="22417"/>
                  </a:lnTo>
                  <a:arcTo wR="3600" hR="3600" stAng="10800000" swAng="-5400000"/>
                  <a:lnTo>
                    <a:pt x="18000" y="26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餐饮娱乐事业群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亿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8"/>
            <p:cNvSpPr/>
            <p:nvPr/>
          </p:nvSpPr>
          <p:spPr>
            <a:xfrm>
              <a:off x="7422480" y="4220640"/>
              <a:ext cx="1492560" cy="1797840"/>
            </a:xfrm>
            <a:custGeom>
              <a:avLst/>
              <a:gdLst>
                <a:gd name="textAreaLeft" fmla="*/ 72720 w 1492560"/>
                <a:gd name="textAreaRight" fmla="*/ 1419840 w 1492560"/>
                <a:gd name="textAreaTop" fmla="*/ 72720 h 1797840"/>
                <a:gd name="textAreaBottom" fmla="*/ 1725120 h 1797840"/>
              </a:gdLst>
              <a:ahLst/>
              <a:rect l="textAreaLeft" t="textAreaTop" r="textAreaRight" b="textAreaBottom"/>
              <a:pathLst>
                <a:path w="21600" h="26017">
                  <a:moveTo>
                    <a:pt x="3600" y="0"/>
                  </a:moveTo>
                  <a:arcTo wR="3600" hR="3600" stAng="16200000" swAng="-5400000"/>
                  <a:lnTo>
                    <a:pt x="0" y="22417"/>
                  </a:lnTo>
                  <a:arcTo wR="3600" hR="3600" stAng="10800000" swAng="-5400000"/>
                  <a:lnTo>
                    <a:pt x="18000" y="26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其他投资收益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03B1B-3AC3-4F29-8AEF-36D36A8A55EC}" type="slidenum">
              <a:t>3</a:t>
            </a:fld>
          </a:p>
        </p:txBody>
      </p:sp>
    </p:spTree>
  </p:cSld>
  <p:transition spd="slow" advTm="3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上半年各事业群营销业绩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PI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指标达成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ject 8" descr=""/>
          <p:cNvPicPr/>
          <p:nvPr/>
        </p:nvPicPr>
        <p:blipFill>
          <a:blip r:embed="rId2"/>
          <a:stretch/>
        </p:blipFill>
        <p:spPr>
          <a:xfrm>
            <a:off x="719280" y="1724040"/>
            <a:ext cx="7758000" cy="4141800"/>
          </a:xfrm>
          <a:prstGeom prst="rect">
            <a:avLst/>
          </a:prstGeom>
          <a:ln w="0">
            <a:noFill/>
          </a:ln>
        </p:spPr>
      </p:pic>
      <p:sp>
        <p:nvSpPr>
          <p:cNvPr id="14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1T13:26:19Z</dcterms:created>
  <dc:creator>www.eeppt.com</dc:creator>
  <dc:description/>
  <cp:keywords>www.eeppt.com</cp:keywords>
  <dc:language>en-US</dc:language>
  <cp:lastModifiedBy>tukj</cp:lastModifiedBy>
  <dcterms:modified xsi:type="dcterms:W3CDTF">2015-08-11T14:22:19Z</dcterms:modified>
  <cp:revision>3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