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5B10-C518-45C4-9DC6-1B988537A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1138E-7C6F-4545-9463-BBB0666DF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236D-C3C0-49A6-B353-964C35A2F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62D1-A83E-4395-BB96-519910C33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E183-D9E1-4447-AB0D-14400047A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22B2-637C-474C-811D-B14843A75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6A1D-1947-42A7-A9DE-CD6B7F66B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3FAD-F0AD-4332-835A-BEF60EAA8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9A63-96C1-48A6-83B2-DED31D2E6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E3D4-3D62-4C70-A892-5E4344FC1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EDB6-2B9C-4E4C-8720-37213B1F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8905-6C4C-4869-9096-2AFCBD28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6742E-9602-4A92-895E-AB150A81BE7B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CC79A-58AA-4115-9009-9841EFB1FF5C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2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53560" y="83664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年终报告商务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6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8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0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9640" y="407664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3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33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201B-0D0B-46E5-8946-29DAE1F503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8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13T15:32:00Z</dcterms:created>
  <dc:creator>www.eeppt.cpm</dc:creator>
  <dc:description>www.eeppt.cpm</dc:description>
  <cp:keywords>www.eeppt.cpm</cp:keywords>
  <dc:language>en-US</dc:language>
  <cp:lastModifiedBy>微软中国</cp:lastModifiedBy>
  <dcterms:modified xsi:type="dcterms:W3CDTF">2015-08-11T14:22:07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