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062-A044-40CD-B486-9335A6A9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49A-2061-45B9-8702-5FB69FDB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40A-3768-44C4-9ABD-9F879AB7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4D9-9D3D-4BD0-9AB4-626CE8CF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3D49-0369-4A12-BE74-BC8C0EF3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E50C-4EE0-46DD-B01C-8B286142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6482-6A0C-423C-BE7A-C09D0200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FF57-CCBA-4ABC-B6C8-D695C970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6803-49D5-4705-A3AD-A76DC659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9CF2-5D4A-4DC8-8CD8-E1BC4946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3ADC-77D1-4CD2-A43A-A1F61376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A2C-6341-44C9-8425-5B96C3DA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5A16-6C1E-4377-AF6B-D7BC38E0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3D47-5EA5-454C-98F4-30DC4A13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0D6B-5A21-4452-8C48-B7F93625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D8D7-322B-4C96-8370-2394D19D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40EB-60BB-472D-BA82-31CF33EF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505-E0A0-439C-B347-EC9A4713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31E-6475-4CE2-A6E2-8345FC54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6F1-1F84-4F9E-B0BA-42F12F8D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B65-97B1-43E3-AF05-EABEABCD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F59-8265-4B74-AB6E-6830486C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5E2-717C-4C9C-9C2A-B4FFE1FE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DDC-F14E-4C59-978F-FE320EF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112E3F-E024-4631-8931-AD10EE3AD4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2FC53E-2F61-4F58-BA23-6B0984EB6E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4000" spc="-1" strike="noStrike" u="sng">
                <a:solidFill>
                  <a:srgbClr val="66ccff"/>
                </a:solidFill>
                <a:uFillTx/>
                <a:latin typeface="Arial"/>
              </a:rPr>
              <a:t>求职必杀技我的简历</a:t>
            </a:r>
            <a:r>
              <a:rPr b="1" lang="en-US" sz="4000" spc="-1" strike="noStrike" u="sng">
                <a:solidFill>
                  <a:srgbClr val="66ccff"/>
                </a:solidFill>
                <a:uFillTx/>
                <a:latin typeface="Arial"/>
              </a:rPr>
              <a:t>ppt</a:t>
            </a:r>
            <a:r>
              <a:rPr b="1" lang="zh-CN" sz="4000" spc="-1" strike="noStrike" u="sng">
                <a:solidFill>
                  <a:srgbClr val="66ccff"/>
                </a:solidFill>
                <a:uFillTx/>
                <a:latin typeface="Arial"/>
              </a:rPr>
              <a:t>模板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148000" y="4220640"/>
            <a:ext cx="2552760" cy="17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所学专业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毕业学校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求职目标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Arial"/>
              </a:rPr>
              <a:t>基本信息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6000" y="1989000"/>
            <a:ext cx="345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姓名：                                   身高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籍贯：                                    学历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所学专业：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毕业学校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毕业时间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求职目标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联系方式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自我评价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3429000"/>
            <a:ext cx="6408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教育背景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工作经历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2920" y="549360"/>
            <a:ext cx="38163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专业技能及相关证书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4400" spc="-1" strike="noStrike">
                <a:solidFill>
                  <a:srgbClr val="66cc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06D-7465-4171-A820-24D68C1BBA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132000" y="2565360"/>
            <a:ext cx="21700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4800" spc="-1" strike="noStrike">
                <a:solidFill>
                  <a:srgbClr val="66ccff"/>
                </a:solidFill>
                <a:latin typeface="Arial"/>
              </a:rPr>
              <a:t>致谢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pc</dc:creator>
  <dc:description/>
  <cp:keywords>www.eeppt.com</cp:keywords>
  <dc:language>en-US</dc:language>
  <cp:lastModifiedBy>未知用户</cp:lastModifiedBy>
  <dcterms:modified xsi:type="dcterms:W3CDTF">2015-08-11T14:22:22Z</dcterms:modified>
  <cp:revision>1</cp:revision>
  <dc:subject>第一范文网 www.DiYiFanWen.com</dc:subject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