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AE6-F301-461E-AFD6-5EB10BA5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ECD-6AF0-4D84-8FF1-D927ABAE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E16-E9FF-43A1-B7ED-3C4C8D32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69C-36A9-4127-ADE5-1A00F91D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135-F5BC-43D8-B201-9B75E24B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4AD-D955-483F-B684-FAEA5345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AB7-448E-46E2-A5C1-761F0812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FCC-009F-4BBB-A756-F587C19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2C4-F70E-4532-A97B-6F3EB13F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2F0-FFB5-40D5-9AE2-B8B52B1D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7B1-5C9E-4931-8CA6-3769E7B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B41-CE68-419D-A4A3-74CE8F1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813D-66C4-43E8-884D-CD73FB61B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43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53" name="图文框 16" descr=""/>
            <p:cNvPicPr/>
            <p:nvPr/>
          </p:nvPicPr>
          <p:blipFill>
            <a:blip r:embed="rId4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065320" y="361800"/>
            <a:ext cx="52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求职简历工作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6292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59" name="图文框 4" descr=""/>
            <p:cNvPicPr/>
            <p:nvPr/>
          </p:nvPicPr>
          <p:blipFill>
            <a:blip r:embed="rId2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2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65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68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1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2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77" name="图文框 1" descr=""/>
            <p:cNvPicPr/>
            <p:nvPr/>
          </p:nvPicPr>
          <p:blipFill>
            <a:blip r:embed="rId2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0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1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2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85" name="图文框 2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94" name="图文框 1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13320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636-F646-402E-B5E9-B1768C06BD8A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108" name="图文框 1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图片 2" descr="745392_094122011_2.jpg"/>
          <p:cNvPicPr/>
          <p:nvPr/>
        </p:nvPicPr>
        <p:blipFill>
          <a:blip r:embed="rId2"/>
          <a:stretch/>
        </p:blipFill>
        <p:spPr>
          <a:xfrm>
            <a:off x="-455760" y="0"/>
            <a:ext cx="6320160" cy="46944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3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1:28:36Z</dcterms:created>
  <dc:creator/>
  <dc:description/>
  <cp:keywords>www.eeppt.com</cp:keywords>
  <dc:language>en-US</dc:language>
  <cp:lastModifiedBy>未知用户</cp:lastModifiedBy>
  <dcterms:modified xsi:type="dcterms:W3CDTF">2015-08-11T14:22:22Z</dcterms:modified>
  <cp:revision>1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