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3C9-9412-4B7F-9DAD-BD694C31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3F8-DB1C-4EE9-BB67-74A252C2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C38-3E0D-4C21-80F8-037E0153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F5B-C0D5-41BB-9D58-1656E00D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572-61F2-4635-A39A-5F80803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B9E-DAA1-495B-8B3A-F6B4461C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EFA-8494-4166-ADF8-EBAC94C8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E0C-0FC4-4EC4-B22C-2C80500C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FCD-6CF4-4CE8-89A4-BE0EA5B7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8DC-E7DD-4B4D-ADFA-E46617B8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EAC-D568-44F1-81F9-E0E7EB48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552-DDEB-4263-A4C2-430A930D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D5B8-039D-4B16-BCFB-A6768CABDA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911160" y="237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会议名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35800" y="4402080"/>
            <a:ext cx="4770360" cy="2324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238960" y="4317840"/>
            <a:ext cx="192420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50200" y="4529160"/>
            <a:ext cx="204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63a2a"/>
                </a:solidFill>
                <a:latin typeface="Calibri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763a2a"/>
                </a:solidFill>
                <a:latin typeface="Calibri"/>
                <a:ea typeface="微软雅黑"/>
              </a:rPr>
              <a:t>美味午餐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63a2a"/>
                </a:solidFill>
                <a:latin typeface="Calibri"/>
                <a:ea typeface="微软雅黑"/>
              </a:rPr>
              <a:t>开完会再说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986200" y="2293920"/>
            <a:ext cx="72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e1905"/>
                </a:solidFill>
                <a:latin typeface="Calibri"/>
                <a:ea typeface="微软雅黑"/>
              </a:rPr>
              <a:t>适合用于会议</a:t>
            </a:r>
            <a:r>
              <a:rPr b="1" lang="zh-CN" sz="4000" spc="-1" strike="noStrike">
                <a:solidFill>
                  <a:srgbClr val="3e1905"/>
                </a:solidFill>
                <a:latin typeface="Calibri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3e1905"/>
                </a:solidFill>
                <a:latin typeface="Calibri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e1905"/>
                </a:solidFill>
                <a:latin typeface="Calibri"/>
                <a:ea typeface="微软雅黑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aa" descr=""/>
          <p:cNvPicPr/>
          <p:nvPr/>
        </p:nvPicPr>
        <p:blipFill>
          <a:blip r:embed="rId4"/>
          <a:stretch/>
        </p:blipFill>
        <p:spPr>
          <a:xfrm>
            <a:off x="-905040" y="5915160"/>
            <a:ext cx="1822680" cy="1838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2600" y="56577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会议要点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4" descr=""/>
          <p:cNvPicPr/>
          <p:nvPr/>
        </p:nvPicPr>
        <p:blipFill>
          <a:blip r:embed="rId2"/>
          <a:stretch/>
        </p:blipFill>
        <p:spPr>
          <a:xfrm>
            <a:off x="0" y="5499000"/>
            <a:ext cx="98892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759200" y="1033560"/>
            <a:ext cx="51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e1905"/>
                </a:solidFill>
                <a:latin typeface="Calibri"/>
                <a:ea typeface="微软雅黑"/>
              </a:rPr>
              <a:t>会议要点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920880" y="611028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e1905"/>
                </a:solidFill>
                <a:latin typeface="Calibri"/>
                <a:ea typeface="微软雅黑"/>
              </a:rPr>
              <a:t>正在煮菜中，火候要够才好吃！生吃不健康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76240" y="1127160"/>
            <a:ext cx="3695760" cy="4286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188720" y="6103800"/>
            <a:ext cx="156348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返回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4759200" y="1795320"/>
            <a:ext cx="6764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会议目标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尽快结束会议，放大家去吃午餐啦！以后都不会在饭点开会，拖延大家用餐的时间啦！至于你信不信，反正我是信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会议主要内容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老板的大舅子的妹夫的表哥的阿姨的朋友的邻居今天要约老板吃饭！讨论下他们去哪家餐厅，吃什么，点几个菜，每个人吃多少量！讨论不出来你们就不用去吃饭啦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会议总结与展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aa" descr=""/>
          <p:cNvPicPr/>
          <p:nvPr/>
        </p:nvPicPr>
        <p:blipFill>
          <a:blip r:embed="rId2"/>
          <a:stretch/>
        </p:blipFill>
        <p:spPr>
          <a:xfrm>
            <a:off x="-905040" y="5915160"/>
            <a:ext cx="1822680" cy="1838160"/>
          </a:xfrm>
          <a:prstGeom prst="rect">
            <a:avLst/>
          </a:prstGeom>
          <a:ln w="0">
            <a:noFill/>
          </a:ln>
        </p:spPr>
      </p:pic>
      <p:pic>
        <p:nvPicPr>
          <p:cNvPr id="129" name="5" descr=""/>
          <p:cNvPicPr/>
          <p:nvPr/>
        </p:nvPicPr>
        <p:blipFill>
          <a:blip r:embed="rId3"/>
          <a:stretch/>
        </p:blipFill>
        <p:spPr>
          <a:xfrm>
            <a:off x="4113360" y="28162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80120" y="2962440"/>
            <a:ext cx="510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e1905"/>
                </a:solidFill>
                <a:latin typeface="Calibri"/>
                <a:ea typeface="微软雅黑"/>
              </a:rPr>
              <a:t>会议总结与展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会议总结与展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5" descr=""/>
          <p:cNvPicPr/>
          <p:nvPr/>
        </p:nvPicPr>
        <p:blipFill>
          <a:blip r:embed="rId2"/>
          <a:stretch/>
        </p:blipFill>
        <p:spPr>
          <a:xfrm>
            <a:off x="0" y="5499000"/>
            <a:ext cx="988920" cy="99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59200" y="1033560"/>
            <a:ext cx="51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e1905"/>
                </a:solidFill>
                <a:latin typeface="Calibri"/>
                <a:ea typeface="微软雅黑"/>
              </a:rPr>
              <a:t>会议总结与展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920880" y="611028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e1905"/>
                </a:solidFill>
                <a:latin typeface="Calibri"/>
                <a:ea typeface="微软雅黑"/>
              </a:rPr>
              <a:t>终于装盘了，小心太烫哦，再等一会就能吃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76240" y="1127160"/>
            <a:ext cx="3695760" cy="4286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188720" y="6103800"/>
            <a:ext cx="156348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返回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4759200" y="1795320"/>
            <a:ext cx="6764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会议目标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尽快结束会议，放大家去吃午餐啦！以后都不会在饭点开会，拖延大家用餐的时间啦！至于你信不信，反正我是信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会议主要内容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老板的大舅子的妹夫的表哥的阿姨的朋友的邻居今天要约老板吃饭！讨论下他们去哪家餐厅，吃什么，点几个菜，每个人吃多少量！讨论不出来你们就不用去吃饭啦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aa" descr=""/>
          <p:cNvPicPr/>
          <p:nvPr/>
        </p:nvPicPr>
        <p:blipFill>
          <a:blip r:embed="rId2"/>
          <a:stretch/>
        </p:blipFill>
        <p:spPr>
          <a:xfrm>
            <a:off x="-905040" y="5915160"/>
            <a:ext cx="1822680" cy="1838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81440" y="302904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e1905"/>
                </a:solidFill>
                <a:latin typeface="Calibri"/>
                <a:ea typeface="微软雅黑"/>
              </a:rPr>
              <a:t>赶快就餐吧！谢谢观赏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658960" y="288432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10188720" y="6103800"/>
            <a:ext cx="156348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再看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10194840" y="5567400"/>
            <a:ext cx="156384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返回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e190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ECB-9AB1-4CDB-A294-6833BD958B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aa" descr=""/>
          <p:cNvPicPr/>
          <p:nvPr/>
        </p:nvPicPr>
        <p:blipFill>
          <a:blip r:embed="rId2"/>
          <a:stretch/>
        </p:blipFill>
        <p:spPr>
          <a:xfrm>
            <a:off x="-905040" y="5915160"/>
            <a:ext cx="1822680" cy="1838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781440" y="3005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一不小心时间过了，要不索性讲完，午餐就不吃了？开个玩笑，散会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6" descr=""/>
          <p:cNvPicPr/>
          <p:nvPr/>
        </p:nvPicPr>
        <p:blipFill>
          <a:blip r:embed="rId3"/>
          <a:stretch/>
        </p:blipFill>
        <p:spPr>
          <a:xfrm>
            <a:off x="2658960" y="288432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10188720" y="6103800"/>
            <a:ext cx="156348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再看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10194840" y="5567400"/>
            <a:ext cx="156384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返回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50760" y="0"/>
            <a:ext cx="12301560" cy="6858000"/>
          </a:xfrm>
          <a:prstGeom prst="rect">
            <a:avLst/>
          </a:prstGeom>
          <a:ln w="15840">
            <a:solidFill>
              <a:srgbClr val="3e1905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28800" y="952560"/>
            <a:ext cx="843120" cy="841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089160" y="1998720"/>
            <a:ext cx="843120" cy="842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462480" y="3046320"/>
            <a:ext cx="842760" cy="841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809880" y="4105440"/>
            <a:ext cx="843120" cy="841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183200" y="5187960"/>
            <a:ext cx="842760" cy="843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32400" y="2104920"/>
            <a:ext cx="3308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e1905"/>
                </a:solidFill>
                <a:uFillTx/>
                <a:latin typeface="Calibri"/>
                <a:ea typeface="微软雅黑"/>
              </a:rPr>
              <a:t>会议要点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989600" y="3159000"/>
            <a:ext cx="3308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e1905"/>
                </a:solidFill>
                <a:uFillTx/>
                <a:latin typeface="Calibri"/>
                <a:ea typeface="微软雅黑"/>
              </a:rPr>
              <a:t>会议要点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5397480" y="4222800"/>
            <a:ext cx="3308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e1905"/>
                </a:solidFill>
                <a:uFillTx/>
                <a:latin typeface="Calibri"/>
                <a:ea typeface="微软雅黑"/>
              </a:rPr>
              <a:t>会议要点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5780160" y="5299200"/>
            <a:ext cx="39988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e1905"/>
                </a:solidFill>
                <a:uFillTx/>
                <a:latin typeface="Calibri"/>
                <a:ea typeface="微软雅黑"/>
              </a:rPr>
              <a:t>会议总结与展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124160" y="1052640"/>
            <a:ext cx="5105520" cy="717120"/>
          </a:xfrm>
          <a:prstGeom prst="rect">
            <a:avLst/>
          </a:prstGeom>
          <a:solidFill>
            <a:srgbClr val="763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3e1905"/>
                </a:solidFill>
                <a:uFillTx/>
                <a:latin typeface="Calibri"/>
                <a:ea typeface="微软雅黑"/>
              </a:rPr>
              <a:t>会议目标与主要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60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会议目标与主要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a" descr=""/>
          <p:cNvPicPr/>
          <p:nvPr/>
        </p:nvPicPr>
        <p:blipFill>
          <a:blip r:embed="rId2"/>
          <a:stretch/>
        </p:blipFill>
        <p:spPr>
          <a:xfrm>
            <a:off x="-905040" y="5915160"/>
            <a:ext cx="1822680" cy="1838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97080" y="2816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27480" y="2962440"/>
            <a:ext cx="510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e1905"/>
                </a:solidFill>
                <a:latin typeface="Calibri"/>
                <a:ea typeface="微软雅黑"/>
              </a:rPr>
              <a:t>会议目标与主要内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会议目标与主要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0169640" y="84240"/>
            <a:ext cx="2046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5499000"/>
            <a:ext cx="98892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59200" y="1033560"/>
            <a:ext cx="51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e1905"/>
                </a:solidFill>
                <a:latin typeface="Calibri"/>
                <a:ea typeface="微软雅黑"/>
              </a:rPr>
              <a:t>会议目标与主要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920880" y="61102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e1905"/>
                </a:solidFill>
                <a:latin typeface="Calibri"/>
                <a:ea typeface="微软雅黑"/>
              </a:rPr>
              <a:t>正在买菜中，收起邪念，认真开会吧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759200" y="1795320"/>
            <a:ext cx="6764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会议目标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尽快结束会议，放大家去吃午餐啦！以后都不会在饭点开会，拖延大家用餐的时间啦！至于你信不信，反正我是信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会议主要内容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老板的大舅子的妹夫的表哥的阿姨的朋友的邻居今天要约老板吃饭！讨论下他们去哪家餐厅，吃什么，点几个菜，每个人吃多少量！讨论不出来你们就不用去吃饭啦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76240" y="1127160"/>
            <a:ext cx="3695760" cy="4286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188720" y="6103800"/>
            <a:ext cx="156348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返回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会议要点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0169640" y="84240"/>
            <a:ext cx="2046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a" descr=""/>
          <p:cNvPicPr/>
          <p:nvPr/>
        </p:nvPicPr>
        <p:blipFill>
          <a:blip r:embed="rId2"/>
          <a:stretch/>
        </p:blipFill>
        <p:spPr>
          <a:xfrm>
            <a:off x="-905040" y="5915160"/>
            <a:ext cx="1822680" cy="1838160"/>
          </a:xfrm>
          <a:prstGeom prst="rect">
            <a:avLst/>
          </a:prstGeom>
          <a:ln w="0">
            <a:noFill/>
          </a:ln>
        </p:spPr>
      </p:pic>
      <p:pic>
        <p:nvPicPr>
          <p:cNvPr id="83" name="2" descr=""/>
          <p:cNvPicPr/>
          <p:nvPr/>
        </p:nvPicPr>
        <p:blipFill>
          <a:blip r:embed="rId3"/>
          <a:stretch/>
        </p:blipFill>
        <p:spPr>
          <a:xfrm>
            <a:off x="4113360" y="28162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280120" y="2962440"/>
            <a:ext cx="510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e1905"/>
                </a:solidFill>
                <a:latin typeface="Calibri"/>
                <a:ea typeface="微软雅黑"/>
              </a:rPr>
              <a:t>会议要点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会议要点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2" descr=""/>
          <p:cNvPicPr/>
          <p:nvPr/>
        </p:nvPicPr>
        <p:blipFill>
          <a:blip r:embed="rId2"/>
          <a:stretch/>
        </p:blipFill>
        <p:spPr>
          <a:xfrm>
            <a:off x="0" y="5499000"/>
            <a:ext cx="988920" cy="990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59200" y="1033560"/>
            <a:ext cx="51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e1905"/>
                </a:solidFill>
                <a:latin typeface="Calibri"/>
                <a:ea typeface="微软雅黑"/>
              </a:rPr>
              <a:t>会议要点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920880" y="61102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e1905"/>
                </a:solidFill>
                <a:latin typeface="Calibri"/>
                <a:ea typeface="微软雅黑"/>
              </a:rPr>
              <a:t>正在洗菜中，别急，材料准备要充分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76240" y="1127160"/>
            <a:ext cx="36957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188720" y="6103800"/>
            <a:ext cx="156348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返回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759200" y="1795320"/>
            <a:ext cx="6764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会议目标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尽快结束会议，放大家去吃午餐啦！以后都不会在饭点开会，拖延大家用餐的时间啦！至于你信不信，反正我是信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会议主要内容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老板的大舅子的妹夫的表哥的阿姨的朋友的邻居今天要约老板吃饭！讨论下他们去哪家餐厅，吃什么，点几个菜，每个人吃多少量！讨论不出来你们就不用去吃饭啦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会议要点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aa" descr=""/>
          <p:cNvPicPr/>
          <p:nvPr/>
        </p:nvPicPr>
        <p:blipFill>
          <a:blip r:embed="rId2"/>
          <a:stretch/>
        </p:blipFill>
        <p:spPr>
          <a:xfrm>
            <a:off x="-905040" y="5915160"/>
            <a:ext cx="1822680" cy="1838160"/>
          </a:xfrm>
          <a:prstGeom prst="rect">
            <a:avLst/>
          </a:prstGeom>
          <a:ln w="0">
            <a:noFill/>
          </a:ln>
        </p:spPr>
      </p:pic>
      <p:pic>
        <p:nvPicPr>
          <p:cNvPr id="98" name="3" descr=""/>
          <p:cNvPicPr/>
          <p:nvPr/>
        </p:nvPicPr>
        <p:blipFill>
          <a:blip r:embed="rId3"/>
          <a:stretch/>
        </p:blipFill>
        <p:spPr>
          <a:xfrm>
            <a:off x="4113360" y="28162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80120" y="2962440"/>
            <a:ext cx="510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e1905"/>
                </a:solidFill>
                <a:latin typeface="Calibri"/>
                <a:ea typeface="微软雅黑"/>
              </a:rPr>
              <a:t>会议要点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会议要点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3" descr=""/>
          <p:cNvPicPr/>
          <p:nvPr/>
        </p:nvPicPr>
        <p:blipFill>
          <a:blip r:embed="rId2"/>
          <a:stretch/>
        </p:blipFill>
        <p:spPr>
          <a:xfrm>
            <a:off x="0" y="5499000"/>
            <a:ext cx="988920" cy="990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59200" y="1033560"/>
            <a:ext cx="51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e1905"/>
                </a:solidFill>
                <a:latin typeface="Calibri"/>
                <a:ea typeface="微软雅黑"/>
              </a:rPr>
              <a:t>会议要点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920880" y="611028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e1905"/>
                </a:solidFill>
                <a:latin typeface="Calibri"/>
                <a:ea typeface="微软雅黑"/>
              </a:rPr>
              <a:t>正在切菜中，这需要耐心，你也不希望大小不均吧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76240" y="1127160"/>
            <a:ext cx="3695760" cy="428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188720" y="6103800"/>
            <a:ext cx="156348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返回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4759200" y="1795320"/>
            <a:ext cx="6764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会议目标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尽快结束会议，放大家去吃午餐啦！以后都不会在饭点开会，拖延大家用餐的时间啦！至于你信不信，反正我是信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会议主要内容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e1905"/>
                </a:solidFill>
                <a:latin typeface="Calibri"/>
                <a:ea typeface="微软雅黑"/>
              </a:rPr>
              <a:t>老板的大舅子的妹夫的表哥的阿姨的朋友的邻居今天要约老板吃饭！讨论下他们去哪家餐厅，吃什么，点几个菜，每个人吃多少量！讨论不出来你们就不用去吃饭啦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6560"/>
          </a:xfrm>
          <a:prstGeom prst="rect">
            <a:avLst/>
          </a:prstGeom>
          <a:ln w="9360">
            <a:solidFill>
              <a:srgbClr val="3e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911160" y="23760"/>
            <a:ext cx="44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会议要点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11853720" y="6410160"/>
            <a:ext cx="1798920" cy="459720"/>
          </a:xfrm>
          <a:prstGeom prst="rect">
            <a:avLst/>
          </a:prstGeom>
          <a:solidFill>
            <a:srgbClr val="3e1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63a2a"/>
                </a:solidFill>
                <a:latin typeface="Calibri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a" descr=""/>
          <p:cNvPicPr/>
          <p:nvPr/>
        </p:nvPicPr>
        <p:blipFill>
          <a:blip r:embed="rId2"/>
          <a:stretch/>
        </p:blipFill>
        <p:spPr>
          <a:xfrm>
            <a:off x="-905040" y="5915160"/>
            <a:ext cx="1822680" cy="1838160"/>
          </a:xfrm>
          <a:prstGeom prst="rect">
            <a:avLst/>
          </a:prstGeom>
          <a:ln w="0">
            <a:noFill/>
          </a:ln>
        </p:spPr>
      </p:pic>
      <p:pic>
        <p:nvPicPr>
          <p:cNvPr id="113" name="4" descr=""/>
          <p:cNvPicPr/>
          <p:nvPr/>
        </p:nvPicPr>
        <p:blipFill>
          <a:blip r:embed="rId3"/>
          <a:stretch/>
        </p:blipFill>
        <p:spPr>
          <a:xfrm>
            <a:off x="4113360" y="28162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80120" y="2962440"/>
            <a:ext cx="510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e1905"/>
                </a:solidFill>
                <a:latin typeface="Calibri"/>
                <a:ea typeface="微软雅黑"/>
              </a:rPr>
              <a:t>会议要点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e1905"/>
                </a:solidFill>
                <a:uFillTx/>
                <a:latin typeface="Calibri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eeppt.com</dc:creator>
  <dc:description/>
  <cp:keywords>www.eeppt.com</cp:keywords>
  <dc:language>en-US</dc:language>
  <cp:lastModifiedBy>GZB</cp:lastModifiedBy>
  <dcterms:modified xsi:type="dcterms:W3CDTF">2015-08-11T14:23:02Z</dcterms:modified>
  <cp:revision>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