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02D-A678-4EC3-AFE5-8B69F86F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46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0362-6D7E-4387-BD23-8A87C81E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46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4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E3B-52A7-419F-A3DE-74533441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00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46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00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21A-066C-4C89-B47A-9A1990DC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B960-BCD9-4E44-8F1E-2472A6A4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46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97DE-019D-43EF-B88E-4EC530A6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5303-1DF8-4975-AB28-6E5EE00E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E108-C1FE-4971-99C7-D2DA9169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8FED-1EFB-4AC5-B8B4-448326D0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3805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F400-ACB5-4B3C-9A9F-AA659B24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46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E99C-B96D-4CC6-8D8B-9FC46D83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46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B18-9FF4-4309-87D6-F2E08DDF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4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5616-5335-44CC-BEB5-056ADF98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808E-0DA8-42BB-B6E0-481CFFAF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46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00C2-511D-449A-8FA8-0E7F05C9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46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4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B66F-5E80-495E-9EB4-6FE31A24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700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544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46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700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544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0FA3-04A0-45C9-B938-B6B8F3A4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DDF-C641-465C-B084-F85AD698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C5D0-8E7F-4FA3-AC24-C21C6772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D35-F352-41F8-828E-DB5A2DB7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3805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A23-841F-450C-BB0B-964F208F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464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DE5-0924-4986-B9E6-341C92CB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4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6FA-6605-4179-9980-9E7220F1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464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4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464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B63-3E16-4466-8FE8-C4838315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9cd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75f5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72880">
              <a:spcBef>
                <a:spcPts val="700"/>
              </a:spcBef>
              <a:buClr>
                <a:srgbClr val="775f55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28600">
              <a:spcBef>
                <a:spcPts val="700"/>
              </a:spcBef>
              <a:buClr>
                <a:srgbClr val="775f5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-228600">
              <a:spcBef>
                <a:spcPts val="700"/>
              </a:spcBef>
              <a:buClr>
                <a:srgbClr val="775f5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4" marL="1828800" indent="-228600">
              <a:spcBef>
                <a:spcPts val="700"/>
              </a:spcBef>
              <a:buClr>
                <a:srgbClr val="775f5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0"/>
            <a:ext cx="914400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gradFill rotWithShape="0">
            <a:gsLst>
              <a:gs pos="0">
                <a:srgbClr val="e8d19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533520" y="0"/>
            <a:ext cx="8610480" cy="2286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371600" y="6232680"/>
            <a:ext cx="1752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232680"/>
            <a:ext cx="47530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001000" y="6232680"/>
            <a:ext cx="8380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2D7C-9A35-4129-9B7F-ABF8EE27A47C}" type="slidenum"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4038480"/>
            <a:ext cx="9144000" cy="19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4111560"/>
            <a:ext cx="1371600" cy="177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8d19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1371600" y="4111560"/>
            <a:ext cx="7772400" cy="17766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46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bddc3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72880">
              <a:spcBef>
                <a:spcPts val="700"/>
              </a:spcBef>
              <a:buClr>
                <a:srgbClr val="ebddc3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28600">
              <a:spcBef>
                <a:spcPts val="700"/>
              </a:spcBef>
              <a:buClr>
                <a:srgbClr val="ebddc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3" marL="1371600" indent="-228600">
              <a:spcBef>
                <a:spcPts val="700"/>
              </a:spcBef>
              <a:buClr>
                <a:srgbClr val="ebddc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4" marL="1828800" indent="-228600">
              <a:spcBef>
                <a:spcPts val="700"/>
              </a:spcBef>
              <a:buClr>
                <a:srgbClr val="ebddc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371600" y="6232680"/>
            <a:ext cx="1752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200040" y="6232680"/>
            <a:ext cx="47530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6232680"/>
            <a:ext cx="8380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9D02-EE2F-4ECA-AA7C-44186CABAB77}" type="slidenum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4190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eorgia"/>
                <a:ea typeface="宋体"/>
              </a:rPr>
              <a:t>团队交谈会议</a:t>
            </a:r>
            <a:r>
              <a:rPr b="0" lang="zh-CN" sz="4000" spc="-1" strike="noStrike">
                <a:solidFill>
                  <a:srgbClr val="ffffff"/>
                </a:solidFill>
                <a:latin typeface="Georgia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eorgia"/>
                <a:ea typeface="宋体"/>
              </a:rPr>
              <a:t>模板免费下载</a:t>
            </a:r>
            <a:endParaRPr b="0" lang="en-US" sz="4000" spc="-1" strike="noStrike">
              <a:solidFill>
                <a:srgbClr val="ebddc3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240" y="525744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9cdb3"/>
                </a:solidFill>
                <a:latin typeface="Georgia"/>
                <a:ea typeface="宋体"/>
              </a:rPr>
              <a:t>Company Nam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9cd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61760" y="1600200"/>
            <a:ext cx="800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75f5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tate the purpose of teamwork and objectives of this presentation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Georgia"/>
              </a:rPr>
              <a:t>Purpose and Objectives</a:t>
            </a: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9cd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Content Placeholder 3" descr=""/>
          <p:cNvPicPr/>
          <p:nvPr/>
        </p:nvPicPr>
        <p:blipFill>
          <a:blip r:embed="rId1"/>
          <a:stretch/>
        </p:blipFill>
        <p:spPr>
          <a:xfrm>
            <a:off x="1176480" y="1719360"/>
            <a:ext cx="7175520" cy="4236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Georgia"/>
              </a:rPr>
              <a:t>Team Organization</a:t>
            </a: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9cd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61760" y="1600200"/>
            <a:ext cx="800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75f5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tate roles and responsibiliti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Georgia"/>
              </a:rPr>
              <a:t>Roles and Responsibilities</a:t>
            </a: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5335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7b615"/>
                </a:solidFill>
                <a:uFillTx/>
                <a:latin typeface="Georgia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9cd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61760" y="1600200"/>
            <a:ext cx="800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75f5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Describe individual and team areas for growth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Georgia"/>
              </a:rPr>
              <a:t>Areas For Growth</a:t>
            </a: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9cd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61760" y="1600200"/>
            <a:ext cx="800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75f5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Describe team building exercis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Georgia"/>
              </a:rPr>
              <a:t>Team Building Exercises</a:t>
            </a: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9cd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61760" y="1600200"/>
            <a:ext cx="800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75f5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Invite discussion for best practic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Georgia"/>
              </a:rPr>
              <a:t>Best Practices</a:t>
            </a: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75f55"/>
                </a:solidFill>
                <a:latin typeface="Georgia"/>
              </a:rPr>
              <a:t>使用规范说明</a:t>
            </a: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Georgi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Georgia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eorgi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933D-A686-4AC6-83C7-AB06A86841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9cd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61760" y="1600200"/>
            <a:ext cx="8003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75f5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Recommend one or more strategie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700"/>
              </a:spcBef>
              <a:buClr>
                <a:srgbClr val="775f5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Suggest what to do next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18960" indent="-318960">
              <a:spcBef>
                <a:spcPts val="700"/>
              </a:spcBef>
              <a:buClr>
                <a:srgbClr val="775f55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Identify action items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Georgia"/>
              </a:rPr>
              <a:t>Recommendations</a:t>
            </a:r>
            <a:endParaRPr b="0" lang="en-US" sz="4400" spc="-1" strike="noStrike">
              <a:solidFill>
                <a:srgbClr val="775f55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7:41:02Z</dcterms:created>
  <dc:creator>www.eeppt.com</dc:creator>
  <dc:description/>
  <cp:keywords>www.eeppt.com</cp:keywords>
  <dc:language>en-US</dc:language>
  <cp:lastModifiedBy>ABC</cp:lastModifiedBy>
  <dcterms:modified xsi:type="dcterms:W3CDTF">2015-08-11T14:21:41Z</dcterms:modified>
  <cp:revision>4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TemplateID">
    <vt:lpwstr>TC102282701033</vt:lpwstr>
  </property>
</Properties>
</file>