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3FE-47AC-49EA-BDD9-F65FEF5E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D06-2136-4A87-A09A-234CA551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5E0-0C03-4DD1-9EFE-8E6EC195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9D1-D7CF-49A4-A15C-BBE411D8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D26-5AB2-4B20-9D60-3C0B5FCC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907-4260-4DDC-A513-34CB80A7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377-4ED5-48C6-9EAC-AA274738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EAE-30FA-4AC4-AE4F-3D87FAD8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C6E-6630-4A2C-9D1A-39260391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5CA-B79B-4A08-B4DD-A5D99CE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BCCF-666C-4369-BB85-3E9B5F14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A05-1CDE-408D-A5E1-41FC2169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9822-656B-4602-9949-E4C6E9F9A28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8302-49DB-4A77-9E3A-2F331E68A1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ice_Using Twitter to Get a Tech Job_V5_Cover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9960" y="482760"/>
            <a:ext cx="776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twitter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软件介绍欧美风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Dice_Using Twitter to Get a Tech Job_V5-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8D9-FB92-4BC0-BF52-3A43C360E6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Dice_Using Twitter to Get a Tech Job_V5-1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3280" y="2174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F37-7E99-4395-80BF-4E78F4E4C8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Dice_Using Twitter to Get a Tech Job_V5-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EBC-D453-4CF8-95FB-6992528535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Dice_Using Twitter to Get a Tech Job_V5-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6DD-40B9-4111-9924-CF5F902F14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Dice_Using Twitter to Get a Tech Job_V5-1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952-4909-49E7-9280-6DB96F68D3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ice_Using Twitter to Get a Tech Job_V5-1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888-3C06-4E4E-96CD-2391B37955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Dice_Using Twitter to Get a Tech Job_V5-1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097-E4BA-4CD2-B461-01FD789031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Dice_Using Twitter to Get a Tech Job_V5-1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EA3-8C64-4746-B6E1-5684116C63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Dice_Using Twitter to Get a Tech Job_V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0EF-6076-4AB0-A46C-F8B644D819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Dice_Using Twitter to Get a Tech Job_V5-1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364-7BEB-44C6-A159-4676F3E36B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ice_Using Twitter to Get a Tech Job_V5-0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E5B-938F-4E39-9F7A-C634361AAE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ice_Using Twitter to Get a Tech Job_V5-2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46D-AA2C-41BA-BC50-57F367052E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0DD-F8CB-4163-843F-BAB7956437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ice_Using Twitter to Get a Tech Job_V5-2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036-B13A-4D6B-8C90-EC7E3F2738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ice_Using Twitter to Get a Tech Job_V5-0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427-5CAC-4B9C-A6BE-B9329AE127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ice_Using Twitter to Get a Tech Job_V5-0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8BF-9D0F-40B5-A05C-7FD3C20DB2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ice_Using Twitter to Get a Tech Job_V5-0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D01-6B92-47FB-A86A-918DBB67C2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Dice_Using Twitter to Get a Tech Job_V5-0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A29-AC0E-4838-9703-D231F69653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Dice_Using Twitter to Get a Tech Job_V5-0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721-ACD1-4DBE-8AB8-18F0E4E360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Dice_Using Twitter to Get a Tech Job_V5-0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825-E9E4-4010-8952-CE1BA32D0D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Dice_Using Twitter to Get a Tech Job_V5-0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66F-3647-48A2-B5FB-5F9DD5F970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4:55:00Z</dcterms:created>
  <dc:creator>www.eeppt.com</dc:creator>
  <dc:description>www.eeppt.com</dc:description>
  <dc:language>en-US</dc:language>
  <cp:lastModifiedBy>YANGS</cp:lastModifiedBy>
  <cp:lastPrinted>2013-08-28T17:29:00Z</cp:lastPrinted>
  <dcterms:modified xsi:type="dcterms:W3CDTF">2015-08-11T14:20:27Z</dcterms:modified>
  <cp:revision>675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