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Bree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Bree Serif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Bree Serif"/>
              </a:rPr>
              <a:t>Click to edit the outline text format</a:t>
            </a: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  <a:p>
            <a:pPr lvl="1" marL="3240" indent="-3240">
              <a:spcBef>
                <a:spcPts val="799"/>
              </a:spcBef>
              <a:buClr>
                <a:srgbClr val="3f3f3f"/>
              </a:buClr>
              <a:buSzPct val="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Bree Serif"/>
              </a:rPr>
              <a:t>Second Outline Level</a:t>
            </a: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  <a:p>
            <a:pPr lvl="2" marL="3240" indent="-3240">
              <a:spcBef>
                <a:spcPts val="799"/>
              </a:spcBef>
              <a:buClr>
                <a:srgbClr val="3f3f3f"/>
              </a:buClr>
              <a:buSzPct val="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Bree Serif"/>
              </a:rPr>
              <a:t>Third Outline Level</a:t>
            </a: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  <a:p>
            <a:pPr lvl="3" marL="3240" indent="-3240">
              <a:spcBef>
                <a:spcPts val="799"/>
              </a:spcBef>
              <a:buClr>
                <a:srgbClr val="3f3f3f"/>
              </a:buClr>
              <a:buSzPct val="2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Bree Serif"/>
              </a:rPr>
              <a:t>Fourth Outline Level</a:t>
            </a: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  <a:p>
            <a:pPr lvl="4" marL="3240" indent="-3240">
              <a:spcBef>
                <a:spcPts val="799"/>
              </a:spcBef>
              <a:buClr>
                <a:srgbClr val="3f3f3f"/>
              </a:buClr>
              <a:buSzPct val="25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Bree Serif"/>
              </a:rPr>
              <a:t>Fifth Outline Level</a:t>
            </a: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  <a:p>
            <a:pPr lvl="5" marL="3240" indent="-32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Bree Serif"/>
              </a:rPr>
              <a:t>Sixth Outline Level</a:t>
            </a: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  <a:p>
            <a:pPr lvl="6" marL="3240" indent="-32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Bree Serif"/>
              </a:rPr>
              <a:t>Seventh Outline Level</a:t>
            </a: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300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Image 19" descr="fond_prez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Image 20" descr="couv_pres.png"/>
          <p:cNvPicPr/>
          <p:nvPr/>
        </p:nvPicPr>
        <p:blipFill>
          <a:blip r:embed="rId2"/>
          <a:stretch/>
        </p:blipFill>
        <p:spPr>
          <a:xfrm>
            <a:off x="1243080" y="1035000"/>
            <a:ext cx="8862840" cy="6048360"/>
          </a:xfrm>
          <a:prstGeom prst="rect">
            <a:avLst/>
          </a:prstGeom>
          <a:ln w="0">
            <a:noFill/>
          </a:ln>
        </p:spPr>
      </p:pic>
      <p:sp>
        <p:nvSpPr>
          <p:cNvPr id="41" name="ZoneTexte 14"/>
          <p:cNvSpPr/>
          <p:nvPr/>
        </p:nvSpPr>
        <p:spPr>
          <a:xfrm>
            <a:off x="376200" y="279360"/>
            <a:ext cx="6021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0044"/>
                </a:solidFill>
                <a:latin typeface="Bree Serif"/>
              </a:rPr>
              <a:t>WEB ANALY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666666"/>
                </a:solidFill>
                <a:latin typeface="Bree Serif"/>
              </a:rPr>
              <a:t>Générer de la valeur au delà du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15"/>
          <p:cNvSpPr/>
          <p:nvPr/>
        </p:nvSpPr>
        <p:spPr>
          <a:xfrm>
            <a:off x="372960" y="1779480"/>
            <a:ext cx="390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66"/>
                </a:solidFill>
                <a:latin typeface="Bree Serif"/>
              </a:rPr>
              <a:t>Atelier French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66"/>
                </a:solidFill>
                <a:latin typeface="Bree Serif"/>
              </a:rPr>
              <a:t>23 mai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18" descr="Logo_altima°.ai"/>
          <p:cNvPicPr/>
          <p:nvPr/>
        </p:nvPicPr>
        <p:blipFill>
          <a:blip r:embed="rId3"/>
          <a:stretch/>
        </p:blipFill>
        <p:spPr>
          <a:xfrm>
            <a:off x="7812000" y="0"/>
            <a:ext cx="1554120" cy="1201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5" descr="fond_prez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Image 2" descr="testing.png"/>
          <p:cNvPicPr/>
          <p:nvPr/>
        </p:nvPicPr>
        <p:blipFill>
          <a:blip r:embed="rId2"/>
          <a:stretch/>
        </p:blipFill>
        <p:spPr>
          <a:xfrm>
            <a:off x="2363760" y="2430360"/>
            <a:ext cx="4584600" cy="3214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144000"/>
            <a:ext cx="8713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3003f"/>
                </a:solidFill>
                <a:latin typeface="Bree Serif"/>
              </a:rPr>
              <a:t>Profitez de l’échec rapide : Adoptez le testing</a:t>
            </a:r>
            <a:endParaRPr b="0" lang="en-US" sz="2800" spc="-1" strike="noStrike">
              <a:solidFill>
                <a:srgbClr val="3f3f3f"/>
              </a:solidFill>
              <a:latin typeface="Bree Serif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Bree Serif"/>
              </a:rPr>
              <a:t>使用规范说明</a:t>
            </a:r>
            <a:endParaRPr b="0" lang="en-US" sz="40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Bree Serif"/>
              </a:rPr>
              <a:t>站点介绍：</a:t>
            </a:r>
            <a:endParaRPr b="0" lang="en-US" sz="14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Bree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ree Serif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Bree Serif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Bree Serif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Bree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ree Serif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Bree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ree Serif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Bree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ree Serif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Bree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ree Serif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Bree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ree Serif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Bree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ree Serif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Bree Serif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Bree Serif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Bree Serif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Bree Serif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Bree Serif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Bree Serif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Bree Serif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Bree Serif"/>
              </a:rPr>
              <a:t>特别说明：</a:t>
            </a:r>
            <a:endParaRPr b="0" lang="en-US" sz="14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Bree Serif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Bree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ree Serif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Bree Serif"/>
              </a:rPr>
              <a:t>栏目推荐：</a:t>
            </a:r>
            <a:endParaRPr b="0" lang="en-US" sz="14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f3f3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Bree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 5" descr="fond_prez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Image 7" descr="final.png"/>
          <p:cNvPicPr/>
          <p:nvPr/>
        </p:nvPicPr>
        <p:blipFill>
          <a:blip r:embed="rId2"/>
          <a:stretch/>
        </p:blipFill>
        <p:spPr>
          <a:xfrm>
            <a:off x="611280" y="573120"/>
            <a:ext cx="755784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 8" descr="bonhommes.gif"/>
          <p:cNvPicPr/>
          <p:nvPr/>
        </p:nvPicPr>
        <p:blipFill>
          <a:blip r:embed="rId1"/>
          <a:srcRect l="0" t="0" r="47933" b="0"/>
          <a:stretch/>
        </p:blipFill>
        <p:spPr>
          <a:xfrm>
            <a:off x="-12600" y="0"/>
            <a:ext cx="4552920" cy="686592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9"/>
          <p:cNvSpPr/>
          <p:nvPr/>
        </p:nvSpPr>
        <p:spPr>
          <a:xfrm>
            <a:off x="5993640" y="1473120"/>
            <a:ext cx="1482840" cy="10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c3003f"/>
                </a:solidFill>
                <a:latin typeface="Bree Serif"/>
                <a:ea typeface="MS PGothic"/>
              </a:rPr>
              <a:t>220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8" descr="bonhommes.gif"/>
          <p:cNvPicPr/>
          <p:nvPr/>
        </p:nvPicPr>
        <p:blipFill>
          <a:blip r:embed="rId2"/>
          <a:stretch/>
        </p:blipFill>
        <p:spPr>
          <a:xfrm>
            <a:off x="5035680" y="2679840"/>
            <a:ext cx="3805200" cy="275904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4"/>
          <p:cNvSpPr/>
          <p:nvPr/>
        </p:nvSpPr>
        <p:spPr>
          <a:xfrm>
            <a:off x="6032160" y="2317680"/>
            <a:ext cx="14724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Bree Serif"/>
                <a:ea typeface="Bree Serif Regular"/>
              </a:rPr>
              <a:t>passion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 5" descr="fond_prez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Image 7" descr="quoi15.png"/>
          <p:cNvPicPr/>
          <p:nvPr/>
        </p:nvPicPr>
        <p:blipFill>
          <a:blip r:embed="rId2"/>
          <a:stretch/>
        </p:blipFill>
        <p:spPr>
          <a:xfrm>
            <a:off x="4041720" y="1866960"/>
            <a:ext cx="1523880" cy="4073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144000"/>
            <a:ext cx="8713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003f"/>
                </a:solidFill>
                <a:latin typeface="Bree Serif"/>
              </a:rPr>
              <a:t>Le Web Analytics, c’est quoi ?</a:t>
            </a: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f3f3f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 5" descr="fond_prez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Image 6" descr=""/>
          <p:cNvPicPr/>
          <p:nvPr/>
        </p:nvPicPr>
        <p:blipFill>
          <a:blip r:embed="rId2"/>
          <a:stretch/>
        </p:blipFill>
        <p:spPr>
          <a:xfrm>
            <a:off x="539640" y="649440"/>
            <a:ext cx="748836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 5" descr="fond_prez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Image 8" descr="action.png"/>
          <p:cNvPicPr/>
          <p:nvPr/>
        </p:nvPicPr>
        <p:blipFill>
          <a:blip r:embed="rId2"/>
          <a:stretch/>
        </p:blipFill>
        <p:spPr>
          <a:xfrm>
            <a:off x="539640" y="649440"/>
            <a:ext cx="748836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 5" descr="fond_prez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Image 7" descr="final.png"/>
          <p:cNvPicPr/>
          <p:nvPr/>
        </p:nvPicPr>
        <p:blipFill>
          <a:blip r:embed="rId2"/>
          <a:stretch/>
        </p:blipFill>
        <p:spPr>
          <a:xfrm>
            <a:off x="611280" y="573120"/>
            <a:ext cx="755784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 5" descr="fond_prez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Image 5" descr="quoi9.png"/>
          <p:cNvPicPr/>
          <p:nvPr/>
        </p:nvPicPr>
        <p:blipFill>
          <a:blip r:embed="rId2"/>
          <a:stretch/>
        </p:blipFill>
        <p:spPr>
          <a:xfrm>
            <a:off x="647640" y="2139840"/>
            <a:ext cx="78469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 5" descr="fond_prez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144000"/>
            <a:ext cx="8713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003f"/>
                </a:solidFill>
                <a:latin typeface="Bree Serif"/>
              </a:rPr>
              <a:t>1. Des outils site-centric</a:t>
            </a: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71640" y="1413000"/>
            <a:ext cx="7345440" cy="46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Bree Serif"/>
              </a:rPr>
              <a:t>91% </a:t>
            </a:r>
            <a:r>
              <a:rPr b="0" lang="en-US" sz="2400" spc="-1" strike="noStrike">
                <a:solidFill>
                  <a:srgbClr val="3f3f3f"/>
                </a:solidFill>
                <a:latin typeface="Bree Serif"/>
              </a:rPr>
              <a:t>du top 500 des entreprises retail US utilisent (au moins) un outil de web analytics site-centric</a:t>
            </a:r>
            <a:endParaRPr b="0" lang="en-US" sz="2400" spc="-1" strike="noStrike">
              <a:solidFill>
                <a:srgbClr val="3f3f3f"/>
              </a:solidFill>
              <a:latin typeface="Bree Serif"/>
            </a:endParaRPr>
          </a:p>
          <a:p>
            <a:pPr marL="324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Bree Serif"/>
              </a:rPr>
              <a:t>58%</a:t>
            </a:r>
            <a:r>
              <a:rPr b="0" lang="en-US" sz="2400" spc="-1" strike="noStrike">
                <a:solidFill>
                  <a:srgbClr val="3f3f3f"/>
                </a:solidFill>
                <a:latin typeface="Bree Serif"/>
              </a:rPr>
              <a:t> du web est traqué via Google Analytics (82% de PDM)</a:t>
            </a:r>
            <a:endParaRPr b="0" lang="en-US" sz="2400" spc="-1" strike="noStrike">
              <a:solidFill>
                <a:srgbClr val="3f3f3f"/>
              </a:solidFill>
              <a:latin typeface="Bree Serif"/>
            </a:endParaRPr>
          </a:p>
        </p:txBody>
      </p:sp>
      <p:sp>
        <p:nvSpPr>
          <p:cNvPr id="65" name="ZoneTexte 2"/>
          <p:cNvSpPr/>
          <p:nvPr/>
        </p:nvSpPr>
        <p:spPr>
          <a:xfrm>
            <a:off x="7272360" y="645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Bree Serif"/>
              </a:rPr>
              <a:t>Source : w3tec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 5" descr="fond_prez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Image 7" descr="données.png"/>
          <p:cNvPicPr/>
          <p:nvPr/>
        </p:nvPicPr>
        <p:blipFill>
          <a:blip r:embed="rId2"/>
          <a:stretch/>
        </p:blipFill>
        <p:spPr>
          <a:xfrm>
            <a:off x="1670040" y="2371680"/>
            <a:ext cx="6058080" cy="27399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44000"/>
            <a:ext cx="8713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003f"/>
                </a:solidFill>
                <a:latin typeface="Bree Serif"/>
              </a:rPr>
              <a:t>Pourquoi ?</a:t>
            </a:r>
            <a:endParaRPr b="0" lang="en-US" sz="3200" spc="-1" strike="noStrike">
              <a:solidFill>
                <a:srgbClr val="3f3f3f"/>
              </a:solidFill>
              <a:latin typeface="Bree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4:29:00Z</dcterms:created>
  <dc:creator>www.eeppt.com</dc:creator>
  <dc:description>www.eeppt.com</dc:description>
  <dc:language>en-US</dc:language>
  <cp:lastModifiedBy>杨光</cp:lastModifiedBy>
  <dcterms:modified xsi:type="dcterms:W3CDTF">2015-08-12T07:07:49Z</dcterms:modified>
  <cp:revision>149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