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2C32-0252-4BA0-BEAD-7856A08D5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40272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DADC-4D4B-4A8A-BB15-49D5750EE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8100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91FA-738E-49A6-835A-42C0DAB1E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544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0384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544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0384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8382-8828-4A71-981E-1DED67D53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31240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68580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31240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B4B9-C8D0-4272-A32B-43F059820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8100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340272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8100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8544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03840" y="312408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8544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03840" y="3402720"/>
            <a:ext cx="220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AEB1-96E7-40A4-A95D-D287F97BF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B464-A844-4596-906B-409C1332D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1127-9457-4F7B-B18D-775CF6C10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6858000" cy="56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5406-42FD-4983-9AD8-F642D8F1A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F8EE-FB11-4011-B355-C0865E92B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1000" y="340272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BD6C-A99C-481E-B6C4-DE07CACD9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1000" y="3124080"/>
            <a:ext cx="33465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402720"/>
            <a:ext cx="6858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B97E-52CD-41DC-9CD0-8B4CD5D08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19" y="347"/>
                  <a:pt x="2162" y="307"/>
                  <a:pt x="2475" y="300"/>
                </a:cubicBezTo>
                <a:cubicBezTo>
                  <a:pt x="2788" y="293"/>
                  <a:pt x="2953" y="296"/>
                  <a:pt x="3214" y="318"/>
                </a:cubicBezTo>
                <a:cubicBezTo>
                  <a:pt x="3475" y="340"/>
                  <a:pt x="3755" y="376"/>
                  <a:pt x="4043" y="434"/>
                </a:cubicBezTo>
                <a:cubicBezTo>
                  <a:pt x="4331" y="492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20000" y="836640"/>
            <a:ext cx="360360" cy="358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29395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67640" y="981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58a252"/>
              </a:gs>
              <a:gs pos="100000">
                <a:srgbClr val="284a2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15280" y="1197000"/>
            <a:ext cx="504720" cy="50328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7c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31680"/>
            <a:ext cx="9144000" cy="6885000"/>
            <a:chOff x="0" y="-31680"/>
            <a:chExt cx="9144000" cy="6885000"/>
          </a:xfrm>
        </p:grpSpPr>
        <p:sp>
          <p:nvSpPr>
            <p:cNvPr id="8" name=""/>
            <p:cNvSpPr/>
            <p:nvPr/>
          </p:nvSpPr>
          <p:spPr>
            <a:xfrm>
              <a:off x="0" y="6381720"/>
              <a:ext cx="355680" cy="4716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42240" y="6381720"/>
              <a:ext cx="401760" cy="45576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1680" y="36720"/>
              <a:ext cx="9072720" cy="67705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-31680"/>
              <a:ext cx="45720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91480" y="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380520" y="6460920"/>
            <a:ext cx="762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FFD7-C232-4F26-A2DB-9C1C7887286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200" y="0"/>
            <a:ext cx="9064800" cy="3736800"/>
          </a:xfrm>
          <a:custGeom>
            <a:avLst/>
            <a:gdLst/>
            <a:ahLst/>
            <a:rect l="l" t="t" r="r" b="b"/>
            <a:pathLst>
              <a:path w="5710" h="2354">
                <a:moveTo>
                  <a:pt x="1547" y="600"/>
                </a:moveTo>
                <a:cubicBezTo>
                  <a:pt x="2536" y="540"/>
                  <a:pt x="2977" y="597"/>
                  <a:pt x="3500" y="717"/>
                </a:cubicBezTo>
                <a:cubicBezTo>
                  <a:pt x="4024" y="835"/>
                  <a:pt x="4586" y="1123"/>
                  <a:pt x="4952" y="1396"/>
                </a:cubicBezTo>
                <a:cubicBezTo>
                  <a:pt x="5318" y="1669"/>
                  <a:pt x="5710" y="2185"/>
                  <a:pt x="5696" y="2354"/>
                </a:cubicBezTo>
                <a:lnTo>
                  <a:pt x="5697" y="0"/>
                </a:lnTo>
                <a:lnTo>
                  <a:pt x="0" y="0"/>
                </a:lnTo>
                <a:lnTo>
                  <a:pt x="0" y="972"/>
                </a:lnTo>
                <a:cubicBezTo>
                  <a:pt x="0" y="972"/>
                  <a:pt x="453" y="802"/>
                  <a:pt x="680" y="744"/>
                </a:cubicBezTo>
                <a:cubicBezTo>
                  <a:pt x="903" y="686"/>
                  <a:pt x="1247" y="635"/>
                  <a:pt x="1355" y="6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0" y="34920"/>
            <a:ext cx="9102600" cy="3033720"/>
          </a:xfrm>
          <a:custGeom>
            <a:avLst/>
            <a:gdLst/>
            <a:ahLst/>
            <a:rect l="l" t="t" r="r" b="b"/>
            <a:pathLst>
              <a:path w="5717" h="1963">
                <a:moveTo>
                  <a:pt x="1547" y="533"/>
                </a:moveTo>
                <a:cubicBezTo>
                  <a:pt x="2536" y="480"/>
                  <a:pt x="2977" y="531"/>
                  <a:pt x="3500" y="638"/>
                </a:cubicBezTo>
                <a:cubicBezTo>
                  <a:pt x="4024" y="742"/>
                  <a:pt x="4599" y="993"/>
                  <a:pt x="4965" y="1236"/>
                </a:cubicBezTo>
                <a:cubicBezTo>
                  <a:pt x="5333" y="1457"/>
                  <a:pt x="5717" y="1930"/>
                  <a:pt x="5709" y="1963"/>
                </a:cubicBezTo>
                <a:lnTo>
                  <a:pt x="5697" y="0"/>
                </a:lnTo>
                <a:lnTo>
                  <a:pt x="0" y="0"/>
                </a:lnTo>
                <a:lnTo>
                  <a:pt x="0" y="864"/>
                </a:lnTo>
                <a:cubicBezTo>
                  <a:pt x="0" y="864"/>
                  <a:pt x="453" y="713"/>
                  <a:pt x="680" y="662"/>
                </a:cubicBezTo>
                <a:cubicBezTo>
                  <a:pt x="903" y="610"/>
                  <a:pt x="1247" y="565"/>
                  <a:pt x="1355" y="549"/>
                </a:cubicBezTo>
              </a:path>
            </a:pathLst>
          </a:custGeom>
          <a:gradFill rotWithShape="0">
            <a:gsLst>
              <a:gs pos="0">
                <a:srgbClr val="5a7cc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6480" y="0"/>
            <a:ext cx="9150480" cy="6859440"/>
            <a:chOff x="-6480" y="0"/>
            <a:chExt cx="9150480" cy="6859440"/>
          </a:xfrm>
        </p:grpSpPr>
        <p:sp>
          <p:nvSpPr>
            <p:cNvPr id="53" name=""/>
            <p:cNvSpPr/>
            <p:nvPr/>
          </p:nvSpPr>
          <p:spPr>
            <a:xfrm>
              <a:off x="3636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4224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8032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380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6756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会议幻灯片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7cc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a7cc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04267"/>
                </a:gs>
                <a:gs pos="50000">
                  <a:srgbClr val="5a7cc0"/>
                </a:gs>
                <a:gs pos="100000">
                  <a:srgbClr val="3042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a7cc0">
                    <a:alpha val="0"/>
                  </a:srgbClr>
                </a:gs>
                <a:gs pos="100000">
                  <a:srgbClr val="384e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72ec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72ec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8186c"/>
                </a:gs>
                <a:gs pos="50000">
                  <a:srgbClr val="872eca"/>
                </a:gs>
                <a:gs pos="100000">
                  <a:srgbClr val="4818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2eca">
                    <a:alpha val="0"/>
                  </a:srgbClr>
                </a:gs>
                <a:gs pos="100000">
                  <a:srgbClr val="551d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371600" y="1143000"/>
            <a:ext cx="5715000" cy="4842000"/>
            <a:chOff x="1371600" y="1143000"/>
            <a:chExt cx="5715000" cy="4842000"/>
          </a:xfrm>
        </p:grpSpPr>
        <p:sp>
          <p:nvSpPr>
            <p:cNvPr id="283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2eca"/>
                    </a:gs>
                    <a:gs pos="100000">
                      <a:srgbClr val="200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2e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2525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95a0"/>
                    </a:gs>
                    <a:gs pos="100000">
                      <a:srgbClr val="1b5e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c95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7cc0"/>
                    </a:gs>
                    <a:gs pos="100000">
                      <a:srgbClr val="2e3f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a7c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09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7cacf"/>
                </a:gs>
                <a:gs pos="100000">
                  <a:srgbClr val="2c95a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7cc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a7cc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04267"/>
                </a:gs>
                <a:gs pos="50000">
                  <a:srgbClr val="5a7cc0"/>
                </a:gs>
                <a:gs pos="100000">
                  <a:srgbClr val="3042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a7cc0">
                    <a:alpha val="0"/>
                  </a:srgbClr>
                </a:gs>
                <a:gs pos="100000">
                  <a:srgbClr val="384e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34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41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46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54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66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71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80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2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4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67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8a252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8a252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8a252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8a252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471" name=""/>
              <p:cNvCxnSpPr>
                <a:stCxn id="467" idx="3"/>
                <a:endCxn id="46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8a252"/>
                </a:solidFill>
                <a:miter/>
                <a:tailEnd len="med" type="triangle" w="med"/>
              </a:ln>
            </p:spPr>
          </p:cxnSp>
          <p:cxnSp>
            <p:nvCxnSpPr>
              <p:cNvPr id="472" name=""/>
              <p:cNvCxnSpPr>
                <a:stCxn id="468" idx="3"/>
                <a:endCxn id="46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8a252"/>
                </a:solidFill>
                <a:miter/>
                <a:tailEnd len="med" type="triangle" w="med"/>
              </a:ln>
            </p:spPr>
          </p:cxnSp>
          <p:cxnSp>
            <p:nvCxnSpPr>
              <p:cNvPr id="473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8a252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7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7cc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77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79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6a6a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fe"/>
                  </a:gs>
                  <a:gs pos="50000">
                    <a:srgbClr val="9999ff">
                      <a:alpha val="0"/>
                    </a:srgbClr>
                  </a:gs>
                  <a:gs pos="100000">
                    <a:srgbClr val="c6c6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84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86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69fd0"/>
                  </a:gs>
                  <a:gs pos="100000">
                    <a:srgbClr val="5a7cc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7cc0">
                      <a:alpha val="0"/>
                    </a:srgbClr>
                  </a:gs>
                  <a:gs pos="100000">
                    <a:srgbClr val="b8c6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491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493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79dc"/>
                  </a:gs>
                  <a:gs pos="100000">
                    <a:srgbClr val="872ec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2eca">
                      <a:alpha val="0"/>
                    </a:srgbClr>
                  </a:gs>
                  <a:gs pos="100000">
                    <a:srgbClr val="c39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0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7cc0"/>
                </a:gs>
                <a:gs pos="100000">
                  <a:srgbClr val="293958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0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a7cc0"/>
                </a:gs>
                <a:gs pos="100000">
                  <a:srgbClr val="293958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1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066680" y="2209680"/>
          <a:ext cx="7238880" cy="2971800"/>
        </p:xfrm>
        <a:graphic>
          <a:graphicData uri="http://schemas.openxmlformats.org/drawingml/2006/table">
            <a:tbl>
              <a:tblPr/>
              <a:tblGrid>
                <a:gridCol w="1631880"/>
                <a:gridCol w="1139760"/>
                <a:gridCol w="1117800"/>
                <a:gridCol w="1114200"/>
                <a:gridCol w="1121040"/>
                <a:gridCol w="1114200"/>
              </a:tblGrid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99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99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34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0a7d4"/>
                </a:gs>
                <a:gs pos="100000">
                  <a:srgbClr val="5a7cc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5c9a"/>
                </a:gs>
                <a:gs pos="100000">
                  <a:srgbClr val="9999f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175056"/>
                </a:gs>
                <a:gs pos="100000">
                  <a:srgbClr val="2c95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46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72eca"/>
                  </a:gs>
                  <a:gs pos="100000">
                    <a:srgbClr val="511b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e155d"/>
                  </a:gs>
                  <a:gs pos="100000">
                    <a:srgbClr val="872ec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155d"/>
                  </a:gs>
                  <a:gs pos="100000">
                    <a:srgbClr val="872e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55" name="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dfdfd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e5e5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95a0"/>
                    </a:gs>
                    <a:gs pos="100000">
                      <a:srgbClr val="1b5e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c95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2eca"/>
                    </a:gs>
                    <a:gs pos="100000">
                      <a:srgbClr val="200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2e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7cc0"/>
                    </a:gs>
                    <a:gs pos="100000">
                      <a:srgbClr val="2e3f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a7c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42e"/>
              </a:gs>
              <a:gs pos="50000">
                <a:srgbClr val="eab764"/>
              </a:gs>
              <a:gs pos="100000">
                <a:srgbClr val="6b54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155d"/>
              </a:gs>
              <a:gs pos="50000">
                <a:srgbClr val="872eca"/>
              </a:gs>
              <a:gs pos="100000">
                <a:srgbClr val="3e1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4449"/>
              </a:gs>
              <a:gs pos="50000">
                <a:srgbClr val="2c95a0"/>
              </a:gs>
              <a:gs pos="100000">
                <a:srgbClr val="144449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a7c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D85C-4D5D-4179-BB67-67C2D6403C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209680" y="243828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2c95a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2c95a0"/>
                  </a:gs>
                </a:gsLst>
                <a:lin ang="10800000"/>
              </a:gradFill>
              <a:effectLst>
                <a:outerShdw dist="53966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2633400" y="3276720"/>
            <a:ext cx="407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a7c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8a252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9999f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58a252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9999f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58a252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9999f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58a252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9999f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58a252"/>
                </a:solidFill>
                <a:latin typeface="Arial"/>
              </a:rPr>
              <a:t> Change images to the one you like, then it will apply to all the other slides.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0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8bac1"/>
              </a:gs>
              <a:gs pos="100000">
                <a:srgbClr val="2c95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3c5d"/>
                    </a:gs>
                    <a:gs pos="100000">
                      <a:srgbClr val="5a7cc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7cc0"/>
                    </a:gs>
                    <a:gs pos="100000">
                      <a:srgbClr val="b5c4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adafe"/>
                  </a:gs>
                  <a:gs pos="100000">
                    <a:srgbClr val="9999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9999ff">
                      <a:alpha val="48235"/>
                    </a:srgbClr>
                  </a:gs>
                  <a:gs pos="100000">
                    <a:srgbClr val="787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9999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d4ea"/>
              </a:gs>
              <a:gs pos="100000">
                <a:srgbClr val="5a7c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8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7cc0"/>
                </a:gs>
                <a:gs pos="100000">
                  <a:srgbClr val="1e2a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2f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c95a0"/>
                </a:gs>
                <a:gs pos="100000">
                  <a:srgbClr val="0f34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72eca"/>
                </a:gs>
                <a:gs pos="100000">
                  <a:srgbClr val="2e0f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3958"/>
                </a:gs>
                <a:gs pos="50000">
                  <a:srgbClr val="5a7cc0"/>
                </a:gs>
                <a:gs pos="100000">
                  <a:srgbClr val="2939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6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7cc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04267"/>
                  </a:gs>
                  <a:gs pos="50000">
                    <a:srgbClr val="5a7cc0"/>
                  </a:gs>
                  <a:gs pos="100000">
                    <a:srgbClr val="3042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4449"/>
                  </a:gs>
                  <a:gs pos="50000">
                    <a:srgbClr val="2c95a0"/>
                  </a:gs>
                  <a:gs pos="100000">
                    <a:srgbClr val="1444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2c9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3958"/>
                  </a:gs>
                  <a:gs pos="50000">
                    <a:srgbClr val="5a7cc0"/>
                  </a:gs>
                  <a:gs pos="100000">
                    <a:srgbClr val="2939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a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155d"/>
                  </a:gs>
                  <a:gs pos="50000">
                    <a:srgbClr val="872eca"/>
                  </a:gs>
                  <a:gs pos="100000">
                    <a:srgbClr val="3e15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1f6b73"/>
                  </a:gs>
                  <a:gs pos="50000">
                    <a:srgbClr val="2c95a0"/>
                  </a:gs>
                  <a:gs pos="100000">
                    <a:srgbClr val="1f6b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1598a"/>
                  </a:gs>
                  <a:gs pos="50000">
                    <a:srgbClr val="5a7cc0"/>
                  </a:gs>
                  <a:gs pos="100000">
                    <a:srgbClr val="4159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2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12191"/>
                  </a:gs>
                  <a:gs pos="50000">
                    <a:srgbClr val="872eca"/>
                  </a:gs>
                  <a:gs pos="100000">
                    <a:srgbClr val="61219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7cc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372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1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5a7cc0"/>
                </a:gs>
                <a:gs pos="100000">
                  <a:srgbClr val="6887c4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c95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4449"/>
                </a:gs>
                <a:gs pos="50000">
                  <a:srgbClr val="2c95a0"/>
                </a:gs>
                <a:gs pos="100000">
                  <a:srgbClr val="1444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a7c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958"/>
                </a:gs>
                <a:gs pos="50000">
                  <a:srgbClr val="5a7cc0"/>
                </a:gs>
                <a:gs pos="100000">
                  <a:srgbClr val="2939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72eca"/>
                </a:gs>
                <a:gs pos="100000">
                  <a:srgbClr val="b985d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2e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114e"/>
                  </a:gs>
                  <a:gs pos="50000">
                    <a:srgbClr val="872eca"/>
                  </a:gs>
                  <a:gs pos="100000">
                    <a:srgbClr val="3411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www.eeppt.com</dc:creator>
  <dc:description/>
  <cp:keywords>www.eeppt.com</cp:keywords>
  <dc:language>en-US</dc:language>
  <cp:lastModifiedBy>DugCheun Kang</cp:lastModifiedBy>
  <dcterms:modified xsi:type="dcterms:W3CDTF">2015-08-11T14:21:35Z</dcterms:modified>
  <cp:revision>6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