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jpeg" ContentType="image/jpeg"/>
  <Override PartName="/ppt/media/image6.gif" ContentType="image/gif"/>
  <Override PartName="/ppt/media/image7.jpeg" ContentType="image/jpeg"/>
  <Override PartName="/ppt/media/image8.gif" ContentType="image/gi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D6F5-89CC-4F5E-9284-62A2E0755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70440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C847-02B5-4BEE-AABB-AD849505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35053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704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704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2003-A569-4231-B9E7-DAF793F68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350532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350532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7044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7044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7044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3553-71F1-4371-BADC-310D5E2DC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FBDE-5CA7-4144-8AC1-F2E085116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35053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AD5F-264F-4BD7-AD74-998123C3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328A-B233-4881-9096-7613C751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350532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F5B5-A619-470B-8191-372193B4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AF92-1AB3-4407-92F0-7D9D9EDE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895480"/>
            <a:ext cx="9144000" cy="282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CD77-3967-4CE0-BCC7-B8B110D8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350532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704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97CE-0C8B-44F3-86E0-C54D866F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35053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BF69-8A54-4C41-9A85-4CA994DB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35053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704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2FA2-9988-4051-961C-AFEC1B4B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35053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70440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DCCA-7E67-4F03-9028-3B2CCF2B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70440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20EC-EB96-4312-B98E-A20E4C02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35053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704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704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11A2-C5D5-4FA7-B307-532D91CBC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350532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350532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7044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7044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7044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09D5-DACD-4A4C-949B-C80817316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E79F-DAF5-4AFC-8D54-1E26ED7F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350532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5E93-82A3-43BD-815A-9419CDC4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6F2E-ACDB-4353-9174-7C045466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895480"/>
            <a:ext cx="9144000" cy="282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EF45-1C2F-472F-9CAC-1BF6156A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350532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704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F768-BC85-4D35-952B-B3FFEA80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35053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704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5193-877B-4894-8D95-2729AFE8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35053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70440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25C5-625E-4C12-9E1E-29C019CA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609480"/>
            <a:ext cx="7315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336699"/>
                </a:solidFill>
                <a:latin typeface="Eurostile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6699"/>
                </a:solidFill>
                <a:latin typeface="Eurostile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336699"/>
                </a:solidFill>
                <a:latin typeface="Eurostile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6699"/>
                </a:solidFill>
                <a:latin typeface="Eurostile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336699"/>
                </a:solidFill>
                <a:latin typeface="Eurostile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4595-69E2-4D70-B035-FC00C6BA1BEC}" type="slidenum">
              <a:rPr b="1" lang="zh-CN" sz="1000" spc="-1" strike="noStrike">
                <a:solidFill>
                  <a:srgbClr val="336699"/>
                </a:solidFill>
                <a:latin typeface="Eurostile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Eurostile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Eurostile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Eurostile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Eurostile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Eurostile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6736-BA4F-417C-9C97-93A8395A4D0F}" type="slidenum">
              <a:rPr b="0" lang="zh-CN" sz="1000" spc="-1" strike="noStrike">
                <a:solidFill>
                  <a:srgbClr val="000000"/>
                </a:solidFill>
                <a:latin typeface="Eurostile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image" Target="../media/image2.jpeg"/><Relationship Id="rId5" Type="http://schemas.openxmlformats.org/officeDocument/2006/relationships/image" Target="../media/image8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35053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Your Subtitle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2895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宋体"/>
              </a:rPr>
              <a:t>早晨会议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宋体"/>
              </a:rPr>
              <a:t>模板打包下载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363840" y="0"/>
            <a:ext cx="2351160" cy="28954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 Black"/>
                <a:ea typeface="宋体"/>
              </a:rPr>
              <a:t>Your Topic Goes Here</a:t>
            </a:r>
            <a:endParaRPr b="0" lang="en-US" sz="32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828800" y="609480"/>
            <a:ext cx="3581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4572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Transitional Pag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5053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048120" y="76320"/>
            <a:ext cx="2895480" cy="2895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84360" y="494172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 Black"/>
                <a:ea typeface="宋体"/>
              </a:rPr>
              <a:t>Your Topic Goes Here</a:t>
            </a:r>
            <a:endParaRPr b="0" lang="en-US" sz="32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828800" y="609480"/>
            <a:ext cx="3581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4795920"/>
            <a:ext cx="2438280" cy="2062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99"/>
                </a:solidFill>
                <a:latin typeface="Arial Black"/>
              </a:rPr>
              <a:t>使用规范说明</a:t>
            </a:r>
            <a:endParaRPr b="0" lang="en-US" sz="3200" spc="-1" strike="noStrike">
              <a:solidFill>
                <a:srgbClr val="336699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3E93-ECDF-4C71-85B1-0595A506F008}" type="slidenum">
              <a:t>5</a:t>
            </a:fld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Elemen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934320" y="1816200"/>
            <a:ext cx="2079360" cy="1560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934320" y="3481560"/>
            <a:ext cx="2079360" cy="1560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934320" y="5145120"/>
            <a:ext cx="2079360" cy="1560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6934320" y="152280"/>
            <a:ext cx="2079360" cy="1560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4572000" y="4952880"/>
            <a:ext cx="1979640" cy="1675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533520" y="2286000"/>
            <a:ext cx="1608120" cy="1981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2438280" y="4724280"/>
            <a:ext cx="1981440" cy="1981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152280" y="46483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700000" y="3505320"/>
            <a:ext cx="3887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02:43:59Z</dcterms:created>
  <dc:creator>www.eeppt.com</dc:creator>
  <dc:description/>
  <cp:keywords>www.eeppt.com</cp:keywords>
  <dc:language>en-US</dc:language>
  <cp:lastModifiedBy>GZB</cp:lastModifiedBy>
  <dcterms:modified xsi:type="dcterms:W3CDTF">2015-08-11T14:22:18Z</dcterms:modified>
  <cp:revision>2</cp:revision>
  <dc:subject/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NXTAG2">
    <vt:lpwstr>000800901b000000000001024140</vt:lpwstr>
  </property>
</Properties>
</file>