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AEAF-EC67-48A1-ADD0-3A9EB8E4E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02FF-E8D2-4D3E-9C7F-A924CF28E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2618-C339-44B5-8583-124CD1B27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AC87-7ECD-48A3-9A62-E73CF545A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FC15-D4CD-464F-A05D-70B860649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F5E6-8015-4FB5-9F69-2CDC8BB15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1D02-ABB8-47F4-BC51-7DD173C5C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8EBB-D9F2-41D1-9A64-37EEF1AF9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0310-427A-480E-ADD4-3E9261F98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4C58-ABE1-44E2-872D-6B98E3B30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0BF2-6C77-46DD-85CD-A2B2BEE3F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73A2-9080-46C9-88B5-8ECC40E15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655E4-EE25-48C7-B6BA-278B67A3EF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Calibri"/>
                <a:ea typeface="宋体"/>
              </a:rPr>
              <a:t>蝙蝠万圣节</a:t>
            </a:r>
            <a:r>
              <a:rPr b="0" lang="zh-CN" sz="40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Calibri"/>
                <a:ea typeface="宋体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898989"/>
              </a:solidFill>
              <a:latin typeface="Calibri"/>
              <a:ea typeface="宋体"/>
            </a:endParaRPr>
          </a:p>
        </p:txBody>
      </p:sp>
      <p:sp>
        <p:nvSpPr>
          <p:cNvPr id="43" name="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36E9-E002-4C2D-96BB-3B1BAC557BC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6858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>www.eeppt.com;</dc:description>
  <cp:keywords>www.eeppt.com</cp:keywords>
  <dc:language>en-US</dc:language>
  <cp:lastModifiedBy>admin</cp:lastModifiedBy>
  <dcterms:modified xsi:type="dcterms:W3CDTF">2015-08-11T14:22:56Z</dcterms:modified>
  <cp:revision>3</cp:revision>
  <dc:subject/>
  <dc:title>www.eeppt.com;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