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39F-9186-4F6F-B6FC-568D30B7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50288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7600" y="4473360"/>
            <a:ext cx="50288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F25-9CDB-44E5-879F-5E47C472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760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448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706-D326-473B-A849-6031F303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880" y="266688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58160" y="266688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7600" y="447336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880" y="447336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58160" y="447336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42B-268D-4E2A-847D-8F8C8A40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67FF-4566-4C70-9885-04749988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AF97-26DB-4BDF-BEA6-8DD0C3F7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191B-EC5B-43D2-919D-DE1BD5C3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0B85-4674-406B-9988-FD055B2E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377D-794E-4D4B-892D-873C922E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24080" y="1905120"/>
            <a:ext cx="579096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A483-9C98-4B31-A195-BECAB45F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5760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0304-F895-4363-AB12-A5810FAA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D49-B45A-4CAF-B1C9-5F79A898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448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DD75-011E-4827-A649-5FBAF503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57600" y="4473360"/>
            <a:ext cx="50288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7F8F-8925-4F7D-AFFC-5EE2884F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50288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57600" y="4473360"/>
            <a:ext cx="50288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3D17-7127-4414-B6B8-4A28B449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5760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448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E587-C298-42B0-8FEF-B8D3D224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7880" y="266688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58160" y="266688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57600" y="447336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57880" y="447336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58160" y="447336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8A79-1DCE-4363-9330-6F5C0BC8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E31-F2BF-4753-B253-DC080500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188-C21F-4A68-8370-FEE61207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E30-C2DD-4225-B957-1C06D003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4080" y="1905120"/>
            <a:ext cx="579096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7D0-2DFD-4F9B-9A94-26E2114F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760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EB3-AC1A-4185-86C5-199EA181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448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CB0-FB81-4BF6-AD21-B6EBD328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7600" y="4473360"/>
            <a:ext cx="50288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BF5-C336-4C24-958A-F601B6A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14800" y="3581280"/>
            <a:ext cx="4419360" cy="1088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zh-CN" sz="2400" spc="-1" strike="noStrike">
                <a:solidFill>
                  <a:srgbClr val="006666"/>
                </a:solidFill>
                <a:latin typeface="Arial Black"/>
              </a:rPr>
              <a:t>单击此处编辑母版标题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4A8E02-A1A0-471D-92C8-83399FFE5E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zh-CN" sz="2400" spc="-1" strike="noStrike">
                <a:solidFill>
                  <a:srgbClr val="006666"/>
                </a:solidFill>
                <a:latin typeface="Arial Black"/>
              </a:rPr>
              <a:t>单击此处编辑母版标题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C53559-250A-4D01-9392-992845ACBA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14800" y="4092480"/>
            <a:ext cx="4419360" cy="70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4000" spc="-1" strike="noStrike">
                <a:solidFill>
                  <a:srgbClr val="006666"/>
                </a:solidFill>
                <a:latin typeface="Arial Black"/>
                <a:ea typeface="宋体"/>
              </a:rPr>
              <a:t>Cool 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3720" y="4648320"/>
            <a:ext cx="640044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Subtitle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209320" y="227700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抽象设计完整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2400" spc="-1" strike="noStrike">
                <a:solidFill>
                  <a:srgbClr val="006666"/>
                </a:solidFill>
                <a:latin typeface="Arial Black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2400" spc="-1" strike="noStrike">
                <a:solidFill>
                  <a:srgbClr val="006666"/>
                </a:solidFill>
                <a:latin typeface="Arial Black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14800" y="3581280"/>
            <a:ext cx="4419360" cy="1088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2400" spc="-1" strike="noStrike">
                <a:solidFill>
                  <a:srgbClr val="006666"/>
                </a:solidFill>
                <a:latin typeface="Arial Black"/>
                <a:ea typeface="宋体"/>
              </a:rPr>
              <a:t>Transitional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95640" y="6381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1800" y="533520"/>
            <a:ext cx="5790960" cy="837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ffffff"/>
                </a:solidFill>
                <a:latin typeface="Aero"/>
                <a:ea typeface="宋体"/>
              </a:rPr>
              <a:t>Elem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ool_gage_prt"/>
          <p:cNvPicPr/>
          <p:nvPr/>
        </p:nvPicPr>
        <p:blipFill>
          <a:blip r:embed="rId1"/>
          <a:stretch/>
        </p:blipFill>
        <p:spPr>
          <a:xfrm>
            <a:off x="5867280" y="4495680"/>
            <a:ext cx="2819160" cy="211428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94" name="Picture 5" descr="cool_gage_qx"/>
          <p:cNvPicPr/>
          <p:nvPr/>
        </p:nvPicPr>
        <p:blipFill>
          <a:blip r:embed="rId2"/>
          <a:stretch/>
        </p:blipFill>
        <p:spPr>
          <a:xfrm>
            <a:off x="2438280" y="1828800"/>
            <a:ext cx="2819160" cy="211428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95" name="Picture 6" descr="cool_gage_sld"/>
          <p:cNvPicPr/>
          <p:nvPr/>
        </p:nvPicPr>
        <p:blipFill>
          <a:blip r:embed="rId3"/>
          <a:stretch/>
        </p:blipFill>
        <p:spPr>
          <a:xfrm>
            <a:off x="2438280" y="4495680"/>
            <a:ext cx="2819160" cy="211428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96" name="Picture 7" descr="cool_gage_trs"/>
          <p:cNvPicPr/>
          <p:nvPr/>
        </p:nvPicPr>
        <p:blipFill>
          <a:blip r:embed="rId4"/>
          <a:stretch/>
        </p:blipFill>
        <p:spPr>
          <a:xfrm>
            <a:off x="5867280" y="1828800"/>
            <a:ext cx="2819160" cy="211428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ol_kid">
  <a:themeElements>
    <a:clrScheme name="cool_kid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ol_kid">
  <a:themeElements>
    <a:clrScheme name="cool_kid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ol_kid</Template>
  <TotalTime>6</TotalTime>
  <Application>LibreOffice/7.4.7.2$Linux_X86_64 LibreOffice_project/40$Build-2</Application>
  <AppVersion>15.0000</AppVersion>
  <Words>54</Words>
  <Paragraphs>11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6T03:39:16Z</dcterms:created>
  <dc:creator>微软中国</dc:creator>
  <dc:description/>
  <dc:language>en-US</dc:language>
  <cp:lastModifiedBy>a</cp:lastModifiedBy>
  <dcterms:modified xsi:type="dcterms:W3CDTF">2015-07-24T07:08:00Z</dcterms:modified>
  <cp:revision>2</cp:revision>
  <dc:subject/>
  <dc:title>Cool Ki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