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B3E6-F09E-4316-9FDF-F3350E260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5EE1-C702-41B1-A126-B01EC906D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28CF-63AF-4933-8C62-6B1EB6BE9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23B7-D2E2-499F-90E0-137E56D9C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C7249-C107-46A1-9CAB-47820E2D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2F13D-13C8-4741-8ABA-F0E622C0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148B7-BCB4-4C0D-A79A-7803630B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3DE94-5F0C-4791-A4F2-2A57005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0860C-F6E1-471E-BFCE-831AEB5C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23FA4-7679-4FBE-AB1C-660A0D83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9E785-15F9-49FD-851E-356D5DB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E899-82C5-44E4-A847-937CA2B92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C40FE-5F37-434D-A9EA-84277BC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079E6-075D-47B6-82F9-5353A45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04634-458E-4F96-A6B2-71338B63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69CB4-8866-48AE-B407-C53D4A93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66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68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66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68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A5B42-13AC-4451-9181-672194BD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1E87-E6DF-4643-A9A8-75C464EAD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72D8-6EFE-47C3-B215-72D483E6E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69F5-F240-4E5B-8F5A-CB3A285BC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CEDD-7762-4A38-8FE3-3133E2CC0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AD8B-69FC-4E83-8316-FF962542E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1739-9170-465F-A728-3DF272317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C1A0-6B05-411D-8008-C2FE9B7FC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457200" y="228600"/>
            <a:ext cx="82296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5b94e1"/>
              </a:gs>
              <a:gs pos="100000">
                <a:srgbClr val="000066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b94e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2C8-55E8-4E42-A352-ECFDA2B568FF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03200" y="6434280"/>
            <a:ext cx="8458200" cy="0"/>
          </a:xfrm>
          <a:prstGeom prst="line">
            <a:avLst/>
          </a:prstGeom>
          <a:ln w="25560">
            <a:solidFill>
              <a:srgbClr val="5b94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781680" y="649440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838080" y="2590920"/>
            <a:ext cx="7543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5b94e1"/>
              </a:gs>
              <a:gs pos="100000">
                <a:srgbClr val="000066"/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541680" y="6324480"/>
            <a:ext cx="2057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b94e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200040" y="655308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590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Gulim"/>
              </a:rPr>
              <a:t>电子信息类雅致的毕业答辩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PP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66"/>
              </a:solidFill>
              <a:latin typeface="Verdana"/>
              <a:ea typeface="Gulim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F322-C45B-4B02-9879-9225EC7083C1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Object 3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458200" cy="4952880"/>
          </a:xfrm>
          <a:prstGeom prst="rect">
            <a:avLst/>
          </a:prstGeom>
          <a:ln w="0">
            <a:noFill/>
          </a:ln>
        </p:spPr>
      </p:pic>
      <p:sp>
        <p:nvSpPr>
          <p:cNvPr id="1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2129-4721-4158-9600-632DBB53B713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Object 3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85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CF61-BBAE-46F0-B622-6C88852BC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2590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Gulim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266920" y="4336920"/>
            <a:ext cx="45324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5b94e1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4A78-665C-438F-ACF5-9E6B330C5096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362320" y="1879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500120" y="1758960"/>
            <a:ext cx="762120" cy="762120"/>
            <a:chOff x="1500120" y="1758960"/>
            <a:chExt cx="762120" cy="762120"/>
          </a:xfrm>
        </p:grpSpPr>
        <p:sp>
          <p:nvSpPr>
            <p:cNvPr id="92" name="Oval 5"/>
            <p:cNvSpPr/>
            <p:nvPr/>
          </p:nvSpPr>
          <p:spPr>
            <a:xfrm>
              <a:off x="1500120" y="175896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6"/>
            <p:cNvSpPr/>
            <p:nvPr/>
          </p:nvSpPr>
          <p:spPr>
            <a:xfrm>
              <a:off x="1598400" y="1836720"/>
              <a:ext cx="563760" cy="563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2362320" y="283536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1500120" y="2714760"/>
            <a:ext cx="762120" cy="761760"/>
            <a:chOff x="1500120" y="2714760"/>
            <a:chExt cx="762120" cy="761760"/>
          </a:xfrm>
        </p:grpSpPr>
        <p:sp>
          <p:nvSpPr>
            <p:cNvPr id="96" name="Oval 9"/>
            <p:cNvSpPr/>
            <p:nvPr/>
          </p:nvSpPr>
          <p:spPr>
            <a:xfrm>
              <a:off x="1500120" y="2714760"/>
              <a:ext cx="762120" cy="76176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1598400" y="2792160"/>
              <a:ext cx="563760" cy="56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Rectangle 11"/>
          <p:cNvSpPr/>
          <p:nvPr/>
        </p:nvSpPr>
        <p:spPr>
          <a:xfrm>
            <a:off x="2362320" y="381312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1500120" y="3692520"/>
            <a:ext cx="762120" cy="762120"/>
            <a:chOff x="1500120" y="3692520"/>
            <a:chExt cx="762120" cy="762120"/>
          </a:xfrm>
        </p:grpSpPr>
        <p:sp>
          <p:nvSpPr>
            <p:cNvPr id="100" name="Oval 13"/>
            <p:cNvSpPr/>
            <p:nvPr/>
          </p:nvSpPr>
          <p:spPr>
            <a:xfrm>
              <a:off x="1500120" y="369252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4"/>
            <p:cNvSpPr/>
            <p:nvPr/>
          </p:nvSpPr>
          <p:spPr>
            <a:xfrm>
              <a:off x="1598400" y="3770280"/>
              <a:ext cx="563760" cy="563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15"/>
          <p:cNvSpPr/>
          <p:nvPr/>
        </p:nvSpPr>
        <p:spPr>
          <a:xfrm>
            <a:off x="2362320" y="484488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1500120" y="4724280"/>
            <a:ext cx="762120" cy="762120"/>
            <a:chOff x="1500120" y="4724280"/>
            <a:chExt cx="762120" cy="762120"/>
          </a:xfrm>
        </p:grpSpPr>
        <p:sp>
          <p:nvSpPr>
            <p:cNvPr id="104" name="Oval 17"/>
            <p:cNvSpPr/>
            <p:nvPr/>
          </p:nvSpPr>
          <p:spPr>
            <a:xfrm>
              <a:off x="1500120" y="4724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18"/>
            <p:cNvSpPr/>
            <p:nvPr/>
          </p:nvSpPr>
          <p:spPr>
            <a:xfrm>
              <a:off x="1598400" y="4802040"/>
              <a:ext cx="563760" cy="563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1858-BB19-47D1-ABDC-53A4281C5E38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01EB-9F62-4E0A-905D-A6A7BE5C779C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81360" y="181296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2903400" y="1965240"/>
            <a:ext cx="1677960" cy="1677960"/>
            <a:chOff x="2903400" y="1965240"/>
            <a:chExt cx="1677960" cy="1677960"/>
          </a:xfrm>
        </p:grpSpPr>
        <p:sp>
          <p:nvSpPr>
            <p:cNvPr id="116" name="Oval 8"/>
            <p:cNvSpPr/>
            <p:nvPr/>
          </p:nvSpPr>
          <p:spPr>
            <a:xfrm>
              <a:off x="2903400" y="1965240"/>
              <a:ext cx="1677960" cy="16779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9"/>
            <p:cNvSpPr/>
            <p:nvPr/>
          </p:nvSpPr>
          <p:spPr>
            <a:xfrm>
              <a:off x="2981160" y="2035080"/>
              <a:ext cx="1504800" cy="150660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0"/>
          <p:cNvGrpSpPr/>
          <p:nvPr/>
        </p:nvGrpSpPr>
        <p:grpSpPr>
          <a:xfrm>
            <a:off x="2981160" y="4037040"/>
            <a:ext cx="1677960" cy="1677960"/>
            <a:chOff x="2981160" y="4037040"/>
            <a:chExt cx="1677960" cy="1677960"/>
          </a:xfrm>
        </p:grpSpPr>
        <p:sp>
          <p:nvSpPr>
            <p:cNvPr id="119" name="Oval 11"/>
            <p:cNvSpPr/>
            <p:nvPr/>
          </p:nvSpPr>
          <p:spPr>
            <a:xfrm>
              <a:off x="2981160" y="4037040"/>
              <a:ext cx="1677960" cy="16779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3058920" y="4106880"/>
              <a:ext cx="1504800" cy="150660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4952880" y="2955960"/>
            <a:ext cx="1677960" cy="1677960"/>
            <a:chOff x="4952880" y="2955960"/>
            <a:chExt cx="1677960" cy="1677960"/>
          </a:xfrm>
        </p:grpSpPr>
        <p:sp>
          <p:nvSpPr>
            <p:cNvPr id="122" name="Oval 14"/>
            <p:cNvSpPr/>
            <p:nvPr/>
          </p:nvSpPr>
          <p:spPr>
            <a:xfrm>
              <a:off x="4952880" y="2955960"/>
              <a:ext cx="1677960" cy="16779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5030640" y="3025800"/>
              <a:ext cx="1504800" cy="150660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4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8001-0DA3-40F5-ABB8-C289CECF1892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2576520" y="2433600"/>
            <a:ext cx="4114800" cy="26431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1303200" y="1714680"/>
            <a:ext cx="3040200" cy="1861920"/>
            <a:chOff x="1303200" y="1714680"/>
            <a:chExt cx="3040200" cy="1861920"/>
          </a:xfrm>
        </p:grpSpPr>
        <p:sp>
          <p:nvSpPr>
            <p:cNvPr id="128" name="AutoShape 5"/>
            <p:cNvSpPr/>
            <p:nvPr/>
          </p:nvSpPr>
          <p:spPr>
            <a:xfrm>
              <a:off x="1303200" y="1714680"/>
              <a:ext cx="3040200" cy="186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1422360" y="1765080"/>
              <a:ext cx="2787480" cy="175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7"/>
          <p:cNvSpPr/>
          <p:nvPr/>
        </p:nvSpPr>
        <p:spPr>
          <a:xfrm>
            <a:off x="1828800" y="2362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4970520" y="1714680"/>
            <a:ext cx="3039840" cy="1861920"/>
            <a:chOff x="4970520" y="1714680"/>
            <a:chExt cx="3039840" cy="1861920"/>
          </a:xfrm>
        </p:grpSpPr>
        <p:sp>
          <p:nvSpPr>
            <p:cNvPr id="132" name="AutoShape 9"/>
            <p:cNvSpPr/>
            <p:nvPr/>
          </p:nvSpPr>
          <p:spPr>
            <a:xfrm>
              <a:off x="4970520" y="1714680"/>
              <a:ext cx="3039840" cy="186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0"/>
            <p:cNvSpPr/>
            <p:nvPr/>
          </p:nvSpPr>
          <p:spPr>
            <a:xfrm>
              <a:off x="5089320" y="1765080"/>
              <a:ext cx="2787120" cy="175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11"/>
          <p:cNvSpPr/>
          <p:nvPr/>
        </p:nvSpPr>
        <p:spPr>
          <a:xfrm>
            <a:off x="5495760" y="2362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2"/>
          <p:cNvGrpSpPr/>
          <p:nvPr/>
        </p:nvGrpSpPr>
        <p:grpSpPr>
          <a:xfrm>
            <a:off x="1303200" y="3990960"/>
            <a:ext cx="3040200" cy="1862280"/>
            <a:chOff x="1303200" y="3990960"/>
            <a:chExt cx="3040200" cy="1862280"/>
          </a:xfrm>
        </p:grpSpPr>
        <p:sp>
          <p:nvSpPr>
            <p:cNvPr id="136" name="AutoShape 13"/>
            <p:cNvSpPr/>
            <p:nvPr/>
          </p:nvSpPr>
          <p:spPr>
            <a:xfrm>
              <a:off x="1303200" y="3990960"/>
              <a:ext cx="3040200" cy="1862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4"/>
            <p:cNvSpPr/>
            <p:nvPr/>
          </p:nvSpPr>
          <p:spPr>
            <a:xfrm>
              <a:off x="1422360" y="4041720"/>
              <a:ext cx="2787480" cy="175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15"/>
          <p:cNvSpPr/>
          <p:nvPr/>
        </p:nvSpPr>
        <p:spPr>
          <a:xfrm>
            <a:off x="1828800" y="4638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4970520" y="3990960"/>
            <a:ext cx="3039840" cy="1862280"/>
            <a:chOff x="4970520" y="3990960"/>
            <a:chExt cx="3039840" cy="1862280"/>
          </a:xfrm>
        </p:grpSpPr>
        <p:sp>
          <p:nvSpPr>
            <p:cNvPr id="140" name="AutoShape 17"/>
            <p:cNvSpPr/>
            <p:nvPr/>
          </p:nvSpPr>
          <p:spPr>
            <a:xfrm>
              <a:off x="4970520" y="3990960"/>
              <a:ext cx="3039840" cy="1862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8"/>
            <p:cNvSpPr/>
            <p:nvPr/>
          </p:nvSpPr>
          <p:spPr>
            <a:xfrm>
              <a:off x="5089320" y="4041720"/>
              <a:ext cx="2787120" cy="175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5495760" y="4638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4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8827-6638-4407-9523-C7E413911A9D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5272200" y="1370160"/>
            <a:ext cx="3006720" cy="4606920"/>
            <a:chOff x="5272200" y="1370160"/>
            <a:chExt cx="3006720" cy="4606920"/>
          </a:xfrm>
        </p:grpSpPr>
        <p:sp>
          <p:nvSpPr>
            <p:cNvPr id="145" name="AutoShape 3"/>
            <p:cNvSpPr/>
            <p:nvPr/>
          </p:nvSpPr>
          <p:spPr>
            <a:xfrm>
              <a:off x="5272200" y="1370160"/>
              <a:ext cx="3006720" cy="4606920"/>
            </a:xfrm>
            <a:custGeom>
              <a:avLst/>
              <a:gdLst>
                <a:gd name="textAreaLeft" fmla="*/ 146520 w 3006720"/>
                <a:gd name="textAreaRight" fmla="*/ 2860200 w 3006720"/>
                <a:gd name="textAreaTop" fmla="*/ 146520 h 4606920"/>
                <a:gd name="textAreaBottom" fmla="*/ 4460400 h 4606920"/>
              </a:gdLst>
              <a:ahLst/>
              <a:rect l="textAreaLeft" t="textAreaTop" r="textAreaRight" b="textAreaBottom"/>
              <a:pathLst>
                <a:path w="21600" h="33094">
                  <a:moveTo>
                    <a:pt x="3600" y="0"/>
                  </a:moveTo>
                  <a:arcTo wR="3600" hR="3600" stAng="16200000" swAng="-5400000"/>
                  <a:lnTo>
                    <a:pt x="0" y="29494"/>
                  </a:lnTo>
                  <a:arcTo wR="3600" hR="3600" stAng="10800000" swAng="-5400000"/>
                  <a:lnTo>
                    <a:pt x="18000" y="330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utoShape 4"/>
            <p:cNvSpPr/>
            <p:nvPr/>
          </p:nvSpPr>
          <p:spPr>
            <a:xfrm>
              <a:off x="5389560" y="1497240"/>
              <a:ext cx="2757600" cy="4343400"/>
            </a:xfrm>
            <a:custGeom>
              <a:avLst/>
              <a:gdLst>
                <a:gd name="textAreaLeft" fmla="*/ 134280 w 2757600"/>
                <a:gd name="textAreaRight" fmla="*/ 2623320 w 2757600"/>
                <a:gd name="textAreaTop" fmla="*/ 134280 h 4343400"/>
                <a:gd name="textAreaBottom" fmla="*/ 4209120 h 4343400"/>
              </a:gdLst>
              <a:ahLst/>
              <a:rect l="textAreaLeft" t="textAreaTop" r="textAreaRight" b="textAreaBottom"/>
              <a:pathLst>
                <a:path w="21600" h="34020">
                  <a:moveTo>
                    <a:pt x="3600" y="0"/>
                  </a:moveTo>
                  <a:arcTo wR="3600" hR="3600" stAng="16200000" swAng="-5400000"/>
                  <a:lnTo>
                    <a:pt x="0" y="30420"/>
                  </a:lnTo>
                  <a:arcTo wR="3600" hR="3600" stAng="10800000" swAng="-5400000"/>
                  <a:lnTo>
                    <a:pt x="18000" y="340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990720" y="1370160"/>
            <a:ext cx="3006720" cy="4606920"/>
            <a:chOff x="990720" y="1370160"/>
            <a:chExt cx="3006720" cy="4606920"/>
          </a:xfrm>
        </p:grpSpPr>
        <p:sp>
          <p:nvSpPr>
            <p:cNvPr id="149" name="AutoShape 7"/>
            <p:cNvSpPr/>
            <p:nvPr/>
          </p:nvSpPr>
          <p:spPr>
            <a:xfrm>
              <a:off x="990720" y="1370160"/>
              <a:ext cx="3006720" cy="4606920"/>
            </a:xfrm>
            <a:custGeom>
              <a:avLst/>
              <a:gdLst>
                <a:gd name="textAreaLeft" fmla="*/ 146520 w 3006720"/>
                <a:gd name="textAreaRight" fmla="*/ 2860200 w 3006720"/>
                <a:gd name="textAreaTop" fmla="*/ 146520 h 4606920"/>
                <a:gd name="textAreaBottom" fmla="*/ 4460400 h 4606920"/>
              </a:gdLst>
              <a:ahLst/>
              <a:rect l="textAreaLeft" t="textAreaTop" r="textAreaRight" b="textAreaBottom"/>
              <a:pathLst>
                <a:path w="21600" h="33094">
                  <a:moveTo>
                    <a:pt x="3600" y="0"/>
                  </a:moveTo>
                  <a:arcTo wR="3600" hR="3600" stAng="16200000" swAng="-5400000"/>
                  <a:lnTo>
                    <a:pt x="0" y="29494"/>
                  </a:lnTo>
                  <a:arcTo wR="3600" hR="3600" stAng="10800000" swAng="-5400000"/>
                  <a:lnTo>
                    <a:pt x="18000" y="330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1108080" y="1497240"/>
              <a:ext cx="2757600" cy="4343400"/>
            </a:xfrm>
            <a:custGeom>
              <a:avLst/>
              <a:gdLst>
                <a:gd name="textAreaLeft" fmla="*/ 134280 w 2757600"/>
                <a:gd name="textAreaRight" fmla="*/ 2623320 w 2757600"/>
                <a:gd name="textAreaTop" fmla="*/ 134280 h 4343400"/>
                <a:gd name="textAreaBottom" fmla="*/ 4209120 h 4343400"/>
              </a:gdLst>
              <a:ahLst/>
              <a:rect l="textAreaLeft" t="textAreaTop" r="textAreaRight" b="textAreaBottom"/>
              <a:pathLst>
                <a:path w="21600" h="34020">
                  <a:moveTo>
                    <a:pt x="3600" y="0"/>
                  </a:moveTo>
                  <a:arcTo wR="3600" hR="3600" stAng="16200000" swAng="-5400000"/>
                  <a:lnTo>
                    <a:pt x="0" y="30420"/>
                  </a:lnTo>
                  <a:arcTo wR="3600" hR="3600" stAng="10800000" swAng="-5400000"/>
                  <a:lnTo>
                    <a:pt x="18000" y="340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AutoShape 9"/>
          <p:cNvSpPr/>
          <p:nvPr/>
        </p:nvSpPr>
        <p:spPr>
          <a:xfrm rot="16200000">
            <a:off x="4167000" y="2977920"/>
            <a:ext cx="936720" cy="552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254240" y="1719360"/>
            <a:ext cx="2438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562720" y="1643040"/>
            <a:ext cx="2438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1596-2D26-4BED-B231-CD3C1FF4DB13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429000" y="1537920"/>
            <a:ext cx="19810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e3f5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914400" y="153792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5715000" y="153792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94e1"/>
              </a:gs>
              <a:gs pos="100000">
                <a:srgbClr val="bfd5f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638680" y="2286000"/>
            <a:ext cx="2819520" cy="35812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b94e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276720" y="2286000"/>
            <a:ext cx="2971800" cy="35812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914400" y="2286000"/>
            <a:ext cx="2971800" cy="35812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3EA8-18F7-456A-9120-3A1E6E160B6C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070520" y="2394000"/>
            <a:ext cx="634680" cy="29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457200" y="1676160"/>
            <a:ext cx="55468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3200400" y="2763360"/>
            <a:ext cx="55468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457200" y="3911400"/>
            <a:ext cx="55468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4070520" y="3467160"/>
            <a:ext cx="634680" cy="29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4070520" y="4643280"/>
            <a:ext cx="634680" cy="29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200400" y="5013000"/>
            <a:ext cx="55468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15AB-424C-4038-ADDD-88FC91DE6AB2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0:58:10Z</dcterms:created>
  <dc:creator>幻灯片 http://www.eeppt.com</dc:creator>
  <dc:description/>
  <cp:keywords>幻灯片 http:/www.eeppt.com</cp:keywords>
  <dc:language>en-US</dc:language>
  <cp:lastModifiedBy/>
  <dcterms:modified xsi:type="dcterms:W3CDTF">2015-08-12T03:47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