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0CC-E7D5-434A-AE99-8EA5C9F8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CF6-B63F-4C0B-91A2-13EF0CD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54F-293E-4615-A1DF-52FC0732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BA8-93F1-4C1D-8E1F-402B6C8C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7806-A079-45EE-B2C1-251E84C8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ABA4-0CB1-42BF-BCA7-4D8108DC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A9F2-4E9C-4727-87FC-2E3DDB44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8CAD-AC11-4FDE-82C9-8F79FF3B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FBA3-0EF9-4399-86D0-DD1010E4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8080" y="374400"/>
            <a:ext cx="7010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4952-1C96-4F19-B534-5D1F8616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1DC1-149E-40C3-8CE9-00D285BC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A0C-91C0-4407-86DC-456F4082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4DD4-5BA7-4626-ACE2-207FDCD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5AC7-1F3E-4EA3-A69F-C2C5120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37A-593C-46CE-AF17-7F7792CF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EB4F-C061-42DB-A7A6-EE4CB8C6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25E7-93D1-4717-9895-C6373851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86B-8AAC-4655-874D-0216383A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A6E-3233-4B17-AC97-119CC412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693-9EF5-4743-BD34-8260B309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374400"/>
            <a:ext cx="7010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24E-1530-4434-8E81-8348E1C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705-40D4-45A6-BA76-6B6C6BBA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C79-4707-4C86-8AC5-7A7A947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DA7-203C-47A6-83FB-4D1E0CF5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41520"/>
            <a:ext cx="9144000" cy="9180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440" y="766800"/>
            <a:ext cx="9142560" cy="136692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aphicFrame>
        <p:nvGraphicFramePr>
          <p:cNvPr id="2" name="Object 15"/>
          <p:cNvGraphicFramePr/>
          <p:nvPr/>
        </p:nvGraphicFramePr>
        <p:xfrm>
          <a:off x="-11160" y="0"/>
          <a:ext cx="915516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160" y="0"/>
                    <a:ext cx="9155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AutoShape 9"/>
          <p:cNvSpPr/>
          <p:nvPr/>
        </p:nvSpPr>
        <p:spPr>
          <a:xfrm>
            <a:off x="609480" y="344520"/>
            <a:ext cx="7365960" cy="644400"/>
          </a:xfrm>
          <a:prstGeom prst="roundRect">
            <a:avLst>
              <a:gd name="adj" fmla="val 41870"/>
            </a:avLst>
          </a:prstGeom>
          <a:gradFill rotWithShape="0">
            <a:gsLst>
              <a:gs pos="0">
                <a:srgbClr val="0e4aa2"/>
              </a:gs>
              <a:gs pos="100000">
                <a:srgbClr val="0622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a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191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6645-F217-4BE2-AE2C-12382CF39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1259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d1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1440" y="3803760"/>
            <a:ext cx="9142560" cy="130176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aphicFrame>
        <p:nvGraphicFramePr>
          <p:cNvPr id="49" name="Object 18"/>
          <p:cNvGraphicFramePr/>
          <p:nvPr/>
        </p:nvGraphicFramePr>
        <p:xfrm>
          <a:off x="0" y="0"/>
          <a:ext cx="9144000" cy="26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0" y="2678040"/>
            <a:ext cx="9144000" cy="107172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52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3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1259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1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55" name="AutoShape 11"/>
          <p:cNvSpPr/>
          <p:nvPr/>
        </p:nvSpPr>
        <p:spPr>
          <a:xfrm>
            <a:off x="685800" y="3429000"/>
            <a:ext cx="7620120" cy="685800"/>
          </a:xfrm>
          <a:prstGeom prst="roundRect">
            <a:avLst>
              <a:gd name="adj" fmla="val 384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a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191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1259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2DEE-CAE0-4A50-ADFA-4D372A00F305}" type="slidenum">
              <a:rPr b="0" lang="en-US" sz="1200" spc="-1" strike="noStrike">
                <a:solidFill>
                  <a:srgbClr val="0d125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image" Target="../media/image3.wmf"/><Relationship Id="rId7" Type="http://schemas.openxmlformats.org/officeDocument/2006/relationships/image" Target="../media/image6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1259"/>
                </a:solidFill>
                <a:latin typeface="Arial"/>
                <a:ea typeface="宋体"/>
              </a:rPr>
              <a:t>国外炫幻商务</a:t>
            </a:r>
            <a:r>
              <a:rPr b="1" lang="en-US" sz="4000" spc="-1" strike="noStrike">
                <a:solidFill>
                  <a:srgbClr val="0d1259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d1259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040" y="2841840"/>
            <a:ext cx="7304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1259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1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fb7b7"/>
              </a:gs>
              <a:gs pos="50000">
                <a:srgbClr val="ffffff"/>
              </a:gs>
              <a:gs pos="100000">
                <a:srgbClr val="6fb7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fb7b7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fb7b7"/>
              </a:gs>
              <a:gs pos="50000">
                <a:srgbClr val="3c6363"/>
              </a:gs>
              <a:gs pos="100000">
                <a:srgbClr val="6fb7b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fb7b7">
                  <a:alpha val="0"/>
                </a:srgbClr>
              </a:gs>
              <a:gs pos="100000">
                <a:srgbClr val="4774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/>
              </a:gs>
              <a:gs pos="50000">
                <a:srgbClr val="ffffff"/>
              </a:gs>
              <a:gs pos="100000">
                <a:srgbClr val="dcca4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cca42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cca42"/>
              </a:gs>
              <a:gs pos="50000">
                <a:srgbClr val="776d24"/>
              </a:gs>
              <a:gs pos="100000">
                <a:srgbClr val="dcca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cca42">
                  <a:alpha val="0"/>
                </a:srgbClr>
              </a:gs>
              <a:gs pos="100000">
                <a:srgbClr val="8c802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60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3191d3"/>
              </a:gs>
              <a:gs pos="50000">
                <a:srgbClr val="ffffff"/>
              </a:gs>
              <a:gs pos="100000">
                <a:srgbClr val="3191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174362"/>
              </a:gs>
              <a:gs pos="100000">
                <a:srgbClr val="3191d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91d3"/>
              </a:gs>
              <a:gs pos="50000">
                <a:srgbClr val="1b4e72"/>
              </a:gs>
              <a:gs pos="100000">
                <a:srgbClr val="3191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91d3">
                  <a:alpha val="0"/>
                </a:srgbClr>
              </a:gs>
              <a:gs pos="100000">
                <a:srgbClr val="1f5c8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532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76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99960" y="64008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fb7b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fb7b7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d1259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04920" y="183816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6fb7b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00600" y="34383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1" name="Oval 35"/>
          <p:cNvSpPr/>
          <p:nvPr/>
        </p:nvSpPr>
        <p:spPr>
          <a:xfrm rot="20876400">
            <a:off x="3368520" y="4861080"/>
            <a:ext cx="143856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2" name="Oval 36"/>
          <p:cNvSpPr/>
          <p:nvPr/>
        </p:nvSpPr>
        <p:spPr>
          <a:xfrm>
            <a:off x="3300480" y="3641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3" name="Oval 37"/>
          <p:cNvSpPr/>
          <p:nvPr/>
        </p:nvSpPr>
        <p:spPr>
          <a:xfrm>
            <a:off x="3321000" y="365112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4" name="Oval 38"/>
          <p:cNvSpPr/>
          <p:nvPr/>
        </p:nvSpPr>
        <p:spPr>
          <a:xfrm>
            <a:off x="3338640" y="3666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5" name="Oval 39"/>
          <p:cNvSpPr/>
          <p:nvPr/>
        </p:nvSpPr>
        <p:spPr>
          <a:xfrm>
            <a:off x="3430440" y="37116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3718080" y="42688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7" name="Oval 41"/>
          <p:cNvSpPr/>
          <p:nvPr/>
        </p:nvSpPr>
        <p:spPr>
          <a:xfrm rot="20826600">
            <a:off x="1525680" y="425088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298" name="Group 42"/>
          <p:cNvGrpSpPr/>
          <p:nvPr/>
        </p:nvGrpSpPr>
        <p:grpSpPr>
          <a:xfrm>
            <a:off x="1449360" y="3260880"/>
            <a:ext cx="1371240" cy="1441080"/>
            <a:chOff x="1449360" y="3260880"/>
            <a:chExt cx="1371240" cy="1441080"/>
          </a:xfrm>
        </p:grpSpPr>
        <p:sp>
          <p:nvSpPr>
            <p:cNvPr id="299" name="Oval 43"/>
            <p:cNvSpPr/>
            <p:nvPr/>
          </p:nvSpPr>
          <p:spPr>
            <a:xfrm>
              <a:off x="1449360" y="32608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00" name="Oval 44"/>
            <p:cNvSpPr/>
            <p:nvPr/>
          </p:nvSpPr>
          <p:spPr>
            <a:xfrm>
              <a:off x="1467360" y="32691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01" name="Oval 45"/>
            <p:cNvSpPr/>
            <p:nvPr/>
          </p:nvSpPr>
          <p:spPr>
            <a:xfrm>
              <a:off x="1480320" y="32824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02" name="Oval 46"/>
            <p:cNvSpPr/>
            <p:nvPr/>
          </p:nvSpPr>
          <p:spPr>
            <a:xfrm>
              <a:off x="1551960" y="33192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03" name="Text Box 47"/>
            <p:cNvSpPr/>
            <p:nvPr/>
          </p:nvSpPr>
          <p:spPr>
            <a:xfrm>
              <a:off x="1729800" y="3767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304" name="Oval 48"/>
          <p:cNvSpPr/>
          <p:nvPr/>
        </p:nvSpPr>
        <p:spPr>
          <a:xfrm>
            <a:off x="1347840" y="24955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5" name="Oval 49"/>
          <p:cNvSpPr/>
          <p:nvPr/>
        </p:nvSpPr>
        <p:spPr>
          <a:xfrm>
            <a:off x="1424160" y="18892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6" name="Oval 50"/>
          <p:cNvSpPr/>
          <p:nvPr/>
        </p:nvSpPr>
        <p:spPr>
          <a:xfrm>
            <a:off x="1436760" y="1893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7" name="Oval 51"/>
          <p:cNvSpPr/>
          <p:nvPr/>
        </p:nvSpPr>
        <p:spPr>
          <a:xfrm>
            <a:off x="1447920" y="19051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8" name="Oval 52"/>
          <p:cNvSpPr/>
          <p:nvPr/>
        </p:nvSpPr>
        <p:spPr>
          <a:xfrm>
            <a:off x="1501920" y="1930320"/>
            <a:ext cx="84744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21080" y="22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0" name="Oval 54"/>
          <p:cNvSpPr/>
          <p:nvPr/>
        </p:nvSpPr>
        <p:spPr>
          <a:xfrm>
            <a:off x="2614680" y="1965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1" name="Oval 55"/>
          <p:cNvSpPr/>
          <p:nvPr/>
        </p:nvSpPr>
        <p:spPr>
          <a:xfrm>
            <a:off x="2736720" y="143208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2746440" y="1434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3" name="Oval 57"/>
          <p:cNvSpPr/>
          <p:nvPr/>
        </p:nvSpPr>
        <p:spPr>
          <a:xfrm>
            <a:off x="2752560" y="14414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4" name="Oval 58"/>
          <p:cNvSpPr/>
          <p:nvPr/>
        </p:nvSpPr>
        <p:spPr>
          <a:xfrm>
            <a:off x="2789280" y="1460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5" name="Text Box 59"/>
          <p:cNvSpPr/>
          <p:nvPr/>
        </p:nvSpPr>
        <p:spPr>
          <a:xfrm>
            <a:off x="2807280" y="1655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0e4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324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5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27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8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29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0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1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32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4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35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7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38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40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41" name="Oval 27"/>
            <p:cNvSpPr/>
            <p:nvPr/>
          </p:nvSpPr>
          <p:spPr>
            <a:xfrm>
              <a:off x="5349960" y="50356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fb7b7"/>
              </a:gs>
              <a:gs pos="50000">
                <a:srgbClr val="ffffff"/>
              </a:gs>
              <a:gs pos="100000">
                <a:srgbClr val="6fb7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5555"/>
              </a:gs>
              <a:gs pos="100000">
                <a:srgbClr val="6fb7b7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fb7b7"/>
              </a:gs>
              <a:gs pos="50000">
                <a:srgbClr val="3c6363"/>
              </a:gs>
              <a:gs pos="100000">
                <a:srgbClr val="6fb7b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fb7b7">
                  <a:alpha val="0"/>
                </a:srgbClr>
              </a:gs>
              <a:gs pos="100000">
                <a:srgbClr val="4774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346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87352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88288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066680" y="1679400"/>
            <a:ext cx="2170080" cy="4035600"/>
            <a:chOff x="1066680" y="1679400"/>
            <a:chExt cx="2170080" cy="4035600"/>
          </a:xfrm>
        </p:grpSpPr>
        <p:sp>
          <p:nvSpPr>
            <p:cNvPr id="361" name="AutoShape 4"/>
            <p:cNvSpPr/>
            <p:nvPr/>
          </p:nvSpPr>
          <p:spPr>
            <a:xfrm>
              <a:off x="106668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10016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11744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11744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073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1174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811160" y="1679400"/>
              <a:ext cx="642960" cy="642960"/>
              <a:chOff x="1811160" y="1679400"/>
              <a:chExt cx="642960" cy="64296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81116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81764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82556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83204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186588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195120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1430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429000" y="1679400"/>
            <a:ext cx="2166840" cy="4035600"/>
            <a:chOff x="3429000" y="1679400"/>
            <a:chExt cx="2166840" cy="4035600"/>
          </a:xfrm>
        </p:grpSpPr>
        <p:sp>
          <p:nvSpPr>
            <p:cNvPr id="376" name="AutoShape 19"/>
            <p:cNvSpPr/>
            <p:nvPr/>
          </p:nvSpPr>
          <p:spPr>
            <a:xfrm>
              <a:off x="3429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46248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479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479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17348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179960" y="16840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187880" y="16873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194000" y="16938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229280" y="17096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313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50532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43224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47652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784840" y="1679400"/>
            <a:ext cx="2170080" cy="4035600"/>
            <a:chOff x="5784840" y="1679400"/>
            <a:chExt cx="2170080" cy="4035600"/>
          </a:xfrm>
        </p:grpSpPr>
        <p:sp>
          <p:nvSpPr>
            <p:cNvPr id="390" name="AutoShape 33"/>
            <p:cNvSpPr/>
            <p:nvPr/>
          </p:nvSpPr>
          <p:spPr>
            <a:xfrm>
              <a:off x="579132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82444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84208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84208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535800" y="1679400"/>
              <a:ext cx="642960" cy="642960"/>
              <a:chOff x="6535800" y="1679400"/>
              <a:chExt cx="642960" cy="64296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53580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54228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55020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55668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59052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675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586728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78484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82912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407" name="Group 5"/>
          <p:cNvGrpSpPr/>
          <p:nvPr/>
        </p:nvGrpSpPr>
        <p:grpSpPr>
          <a:xfrm>
            <a:off x="4906080" y="2985480"/>
            <a:ext cx="1703880" cy="2679120"/>
            <a:chOff x="4906080" y="2985480"/>
            <a:chExt cx="1703880" cy="2679120"/>
          </a:xfrm>
        </p:grpSpPr>
        <p:grpSp>
          <p:nvGrpSpPr>
            <p:cNvPr id="408" name="Group 6"/>
            <p:cNvGrpSpPr/>
            <p:nvPr/>
          </p:nvGrpSpPr>
          <p:grpSpPr>
            <a:xfrm>
              <a:off x="4906080" y="3164040"/>
              <a:ext cx="1577160" cy="2500560"/>
              <a:chOff x="4906080" y="3164040"/>
              <a:chExt cx="1577160" cy="2500560"/>
            </a:xfrm>
          </p:grpSpPr>
          <p:sp>
            <p:nvSpPr>
              <p:cNvPr id="409" name="Freeform 7"/>
              <p:cNvSpPr/>
              <p:nvPr/>
            </p:nvSpPr>
            <p:spPr>
              <a:xfrm rot="3876600">
                <a:off x="444276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10" name="Freeform 8"/>
              <p:cNvSpPr/>
              <p:nvPr/>
            </p:nvSpPr>
            <p:spPr>
              <a:xfrm rot="3876600">
                <a:off x="5947560" y="5103720"/>
                <a:ext cx="393480" cy="4564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12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13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5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6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7" name="Oval 15"/>
            <p:cNvSpPr/>
            <p:nvPr/>
          </p:nvSpPr>
          <p:spPr>
            <a:xfrm>
              <a:off x="4522680" y="21571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8" name="Oval 16"/>
            <p:cNvSpPr/>
            <p:nvPr/>
          </p:nvSpPr>
          <p:spPr>
            <a:xfrm>
              <a:off x="4522680" y="21603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9" name="Oval 17"/>
            <p:cNvSpPr/>
            <p:nvPr/>
          </p:nvSpPr>
          <p:spPr>
            <a:xfrm>
              <a:off x="4584600" y="22208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420" name="Group 18"/>
            <p:cNvGrpSpPr/>
            <p:nvPr/>
          </p:nvGrpSpPr>
          <p:grpSpPr>
            <a:xfrm>
              <a:off x="4601880" y="2238120"/>
              <a:ext cx="1090440" cy="1091880"/>
              <a:chOff x="4601880" y="2238120"/>
              <a:chExt cx="1090440" cy="1091880"/>
            </a:xfrm>
          </p:grpSpPr>
          <p:sp>
            <p:nvSpPr>
              <p:cNvPr id="421" name="Oval 19"/>
              <p:cNvSpPr/>
              <p:nvPr/>
            </p:nvSpPr>
            <p:spPr>
              <a:xfrm>
                <a:off x="4601880" y="22381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2" name="Oval 20"/>
              <p:cNvSpPr/>
              <p:nvPr/>
            </p:nvSpPr>
            <p:spPr>
              <a:xfrm>
                <a:off x="4615560" y="22442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3" name="Oval 21"/>
              <p:cNvSpPr/>
              <p:nvPr/>
            </p:nvSpPr>
            <p:spPr>
              <a:xfrm>
                <a:off x="4627080" y="22546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4" name="Oval 22"/>
              <p:cNvSpPr/>
              <p:nvPr/>
            </p:nvSpPr>
            <p:spPr>
              <a:xfrm>
                <a:off x="4686120" y="22824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Group 23"/>
          <p:cNvGrpSpPr/>
          <p:nvPr/>
        </p:nvGrpSpPr>
        <p:grpSpPr>
          <a:xfrm>
            <a:off x="7138080" y="3058560"/>
            <a:ext cx="1703880" cy="2679120"/>
            <a:chOff x="7138080" y="3058560"/>
            <a:chExt cx="1703880" cy="2679120"/>
          </a:xfrm>
        </p:grpSpPr>
        <p:grpSp>
          <p:nvGrpSpPr>
            <p:cNvPr id="426" name="Group 24"/>
            <p:cNvGrpSpPr/>
            <p:nvPr/>
          </p:nvGrpSpPr>
          <p:grpSpPr>
            <a:xfrm>
              <a:off x="7138080" y="3237120"/>
              <a:ext cx="1577160" cy="2500560"/>
              <a:chOff x="7138080" y="3237120"/>
              <a:chExt cx="1577160" cy="2500560"/>
            </a:xfrm>
          </p:grpSpPr>
          <p:sp>
            <p:nvSpPr>
              <p:cNvPr id="427" name="Freeform 25"/>
              <p:cNvSpPr/>
              <p:nvPr/>
            </p:nvSpPr>
            <p:spPr>
              <a:xfrm rot="3876600">
                <a:off x="6674760" y="4208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8" name="Freeform 26"/>
              <p:cNvSpPr/>
              <p:nvPr/>
            </p:nvSpPr>
            <p:spPr>
              <a:xfrm rot="3876600">
                <a:off x="8179560" y="5176800"/>
                <a:ext cx="393480" cy="4564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30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31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3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4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5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6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437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8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39" name="Oval 37"/>
            <p:cNvSpPr/>
            <p:nvPr/>
          </p:nvSpPr>
          <p:spPr>
            <a:xfrm>
              <a:off x="6669720" y="21218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40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41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442" name="Group 40"/>
          <p:cNvGrpSpPr/>
          <p:nvPr/>
        </p:nvGrpSpPr>
        <p:grpSpPr>
          <a:xfrm>
            <a:off x="2858760" y="2985120"/>
            <a:ext cx="1703880" cy="2679480"/>
            <a:chOff x="2858760" y="2985120"/>
            <a:chExt cx="1703880" cy="2679480"/>
          </a:xfrm>
        </p:grpSpPr>
        <p:grpSp>
          <p:nvGrpSpPr>
            <p:cNvPr id="443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44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45" name="Freeform 43"/>
              <p:cNvSpPr/>
              <p:nvPr/>
            </p:nvSpPr>
            <p:spPr>
              <a:xfrm rot="3876600">
                <a:off x="3900240" y="5103720"/>
                <a:ext cx="393480" cy="4564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44"/>
            <p:cNvGrpSpPr/>
            <p:nvPr/>
          </p:nvGrpSpPr>
          <p:grpSpPr>
            <a:xfrm>
              <a:off x="3352680" y="2985120"/>
              <a:ext cx="1209960" cy="1918800"/>
              <a:chOff x="3352680" y="2985120"/>
              <a:chExt cx="1209960" cy="1918800"/>
            </a:xfrm>
          </p:grpSpPr>
          <p:sp>
            <p:nvSpPr>
              <p:cNvPr id="447" name="Freeform 45"/>
              <p:cNvSpPr/>
              <p:nvPr/>
            </p:nvSpPr>
            <p:spPr>
              <a:xfrm flipV="1" rot="3876600">
                <a:off x="2997000" y="373068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48" name="Freeform 46"/>
              <p:cNvSpPr/>
              <p:nvPr/>
            </p:nvSpPr>
            <p:spPr>
              <a:xfrm flipV="1" rot="3876600">
                <a:off x="4134240" y="448164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Group 47"/>
          <p:cNvGrpSpPr/>
          <p:nvPr/>
        </p:nvGrpSpPr>
        <p:grpSpPr>
          <a:xfrm>
            <a:off x="2379600" y="2063880"/>
            <a:ext cx="1440000" cy="1439640"/>
            <a:chOff x="2379600" y="2063880"/>
            <a:chExt cx="1440000" cy="1439640"/>
          </a:xfrm>
        </p:grpSpPr>
        <p:sp>
          <p:nvSpPr>
            <p:cNvPr id="450" name="Oval 48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51" name="Oval 49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52" name="Oval 50"/>
            <p:cNvSpPr/>
            <p:nvPr/>
          </p:nvSpPr>
          <p:spPr>
            <a:xfrm>
              <a:off x="247500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53" name="Oval 51"/>
            <p:cNvSpPr/>
            <p:nvPr/>
          </p:nvSpPr>
          <p:spPr>
            <a:xfrm>
              <a:off x="247500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54" name="Oval 52"/>
            <p:cNvSpPr/>
            <p:nvPr/>
          </p:nvSpPr>
          <p:spPr>
            <a:xfrm>
              <a:off x="253692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455" name="Group 53"/>
            <p:cNvGrpSpPr/>
            <p:nvPr/>
          </p:nvGrpSpPr>
          <p:grpSpPr>
            <a:xfrm>
              <a:off x="2554200" y="2238120"/>
              <a:ext cx="1090800" cy="1091880"/>
              <a:chOff x="2554200" y="2238120"/>
              <a:chExt cx="1090800" cy="1091880"/>
            </a:xfrm>
          </p:grpSpPr>
          <p:sp>
            <p:nvSpPr>
              <p:cNvPr id="456" name="Oval 54"/>
              <p:cNvSpPr/>
              <p:nvPr/>
            </p:nvSpPr>
            <p:spPr>
              <a:xfrm>
                <a:off x="255420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57" name="Oval 55"/>
              <p:cNvSpPr/>
              <p:nvPr/>
            </p:nvSpPr>
            <p:spPr>
              <a:xfrm>
                <a:off x="256788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58" name="Oval 56"/>
              <p:cNvSpPr/>
              <p:nvPr/>
            </p:nvSpPr>
            <p:spPr>
              <a:xfrm>
                <a:off x="257940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59" name="Oval 57"/>
              <p:cNvSpPr/>
              <p:nvPr/>
            </p:nvSpPr>
            <p:spPr>
              <a:xfrm>
                <a:off x="263844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58"/>
          <p:cNvGrpSpPr/>
          <p:nvPr/>
        </p:nvGrpSpPr>
        <p:grpSpPr>
          <a:xfrm>
            <a:off x="875880" y="2985120"/>
            <a:ext cx="1703880" cy="2679480"/>
            <a:chOff x="875880" y="2985120"/>
            <a:chExt cx="1703880" cy="2679480"/>
          </a:xfrm>
        </p:grpSpPr>
        <p:grpSp>
          <p:nvGrpSpPr>
            <p:cNvPr id="461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62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63" name="Freeform 61"/>
              <p:cNvSpPr/>
              <p:nvPr/>
            </p:nvSpPr>
            <p:spPr>
              <a:xfrm rot="3876600">
                <a:off x="1917360" y="5103720"/>
                <a:ext cx="393480" cy="4564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62"/>
            <p:cNvGrpSpPr/>
            <p:nvPr/>
          </p:nvGrpSpPr>
          <p:grpSpPr>
            <a:xfrm>
              <a:off x="1369800" y="2985120"/>
              <a:ext cx="1209960" cy="1918800"/>
              <a:chOff x="1369800" y="2985120"/>
              <a:chExt cx="1209960" cy="1918800"/>
            </a:xfrm>
          </p:grpSpPr>
          <p:sp>
            <p:nvSpPr>
              <p:cNvPr id="465" name="Freeform 63"/>
              <p:cNvSpPr/>
              <p:nvPr/>
            </p:nvSpPr>
            <p:spPr>
              <a:xfrm flipV="1" rot="3876600">
                <a:off x="1014120" y="373068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66" name="Freeform 64"/>
              <p:cNvSpPr/>
              <p:nvPr/>
            </p:nvSpPr>
            <p:spPr>
              <a:xfrm flipV="1" rot="3876600">
                <a:off x="2151360" y="448164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Group 65"/>
          <p:cNvGrpSpPr/>
          <p:nvPr/>
        </p:nvGrpSpPr>
        <p:grpSpPr>
          <a:xfrm>
            <a:off x="396720" y="2063880"/>
            <a:ext cx="1440000" cy="1439640"/>
            <a:chOff x="396720" y="2063880"/>
            <a:chExt cx="1440000" cy="1439640"/>
          </a:xfrm>
        </p:grpSpPr>
        <p:sp>
          <p:nvSpPr>
            <p:cNvPr id="468" name="Oval 66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69" name="Oval 67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70" name="Oval 68"/>
            <p:cNvSpPr/>
            <p:nvPr/>
          </p:nvSpPr>
          <p:spPr>
            <a:xfrm>
              <a:off x="49212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71" name="Oval 69"/>
            <p:cNvSpPr/>
            <p:nvPr/>
          </p:nvSpPr>
          <p:spPr>
            <a:xfrm>
              <a:off x="49212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72" name="Oval 70"/>
            <p:cNvSpPr/>
            <p:nvPr/>
          </p:nvSpPr>
          <p:spPr>
            <a:xfrm>
              <a:off x="55404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473" name="Group 71"/>
            <p:cNvGrpSpPr/>
            <p:nvPr/>
          </p:nvGrpSpPr>
          <p:grpSpPr>
            <a:xfrm>
              <a:off x="571320" y="2238120"/>
              <a:ext cx="1090800" cy="1091880"/>
              <a:chOff x="571320" y="2238120"/>
              <a:chExt cx="1090800" cy="1091880"/>
            </a:xfrm>
          </p:grpSpPr>
          <p:sp>
            <p:nvSpPr>
              <p:cNvPr id="474" name="Oval 72"/>
              <p:cNvSpPr/>
              <p:nvPr/>
            </p:nvSpPr>
            <p:spPr>
              <a:xfrm>
                <a:off x="57132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75" name="Oval 73"/>
              <p:cNvSpPr/>
              <p:nvPr/>
            </p:nvSpPr>
            <p:spPr>
              <a:xfrm>
                <a:off x="58500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76" name="Oval 74"/>
              <p:cNvSpPr/>
              <p:nvPr/>
            </p:nvSpPr>
            <p:spPr>
              <a:xfrm>
                <a:off x="59652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77" name="Oval 75"/>
              <p:cNvSpPr/>
              <p:nvPr/>
            </p:nvSpPr>
            <p:spPr>
              <a:xfrm>
                <a:off x="65556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79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0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1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2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3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4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5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6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7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8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9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1259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cxnSp>
        <p:nvCxnSpPr>
          <p:cNvPr id="490" name="AutoShape 88"/>
          <p:cNvCxnSpPr>
            <a:stCxn id="486" idx="3"/>
            <a:endCxn id="487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0d1259"/>
            </a:solidFill>
            <a:miter/>
            <a:tailEnd len="med" type="triangle" w="med"/>
          </a:ln>
        </p:spPr>
      </p:cxnSp>
      <p:cxnSp>
        <p:nvCxnSpPr>
          <p:cNvPr id="491" name="AutoShape 89"/>
          <p:cNvCxnSpPr>
            <a:stCxn id="487" idx="3"/>
            <a:endCxn id="488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0d1259"/>
            </a:solidFill>
            <a:miter/>
            <a:tailEnd len="med" type="triangle" w="med"/>
          </a:ln>
        </p:spPr>
      </p:cxnSp>
      <p:cxnSp>
        <p:nvCxnSpPr>
          <p:cNvPr id="492" name="AutoShape 90"/>
          <p:cNvCxnSpPr>
            <a:stCxn id="488" idx="3"/>
            <a:endCxn id="489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0d125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c606d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5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5555"/>
              </a:gs>
              <a:gs pos="100000">
                <a:srgbClr val="6fb7b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6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74362"/>
              </a:gs>
              <a:gs pos="100000">
                <a:srgbClr val="3191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7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4362"/>
              </a:gs>
              <a:gs pos="100000">
                <a:srgbClr val="3191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8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555"/>
              </a:gs>
              <a:gs pos="100000">
                <a:srgbClr val="6fb7b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606d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03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04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1111680" y="1553400"/>
            <a:ext cx="6436800" cy="1388160"/>
            <a:chOff x="1111680" y="1553400"/>
            <a:chExt cx="6436800" cy="1388160"/>
          </a:xfrm>
        </p:grpSpPr>
        <p:sp>
          <p:nvSpPr>
            <p:cNvPr id="506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fb7b7"/>
                </a:gs>
                <a:gs pos="100000">
                  <a:srgbClr val="33555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507" name="Group 9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508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09" name="Rectangle 11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0" name="Oval 12"/>
              <p:cNvSpPr/>
              <p:nvPr/>
            </p:nvSpPr>
            <p:spPr>
              <a:xfrm>
                <a:off x="307728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1" name="Oval 13"/>
              <p:cNvSpPr/>
              <p:nvPr/>
            </p:nvSpPr>
            <p:spPr>
              <a:xfrm>
                <a:off x="315468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512" name="Rectangle 14"/>
            <p:cNvSpPr/>
            <p:nvPr/>
          </p:nvSpPr>
          <p:spPr>
            <a:xfrm rot="3418800">
              <a:off x="3040560" y="171216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513" name="Group 15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514" name="Oval 16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5" name="Rectangle 17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6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7" name="Oval 19"/>
              <p:cNvSpPr/>
              <p:nvPr/>
            </p:nvSpPr>
            <p:spPr>
              <a:xfrm>
                <a:off x="487368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0"/>
            <p:cNvSpPr/>
            <p:nvPr/>
          </p:nvSpPr>
          <p:spPr>
            <a:xfrm rot="3418800">
              <a:off x="4690440" y="171216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fb7b7"/>
                </a:gs>
                <a:gs pos="100000">
                  <a:srgbClr val="33555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519" name="Group 21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520" name="Oval 22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21" name="Rectangle 23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22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23" name="Oval 25"/>
              <p:cNvSpPr/>
              <p:nvPr/>
            </p:nvSpPr>
            <p:spPr>
              <a:xfrm>
                <a:off x="686124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6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525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7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8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9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30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31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32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654120" y="60958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fb7b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fb7b7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d1259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85800" y="162396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d1259"/>
                      </a:solidFill>
                    </a:lnR>
                    <a:lnT>
                      <a:noFill/>
                    </a:lnT>
                    <a:lnB w="5760">
                      <a:solidFill>
                        <a:srgbClr val="0d12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22"/>
          <p:cNvGrpSpPr/>
          <p:nvPr/>
        </p:nvGrpSpPr>
        <p:grpSpPr>
          <a:xfrm>
            <a:off x="1020960" y="1302840"/>
            <a:ext cx="6729120" cy="4675320"/>
            <a:chOff x="1020960" y="1302840"/>
            <a:chExt cx="6729120" cy="4675320"/>
          </a:xfrm>
        </p:grpSpPr>
        <p:sp>
          <p:nvSpPr>
            <p:cNvPr id="538" name="Oval 3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036680" y="2115720"/>
              <a:ext cx="2851200" cy="153828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442880" y="3428640"/>
              <a:ext cx="2876400" cy="1630080"/>
            </a:xfrm>
            <a:custGeom>
              <a:avLst/>
              <a:gdLst>
                <a:gd name="textAreaLeft" fmla="*/ 360 w 2876400"/>
                <a:gd name="textAreaRight" fmla="*/ 2877120 w 287640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3281400" y="184428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242720" y="249660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 rot="20601600">
              <a:off x="284976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6" name="Text Box 11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7" name="Text Box 12"/>
            <p:cNvSpPr/>
            <p:nvPr/>
          </p:nvSpPr>
          <p:spPr>
            <a:xfrm>
              <a:off x="407016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8" name="Text Box 13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9" name="Freeform 14"/>
            <p:cNvSpPr/>
            <p:nvPr/>
          </p:nvSpPr>
          <p:spPr>
            <a:xfrm>
              <a:off x="6172200" y="3051000"/>
              <a:ext cx="1295640" cy="171144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0" name="Arc 15"/>
            <p:cNvSpPr/>
            <p:nvPr/>
          </p:nvSpPr>
          <p:spPr>
            <a:xfrm rot="20539200">
              <a:off x="4570200" y="3057120"/>
              <a:ext cx="2984400" cy="1346040"/>
            </a:xfrm>
            <a:custGeom>
              <a:avLst/>
              <a:gdLst>
                <a:gd name="textAreaLeft" fmla="*/ 0 w 2984400"/>
                <a:gd name="textAreaRight" fmla="*/ 2984760 w 2984400"/>
                <a:gd name="textAreaTop" fmla="*/ 0 h 1346040"/>
                <a:gd name="textAreaBottom" fmla="*/ 1346400 h 134604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1" name="Freeform 16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4" name="Text Box 19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6" name="Freeform 21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4aa2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39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48164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802a"/>
                </a:gs>
                <a:gs pos="100000">
                  <a:srgbClr val="dcca42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0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09330"/>
                </a:gs>
                <a:gs pos="100000">
                  <a:srgbClr val="dcca4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24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481640"/>
              <a:ext cx="1544760" cy="154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f5c86"/>
                </a:gs>
                <a:gs pos="100000">
                  <a:srgbClr val="3191d3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46999"/>
                </a:gs>
                <a:gs pos="100000">
                  <a:srgbClr val="3191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44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481640"/>
              <a:ext cx="154440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51800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477474"/>
                </a:gs>
                <a:gs pos="100000">
                  <a:srgbClr val="6fb7b7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52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518585"/>
                </a:gs>
                <a:gs pos="100000">
                  <a:srgbClr val="6fb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872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3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48164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80b39"/>
                </a:gs>
                <a:gs pos="100000">
                  <a:srgbClr val="0d1259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2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90d41"/>
                </a:gs>
                <a:gs pos="100000">
                  <a:srgbClr val="0d125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48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b7b7"/>
                </a:gs>
                <a:gs pos="100000">
                  <a:srgbClr val="335555"/>
                </a:gs>
              </a:gsLst>
              <a:lin ang="81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2120" cy="665280"/>
            <a:chOff x="1828800" y="2666880"/>
            <a:chExt cx="76212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91d3"/>
                </a:gs>
                <a:gs pos="100000">
                  <a:srgbClr val="174362"/>
                </a:gs>
              </a:gsLst>
              <a:lin ang="81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67012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67012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6fb7b7"/>
                </a:gs>
                <a:gs pos="100000">
                  <a:srgbClr val="335555"/>
                </a:gs>
              </a:gsLst>
              <a:lin ang="81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2120" cy="664920"/>
            <a:chOff x="1828800" y="4473720"/>
            <a:chExt cx="76212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3191d3"/>
                </a:gs>
                <a:gs pos="100000">
                  <a:srgbClr val="174362"/>
                </a:gs>
              </a:gsLst>
              <a:lin ang="81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267012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267012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125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670-2688-464B-9C29-EEBA4DAD4D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3"/>
          <p:cNvSpPr txBox="1"/>
          <p:nvPr/>
        </p:nvSpPr>
        <p:spPr>
          <a:xfrm>
            <a:off x="2176560" y="3483000"/>
            <a:ext cx="472428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d1259"/>
                    </a:gs>
                    <a:gs pos="100000">
                      <a:srgbClr val="3191d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d1259"/>
                  </a:gs>
                  <a:gs pos="100000">
                    <a:srgbClr val="3191d3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523880" y="51814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www.themegallery.com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914040" y="2841840"/>
            <a:ext cx="7304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a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1259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191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e4aa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dcf1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dcf1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65959"/>
                  </a:gs>
                  <a:gs pos="100000">
                    <a:srgbClr val="6fb7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fb7b7"/>
                  </a:gs>
                  <a:gs pos="100000">
                    <a:srgbClr val="bfdf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91d3"/>
                </a:gs>
                <a:gs pos="100000">
                  <a:srgbClr val="1743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7d9f0"/>
                </a:gs>
                <a:gs pos="100000">
                  <a:srgbClr val="3191d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191d3">
                    <a:alpha val="48235"/>
                  </a:srgbClr>
                </a:gs>
                <a:gs pos="100000">
                  <a:srgbClr val="2773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191d3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7150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cecec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fb7b7"/>
                </a:gs>
                <a:gs pos="100000">
                  <a:srgbClr val="26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191d3"/>
                </a:gs>
                <a:gs pos="100000">
                  <a:srgbClr val="0f2d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d1259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d1259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d1259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6fb7b7"/>
              </a:gs>
              <a:gs pos="50000">
                <a:srgbClr val="335555"/>
              </a:gs>
              <a:gs pos="100000">
                <a:srgbClr val="6fb7b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4bd41"/>
              </a:gs>
              <a:gs pos="50000">
                <a:srgbClr val="1f571e"/>
              </a:gs>
              <a:gs pos="100000">
                <a:srgbClr val="44bd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59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0b8db"/>
                </a:gs>
                <a:gs pos="100000">
                  <a:srgbClr val="0e4a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680" y="28116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0b8db"/>
                </a:gs>
                <a:gs pos="100000">
                  <a:srgbClr val="0e4aa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764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0b8db"/>
                </a:gs>
                <a:gs pos="100000">
                  <a:srgbClr val="0e4a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53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6840"/>
              <a:ext cx="227124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6fb7b7"/>
                </a:gs>
                <a:gs pos="50000">
                  <a:srgbClr val="ffffff"/>
                </a:gs>
                <a:gs pos="100000">
                  <a:srgbClr val="6fb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760" y="21636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6fb7b7"/>
                </a:gs>
                <a:gs pos="50000">
                  <a:srgbClr val="3c6363"/>
                </a:gs>
                <a:gs pos="100000">
                  <a:srgbClr val="6fb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760" y="21636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cca42"/>
              </a:gs>
              <a:gs pos="50000">
                <a:srgbClr val="665d1f"/>
              </a:gs>
              <a:gs pos="100000">
                <a:srgbClr val="dcca4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cca42"/>
              </a:gs>
              <a:gs pos="50000">
                <a:srgbClr val="665d1f"/>
              </a:gs>
              <a:gs pos="100000">
                <a:srgbClr val="dcca4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cca42"/>
              </a:gs>
              <a:gs pos="50000">
                <a:srgbClr val="665d1f"/>
              </a:gs>
              <a:gs pos="100000">
                <a:srgbClr val="dcca4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67676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>
                <a:gd name="textAreaLeft" fmla="*/ 0 w 3560040"/>
                <a:gd name="textAreaRight" fmla="*/ 3560400 w 356004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975600"/>
                <a:gd name="textAreaBottom" fmla="*/ 975960 h 97560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>
                <a:gd name="textAreaLeft" fmla="*/ 0 w 3827520"/>
                <a:gd name="textAreaRight" fmla="*/ 3827880 w 38275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>
                <a:gd name="textAreaLeft" fmla="*/ 0 w 614880"/>
                <a:gd name="textAreaRight" fmla="*/ 615240 w 6148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>
                <a:gd name="textAreaLeft" fmla="*/ 0 w 4346640"/>
                <a:gd name="textAreaRight" fmla="*/ 4347000 w 43466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>
                <a:gd name="textAreaLeft" fmla="*/ 0 w 1957320"/>
                <a:gd name="textAreaRight" fmla="*/ 1957680 w 1957320"/>
                <a:gd name="textAreaTop" fmla="*/ 0 h 3156480"/>
                <a:gd name="textAreaBottom" fmla="*/ 3156840 h 31564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>
                <a:gd name="textAreaLeft" fmla="*/ 0 w 4083480"/>
                <a:gd name="textAreaRight" fmla="*/ 4083840 w 40834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600200"/>
            <a:ext cx="6095880" cy="4495680"/>
          </a:xfrm>
          <a:prstGeom prst="rightArrow">
            <a:avLst>
              <a:gd name="adj1" fmla="val 79306"/>
              <a:gd name="adj2" fmla="val 33585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5335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5335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5335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86728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 http://www.eeppt.com</dc:creator>
  <dc:description/>
  <cp:keywords>幻灯片 http:/www.eeppt.com</cp:keywords>
  <dc:language>en-US</dc:language>
  <cp:lastModifiedBy/>
  <dcterms:modified xsi:type="dcterms:W3CDTF">2015-08-12T03:47:5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