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D24-4EDE-4114-91B4-5FBFD4BF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18C-8A20-4154-9B4E-B8EBED38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214-8572-4EE3-AF05-ACC9B8E7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112-3253-4EA5-9000-2FEA636E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9CD-72A9-4F42-B637-CDF6BC84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D16-2270-4339-811F-0DFC2DF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57E-CC3E-4911-BACD-1F96B91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E26-2F0F-49D0-A097-9BAF871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91A-64B5-4CA8-81B4-4DABF938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291-707E-4198-8241-F24AF1A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515-1E3B-4017-847F-112A5B4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B72-BE4A-4839-962E-5BF7BBD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717F-DD4B-4DA0-AB5C-7A9153888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rcRect l="2356" t="0" r="0" b="0"/>
          <a:stretch/>
        </p:blipFill>
        <p:spPr>
          <a:xfrm>
            <a:off x="6019920" y="457200"/>
            <a:ext cx="2162160" cy="1928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7144200" y="3095640"/>
            <a:ext cx="34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1511280" y="135576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52480" y="1143000"/>
            <a:ext cx="2362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添加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1511280" y="1714680"/>
            <a:ext cx="6337440" cy="72720"/>
            <a:chOff x="1511280" y="1714680"/>
            <a:chExt cx="6337440" cy="72720"/>
          </a:xfrm>
        </p:grpSpPr>
        <p:sp>
          <p:nvSpPr>
            <p:cNvPr id="47" name="Line 7"/>
            <p:cNvSpPr/>
            <p:nvPr/>
          </p:nvSpPr>
          <p:spPr>
            <a:xfrm>
              <a:off x="1511280" y="1714680"/>
              <a:ext cx="63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8"/>
            <p:cNvSpPr/>
            <p:nvPr/>
          </p:nvSpPr>
          <p:spPr>
            <a:xfrm>
              <a:off x="1511280" y="1787400"/>
              <a:ext cx="633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9"/>
          <p:cNvSpPr/>
          <p:nvPr/>
        </p:nvSpPr>
        <p:spPr>
          <a:xfrm>
            <a:off x="2701080" y="193032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文字文字文字文字文字文字文字文字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文字文字文字文字文字文字文字文字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文字文字文字文字文字文字文字文字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文字文字文字文字文字文字文字文字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523880" y="533520"/>
            <a:ext cx="1676520" cy="40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solidFill>
                    <a:srgbClr val="ffffff"/>
                  </a:solidFill>
                </a:ln>
                <a:solidFill>
                  <a:srgbClr val="ff0000">
                    <a:alpha val="83000"/>
                  </a:srgbClr>
                </a:soli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黑体"/>
              </a:rPr>
              <a:t>页面标题</a:t>
            </a:r>
            <a:endParaRPr b="1" lang="en-US" sz="3200" spc="-1" strike="noStrike">
              <a:ln w="0">
                <a:solidFill>
                  <a:srgbClr val="ffffff"/>
                </a:solidFill>
              </a:ln>
              <a:solidFill>
                <a:srgbClr val="ff0000">
                  <a:alpha val="83000"/>
                </a:srgbClr>
              </a:soli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1" name="Picture 11" descr="白色星光"/>
          <p:cNvPicPr/>
          <p:nvPr/>
        </p:nvPicPr>
        <p:blipFill>
          <a:blip r:embed="rId2"/>
          <a:stretch/>
        </p:blipFill>
        <p:spPr>
          <a:xfrm>
            <a:off x="1295280" y="4235400"/>
            <a:ext cx="16509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DD9-7406-45CA-A382-1032EA4B5C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209680" y="213372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39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宋体"/>
              </a:rPr>
              <a:t>谢谢观赏</a:t>
            </a:r>
            <a:endParaRPr b="1" lang="en-US" sz="3200" spc="1" strike="noStrike">
              <a:ln w="39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1:56:00Z</dcterms:created>
  <dc:creator>幻灯片 http://www.eeppt.com</dc:creator>
  <dc:description/>
  <cp:keywords>幻灯片 http:/www.eeppt.com</cp:keywords>
  <dc:language>en-US</dc:language>
  <cp:lastModifiedBy/>
  <dcterms:modified xsi:type="dcterms:W3CDTF">2015-08-12T03:48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