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093-3A19-417A-AA05-AEDB22A6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81C-21F8-446A-96DD-83C1993E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AD1-6A85-4CC1-8003-3E4D6BC4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D75-AD22-4C21-A6CC-462C684C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008-7696-48C9-BBAE-22863B7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A38-D44C-481E-9A2A-F8AF8520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52-C44A-44BF-9AA4-DFF7CA37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C7D-EF2B-448E-B9AE-D994BF0A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69F-6131-4E2D-98DF-488A95B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83C-D1AA-4C51-BA1A-E98272F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230-11E3-4AA6-A577-2E38873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976-FC4A-4479-9BF5-A815FC2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A0C3-F1D7-4767-AA3E-349F9974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2086200" y="1143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荷花与舟古典中国风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Arial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Arial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38080" y="64008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3F2-CC2E-4EC1-AC9F-0965F6878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3:48:06Z</dcterms:created>
  <dc:creator>幻灯片 http://www.eeppt.com</dc:creator>
  <dc:description/>
  <cp:keywords>幻灯片 http:/www.eeppt.com</cp:keywords>
  <dc:language>en-US</dc:language>
  <cp:lastModifiedBy/>
  <dcterms:modified xsi:type="dcterms:W3CDTF">2015-08-12T03:48:0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