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8F9-D4A1-4012-91C9-86954ED1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BA1-2038-44C7-8C50-BD7A6728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759-2367-40B4-BC58-6B5DAA0D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030-938C-4CB0-B8E5-83B51FC3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31F-F914-4778-83E1-FED6EDB3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468-440E-4554-AEEE-9583A0E6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7E0-E228-45BE-B63A-CDDB3FA5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D04-182D-4834-A04D-534A73C6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EF9-4DB9-4C14-97F9-C6FF0D9D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8BB-3EE5-4AFE-B8FF-B139C790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889-530C-4EA5-B73E-985A83C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C2E-9C86-4E25-A246-F6706E4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C19655-B6D2-4409-98D6-7807FBE8D6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未命名-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2" name="矩形 1"/>
          <p:cNvSpPr/>
          <p:nvPr/>
        </p:nvSpPr>
        <p:spPr>
          <a:xfrm>
            <a:off x="2137320" y="155664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红色商务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未命名-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未命名-5副本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14</Words>
  <Paragraphs>2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5:01:16Z</dcterms:created>
  <dc:creator>雨林木风</dc:creator>
  <dc:description/>
  <dc:language>en-US</dc:language>
  <cp:lastModifiedBy>a</cp:lastModifiedBy>
  <dcterms:modified xsi:type="dcterms:W3CDTF">2015-07-26T02:58:19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