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075B-AEB9-4EC9-AB48-7ED5FB41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92F7-7E2A-4BD5-86B7-57431398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B11-86EF-40EB-BF02-D445F2BD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FE54-F2D5-4B06-AD91-63F0904E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1B22-E927-46BD-A35D-1D25AF4C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3D2C-97EB-483F-BB9F-30E41CB8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37FF-7BD7-4342-86A6-B8BABB91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3471-306B-4A35-8BB7-0ACE3E85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3271-2CD6-4FA8-BF2F-06BB44A5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2109-D7FF-487F-9030-740D076E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BB96-D456-4E1C-978E-1E6C977C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6B8-2A05-46B8-A2B9-D43D3B28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1DD6-2B1C-4639-8ED4-2BED26DC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4880-59CA-49AA-B71A-C8CC94F4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8124-B65E-437C-8A94-6455F120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5F17-82DD-45BA-BFFD-69EC3883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A2CA-3845-4461-BFAF-133222D1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15C-18B1-43CE-AD3A-5BFC2066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EE1C-142C-4B29-B266-3DBC057A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217-0CD7-41B7-8812-B311F9E5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A1A0-D70F-428B-91A4-FDC4F026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30F5-966A-455D-95B1-486EFEE5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7772-971A-4821-9560-7C00D6CB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7972-3706-46BC-89F1-9D90AC1F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D2A4-65F3-4D74-843D-462519B5132D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42FD-C21B-4072-ADE9-1F873CAB223E}" type="slidenum"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-363600"/>
            <a:ext cx="76593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经典黄绿色简洁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66400"/>
            <a:ext cx="38098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Impact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7010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50920" y="6453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769-6B20-4AAD-BB4C-F2E6EF795875}" type="slidenum">
              <a:t>4</a:t>
            </a:fld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3352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7010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09:25:20Z</dcterms:created>
  <dc:creator>幻灯片 http://www.eeppt.com</dc:creator>
  <dc:description/>
  <cp:keywords>幻灯片 http:/www.eeppt.com</cp:keywords>
  <dc:language>en-US</dc:language>
  <cp:lastModifiedBy/>
  <dcterms:modified xsi:type="dcterms:W3CDTF">2015-08-12T03:48:3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