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wmf" ContentType="image/x-wmf"/>
  <Override PartName="/ppt/media/image9.png" ContentType="image/pn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EFDA-1DA8-4669-B2C7-8CAA3AD97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6289-B05C-4F30-85EE-D74EBEC0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6704-5764-4A8B-AA81-F48C983BC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5802-1906-4D49-998B-66ED9148F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EC50-2FB4-4390-820B-300800EC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FF6A-3C9D-4E87-BCF7-93DC9AC8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AEAA-BAF7-4B78-8810-2D360E4B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78FE-9058-4270-B4B1-76E4803D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B78C-7C03-4289-A6CB-706F514C8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1A18-7CA4-4AC7-B099-8C3C238B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7860-3FF7-4D64-90F5-E72D762C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D031-AE4D-4E83-9500-B8006730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459C-2D52-4329-A79B-26BC4086286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4B54-D685-4350-8A0A-5A940F4CEC4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wmf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8.wmf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8.wmf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8.wmf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8.wmf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8.wmf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8.wmf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hyperlink" Target="http://www.eeppt.com" TargetMode="External"/><Relationship Id="rId8" Type="http://schemas.openxmlformats.org/officeDocument/2006/relationships/hyperlink" Target="http://www.eeppt.com" TargetMode="External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8.wmf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254160" y="2030400"/>
            <a:ext cx="9398160" cy="2316240"/>
            <a:chOff x="-254160" y="2030400"/>
            <a:chExt cx="9398160" cy="2316240"/>
          </a:xfrm>
        </p:grpSpPr>
        <p:sp>
          <p:nvSpPr>
            <p:cNvPr id="42" name="矩形 18"/>
            <p:cNvSpPr/>
            <p:nvPr/>
          </p:nvSpPr>
          <p:spPr>
            <a:xfrm>
              <a:off x="2160" y="2030400"/>
              <a:ext cx="9141840" cy="23162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矩形 20"/>
            <p:cNvSpPr/>
            <p:nvPr/>
          </p:nvSpPr>
          <p:spPr>
            <a:xfrm>
              <a:off x="1800" y="2204280"/>
              <a:ext cx="9141840" cy="1914480"/>
            </a:xfrm>
            <a:prstGeom prst="rect">
              <a:avLst/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-254160" y="2277000"/>
              <a:ext cx="9294840" cy="1845360"/>
              <a:chOff x="-254160" y="2277000"/>
              <a:chExt cx="9294840" cy="1845360"/>
            </a:xfrm>
          </p:grpSpPr>
          <p:pic>
            <p:nvPicPr>
              <p:cNvPr id="45" name="图片 8" descr=""/>
              <p:cNvPicPr/>
              <p:nvPr/>
            </p:nvPicPr>
            <p:blipFill>
              <a:blip r:embed="rId2"/>
              <a:stretch/>
            </p:blipFill>
            <p:spPr>
              <a:xfrm>
                <a:off x="4323600" y="2277000"/>
                <a:ext cx="4717080" cy="1828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图片 42" descr=""/>
              <p:cNvPicPr/>
              <p:nvPr/>
            </p:nvPicPr>
            <p:blipFill>
              <a:blip r:embed="rId3"/>
              <a:stretch/>
            </p:blipFill>
            <p:spPr>
              <a:xfrm>
                <a:off x="-254160" y="2293920"/>
                <a:ext cx="4717080" cy="1828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7" name="TextBox 21"/>
          <p:cNvSpPr/>
          <p:nvPr/>
        </p:nvSpPr>
        <p:spPr>
          <a:xfrm>
            <a:off x="4461840" y="2252520"/>
            <a:ext cx="345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经典中国风</a:t>
            </a:r>
            <a:r>
              <a:rPr b="0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直接连接符 27"/>
          <p:cNvSpPr/>
          <p:nvPr/>
        </p:nvSpPr>
        <p:spPr>
          <a:xfrm>
            <a:off x="3564000" y="2997360"/>
            <a:ext cx="442800" cy="0"/>
          </a:xfrm>
          <a:prstGeom prst="line">
            <a:avLst/>
          </a:prstGeom>
          <a:ln w="3492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直接连接符 28"/>
          <p:cNvSpPr/>
          <p:nvPr/>
        </p:nvSpPr>
        <p:spPr>
          <a:xfrm>
            <a:off x="8305920" y="3025800"/>
            <a:ext cx="442800" cy="0"/>
          </a:xfrm>
          <a:prstGeom prst="line">
            <a:avLst/>
          </a:prstGeom>
          <a:ln w="3492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4" descr=""/>
          <p:cNvPicPr/>
          <p:nvPr/>
        </p:nvPicPr>
        <p:blipFill>
          <a:blip r:embed="rId4"/>
          <a:stretch/>
        </p:blipFill>
        <p:spPr>
          <a:xfrm rot="6589800">
            <a:off x="803520" y="2016720"/>
            <a:ext cx="2433600" cy="2289240"/>
          </a:xfrm>
          <a:prstGeom prst="rect">
            <a:avLst/>
          </a:prstGeom>
          <a:ln w="0">
            <a:noFill/>
          </a:ln>
        </p:spPr>
      </p:pic>
      <p:pic>
        <p:nvPicPr>
          <p:cNvPr id="51" name="图片 36" descr=""/>
          <p:cNvPicPr/>
          <p:nvPr/>
        </p:nvPicPr>
        <p:blipFill>
          <a:blip r:embed="rId5">
            <a:biLevel thresh="50000"/>
          </a:blip>
          <a:stretch/>
        </p:blipFill>
        <p:spPr>
          <a:xfrm rot="9788400">
            <a:off x="4012560" y="2866680"/>
            <a:ext cx="274680" cy="260280"/>
          </a:xfrm>
          <a:prstGeom prst="rect">
            <a:avLst/>
          </a:prstGeom>
          <a:ln w="0">
            <a:noFill/>
          </a:ln>
        </p:spPr>
      </p:pic>
      <p:pic>
        <p:nvPicPr>
          <p:cNvPr id="52" name="图片 37" descr=""/>
          <p:cNvPicPr/>
          <p:nvPr/>
        </p:nvPicPr>
        <p:blipFill>
          <a:blip r:embed="rId6">
            <a:biLevel thresh="50000"/>
          </a:blip>
          <a:stretch/>
        </p:blipFill>
        <p:spPr>
          <a:xfrm rot="9788400">
            <a:off x="8081280" y="2892240"/>
            <a:ext cx="274680" cy="26028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" descr=""/>
          <p:cNvPicPr/>
          <p:nvPr/>
        </p:nvPicPr>
        <p:blipFill>
          <a:blip r:embed="rId7"/>
          <a:stretch/>
        </p:blipFill>
        <p:spPr>
          <a:xfrm>
            <a:off x="8604360" y="5846760"/>
            <a:ext cx="444240" cy="3906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31" descr=""/>
          <p:cNvPicPr/>
          <p:nvPr/>
        </p:nvPicPr>
        <p:blipFill>
          <a:blip r:embed="rId8"/>
          <a:stretch/>
        </p:blipFill>
        <p:spPr>
          <a:xfrm>
            <a:off x="519120" y="1536840"/>
            <a:ext cx="3116160" cy="3116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Documents and Settings\Administrator\My Documents\My Pictures\1659_51.wmf"/>
          <p:cNvPicPr/>
          <p:nvPr/>
        </p:nvPicPr>
        <p:blipFill>
          <a:blip r:embed="rId9"/>
          <a:stretch/>
        </p:blipFill>
        <p:spPr>
          <a:xfrm>
            <a:off x="993600" y="2241720"/>
            <a:ext cx="2325960" cy="1979280"/>
          </a:xfrm>
          <a:prstGeom prst="rect">
            <a:avLst/>
          </a:prstGeom>
          <a:ln w="0">
            <a:noFill/>
          </a:ln>
        </p:spPr>
      </p:pic>
      <p:pic>
        <p:nvPicPr>
          <p:cNvPr id="56" name="图片 34" descr=""/>
          <p:cNvPicPr/>
          <p:nvPr/>
        </p:nvPicPr>
        <p:blipFill>
          <a:blip r:embed="rId10">
            <a:grayscl/>
          </a:blip>
          <a:stretch/>
        </p:blipFill>
        <p:spPr>
          <a:xfrm>
            <a:off x="2219400" y="3782880"/>
            <a:ext cx="944640" cy="757440"/>
          </a:xfrm>
          <a:prstGeom prst="rect">
            <a:avLst/>
          </a:prstGeom>
          <a:ln w="0">
            <a:noFill/>
          </a:ln>
        </p:spPr>
      </p:pic>
      <p:pic>
        <p:nvPicPr>
          <p:cNvPr id="57" name="图片 35" descr=""/>
          <p:cNvPicPr/>
          <p:nvPr/>
        </p:nvPicPr>
        <p:blipFill>
          <a:blip r:embed="rId11">
            <a:grayscl/>
          </a:blip>
          <a:stretch/>
        </p:blipFill>
        <p:spPr>
          <a:xfrm>
            <a:off x="2852640" y="4010040"/>
            <a:ext cx="620640" cy="527040"/>
          </a:xfrm>
          <a:prstGeom prst="rect">
            <a:avLst/>
          </a:prstGeom>
          <a:ln w="0">
            <a:noFill/>
          </a:ln>
        </p:spPr>
      </p:pic>
      <p:sp>
        <p:nvSpPr>
          <p:cNvPr id="58" name="矩形 21"/>
          <p:cNvSpPr/>
          <p:nvPr/>
        </p:nvSpPr>
        <p:spPr>
          <a:xfrm>
            <a:off x="3240" y="153684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矩形 18"/>
          <p:cNvSpPr/>
          <p:nvPr/>
        </p:nvSpPr>
        <p:spPr>
          <a:xfrm>
            <a:off x="0" y="2030400"/>
            <a:ext cx="9144000" cy="23162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0"/>
          <p:cNvSpPr/>
          <p:nvPr/>
        </p:nvSpPr>
        <p:spPr>
          <a:xfrm>
            <a:off x="0" y="2203560"/>
            <a:ext cx="9144000" cy="1915920"/>
          </a:xfrm>
          <a:prstGeom prst="rect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直接连接符 27"/>
          <p:cNvSpPr/>
          <p:nvPr/>
        </p:nvSpPr>
        <p:spPr>
          <a:xfrm>
            <a:off x="2141640" y="3135240"/>
            <a:ext cx="1147680" cy="1800"/>
          </a:xfrm>
          <a:prstGeom prst="line">
            <a:avLst/>
          </a:prstGeom>
          <a:ln w="3492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28"/>
          <p:cNvSpPr/>
          <p:nvPr/>
        </p:nvSpPr>
        <p:spPr>
          <a:xfrm>
            <a:off x="5638680" y="3139920"/>
            <a:ext cx="1160640" cy="1800"/>
          </a:xfrm>
          <a:prstGeom prst="line">
            <a:avLst/>
          </a:prstGeom>
          <a:ln w="3492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图片 3" descr=""/>
          <p:cNvPicPr/>
          <p:nvPr/>
        </p:nvPicPr>
        <p:blipFill>
          <a:blip r:embed="rId2"/>
          <a:stretch/>
        </p:blipFill>
        <p:spPr>
          <a:xfrm>
            <a:off x="4510080" y="2708280"/>
            <a:ext cx="903240" cy="777960"/>
          </a:xfrm>
          <a:prstGeom prst="rect">
            <a:avLst/>
          </a:prstGeom>
          <a:ln w="0">
            <a:noFill/>
          </a:ln>
        </p:spPr>
      </p:pic>
      <p:pic>
        <p:nvPicPr>
          <p:cNvPr id="291" name="图片 51" descr=""/>
          <p:cNvPicPr/>
          <p:nvPr/>
        </p:nvPicPr>
        <p:blipFill>
          <a:blip r:embed="rId3"/>
          <a:stretch/>
        </p:blipFill>
        <p:spPr>
          <a:xfrm>
            <a:off x="3578400" y="2708280"/>
            <a:ext cx="903240" cy="777960"/>
          </a:xfrm>
          <a:prstGeom prst="rect">
            <a:avLst/>
          </a:prstGeom>
          <a:ln w="0">
            <a:noFill/>
          </a:ln>
        </p:spPr>
      </p:pic>
      <p:pic>
        <p:nvPicPr>
          <p:cNvPr id="292" name="图片 25" descr=""/>
          <p:cNvPicPr/>
          <p:nvPr/>
        </p:nvPicPr>
        <p:blipFill>
          <a:blip r:embed="rId4"/>
          <a:stretch/>
        </p:blipFill>
        <p:spPr>
          <a:xfrm>
            <a:off x="4321080" y="2247840"/>
            <a:ext cx="4718160" cy="182880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26" descr=""/>
          <p:cNvPicPr/>
          <p:nvPr/>
        </p:nvPicPr>
        <p:blipFill>
          <a:blip r:embed="rId5"/>
          <a:stretch/>
        </p:blipFill>
        <p:spPr>
          <a:xfrm>
            <a:off x="12600" y="2225520"/>
            <a:ext cx="4718160" cy="182880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32" descr=""/>
          <p:cNvPicPr/>
          <p:nvPr/>
        </p:nvPicPr>
        <p:blipFill>
          <a:blip r:embed="rId6"/>
          <a:stretch/>
        </p:blipFill>
        <p:spPr>
          <a:xfrm>
            <a:off x="8461440" y="5867280"/>
            <a:ext cx="44460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2124000" y="1969920"/>
            <a:ext cx="5364360" cy="538200"/>
            <a:chOff x="2124000" y="1969920"/>
            <a:chExt cx="5364360" cy="538200"/>
          </a:xfrm>
        </p:grpSpPr>
        <p:sp>
          <p:nvSpPr>
            <p:cNvPr id="61" name="圆角矩形 3"/>
            <p:cNvSpPr/>
            <p:nvPr/>
          </p:nvSpPr>
          <p:spPr>
            <a:xfrm>
              <a:off x="2124000" y="2202120"/>
              <a:ext cx="5364360" cy="306000"/>
            </a:xfrm>
            <a:prstGeom prst="roundRect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圆角矩形 4"/>
            <p:cNvSpPr/>
            <p:nvPr/>
          </p:nvSpPr>
          <p:spPr>
            <a:xfrm>
              <a:off x="2199240" y="1969920"/>
              <a:ext cx="5220720" cy="46476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5"/>
          <p:cNvGrpSpPr/>
          <p:nvPr/>
        </p:nvGrpSpPr>
        <p:grpSpPr>
          <a:xfrm>
            <a:off x="2124000" y="2762280"/>
            <a:ext cx="5364360" cy="539640"/>
            <a:chOff x="2124000" y="2762280"/>
            <a:chExt cx="5364360" cy="539640"/>
          </a:xfrm>
        </p:grpSpPr>
        <p:sp>
          <p:nvSpPr>
            <p:cNvPr id="64" name="圆角矩形 3"/>
            <p:cNvSpPr/>
            <p:nvPr/>
          </p:nvSpPr>
          <p:spPr>
            <a:xfrm>
              <a:off x="2124000" y="2995200"/>
              <a:ext cx="5364360" cy="306720"/>
            </a:xfrm>
            <a:prstGeom prst="roundRect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圆角矩形 4"/>
            <p:cNvSpPr/>
            <p:nvPr/>
          </p:nvSpPr>
          <p:spPr>
            <a:xfrm>
              <a:off x="2199240" y="2762280"/>
              <a:ext cx="5220720" cy="46584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2124000" y="3554280"/>
            <a:ext cx="5364360" cy="540000"/>
            <a:chOff x="2124000" y="3554280"/>
            <a:chExt cx="5364360" cy="540000"/>
          </a:xfrm>
        </p:grpSpPr>
        <p:sp>
          <p:nvSpPr>
            <p:cNvPr id="67" name="圆角矩形 3"/>
            <p:cNvSpPr/>
            <p:nvPr/>
          </p:nvSpPr>
          <p:spPr>
            <a:xfrm>
              <a:off x="2124000" y="3787200"/>
              <a:ext cx="5364360" cy="307080"/>
            </a:xfrm>
            <a:prstGeom prst="roundRect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圆角矩形 4"/>
            <p:cNvSpPr/>
            <p:nvPr/>
          </p:nvSpPr>
          <p:spPr>
            <a:xfrm>
              <a:off x="2199240" y="3554280"/>
              <a:ext cx="5220720" cy="46620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2124000" y="4346640"/>
            <a:ext cx="5364360" cy="539640"/>
            <a:chOff x="2124000" y="4346640"/>
            <a:chExt cx="5364360" cy="539640"/>
          </a:xfrm>
        </p:grpSpPr>
        <p:sp>
          <p:nvSpPr>
            <p:cNvPr id="70" name="圆角矩形 3"/>
            <p:cNvSpPr/>
            <p:nvPr/>
          </p:nvSpPr>
          <p:spPr>
            <a:xfrm>
              <a:off x="2124000" y="4579560"/>
              <a:ext cx="5364360" cy="306720"/>
            </a:xfrm>
            <a:prstGeom prst="roundRect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圆角矩形 4"/>
            <p:cNvSpPr/>
            <p:nvPr/>
          </p:nvSpPr>
          <p:spPr>
            <a:xfrm>
              <a:off x="2199240" y="4346640"/>
              <a:ext cx="5220720" cy="46584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14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73" name="Group 15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74" name="Group 16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75" name="椭圆 32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矩形 54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>
                    <a:gd name="textAreaLeft" fmla="*/ 0 w 9142200"/>
                    <a:gd name="textAreaRight" fmla="*/ 9142560 w 9142200"/>
                    <a:gd name="textAreaTop" fmla="*/ 360 h 979200"/>
                    <a:gd name="textAreaBottom" fmla="*/ 979920 h 979200"/>
                  </a:gdLst>
                  <a:ahLst/>
                  <a:rect l="textAreaLeft" t="textAreaTop" r="textAreaRight" b="textAreaBottom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椭圆 5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9" name="Group 21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80" name="图片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81" name="Picture 3" descr="C:\Documents and Settings\Administrator\My Documents\My Pictures\1659_51.wmf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82" name="Group 24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83" name="图片 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图片 4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" name="图片 47" descr=""/>
                <p:cNvPicPr/>
                <p:nvPr/>
              </p:nvPicPr>
              <p:blipFill>
                <a:blip r:embed="rId6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6" name="TextBox 61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目录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2030400" y="3284640"/>
            <a:ext cx="5365800" cy="539640"/>
            <a:chOff x="2030400" y="3284640"/>
            <a:chExt cx="5365800" cy="539640"/>
          </a:xfrm>
        </p:grpSpPr>
        <p:sp>
          <p:nvSpPr>
            <p:cNvPr id="88" name="圆角矩形 3"/>
            <p:cNvSpPr/>
            <p:nvPr/>
          </p:nvSpPr>
          <p:spPr>
            <a:xfrm>
              <a:off x="2030400" y="3517560"/>
              <a:ext cx="5365800" cy="306720"/>
            </a:xfrm>
            <a:prstGeom prst="roundRect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圆角矩形 4"/>
            <p:cNvSpPr/>
            <p:nvPr/>
          </p:nvSpPr>
          <p:spPr>
            <a:xfrm>
              <a:off x="2105640" y="3284640"/>
              <a:ext cx="5221800" cy="46584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5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91" name="Group 6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92" name="Group 7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93" name="椭圆 32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矩形 39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>
                    <a:gd name="textAreaLeft" fmla="*/ 0 w 9142200"/>
                    <a:gd name="textAreaRight" fmla="*/ 9142560 w 9142200"/>
                    <a:gd name="textAreaTop" fmla="*/ 360 h 979200"/>
                    <a:gd name="textAreaBottom" fmla="*/ 979920 h 979200"/>
                  </a:gdLst>
                  <a:ahLst/>
                  <a:rect l="textAreaLeft" t="textAreaTop" r="textAreaRight" b="textAreaBottom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椭圆 41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7" name="Group 12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98" name="图片 4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99" name="Picture 3" descr="C:\Documents and Settings\Administrator\My Documents\My Pictures\1659_51.wmf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100" name="Group 15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101" name="图片 2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" name="图片 2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" name="图片 31" descr=""/>
                <p:cNvPicPr/>
                <p:nvPr/>
              </p:nvPicPr>
              <p:blipFill>
                <a:blip r:embed="rId6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04" name="TextBox 25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过渡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泪滴形 6"/>
          <p:cNvSpPr/>
          <p:nvPr/>
        </p:nvSpPr>
        <p:spPr>
          <a:xfrm>
            <a:off x="2554200" y="4041720"/>
            <a:ext cx="1548000" cy="1548000"/>
          </a:xfrm>
          <a:custGeom>
            <a:avLst/>
            <a:gdLst>
              <a:gd name="textAreaLeft" fmla="*/ 0 w 1548000"/>
              <a:gd name="textAreaRight" fmla="*/ 1548360 w 1548000"/>
              <a:gd name="textAreaTop" fmla="*/ 0 h 1548000"/>
              <a:gd name="textAreaBottom" fmla="*/ 1548360 h 1548000"/>
            </a:gdLst>
            <a:ahLst/>
            <a:rect l="textAreaLeft" t="textAreaTop" r="textAreaRight" b="textAreaBottom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椭圆 7"/>
          <p:cNvSpPr/>
          <p:nvPr/>
        </p:nvSpPr>
        <p:spPr>
          <a:xfrm>
            <a:off x="2625840" y="4113360"/>
            <a:ext cx="1404720" cy="1403280"/>
          </a:xfrm>
          <a:prstGeom prst="ellipse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泪滴形 8"/>
          <p:cNvSpPr/>
          <p:nvPr/>
        </p:nvSpPr>
        <p:spPr>
          <a:xfrm rot="5400000">
            <a:off x="2580480" y="1627920"/>
            <a:ext cx="1548000" cy="1549440"/>
          </a:xfrm>
          <a:custGeom>
            <a:avLst/>
            <a:gdLst>
              <a:gd name="textAreaLeft" fmla="*/ 0 w 1548000"/>
              <a:gd name="textAreaRight" fmla="*/ 1548360 w 1548000"/>
              <a:gd name="textAreaTop" fmla="*/ 0 h 1549440"/>
              <a:gd name="textAreaBottom" fmla="*/ 1549800 h 1549440"/>
            </a:gdLst>
            <a:ahLst/>
            <a:rect l="textAreaLeft" t="textAreaTop" r="textAreaRight" b="textAreaBottom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泪滴形 9"/>
          <p:cNvSpPr/>
          <p:nvPr/>
        </p:nvSpPr>
        <p:spPr>
          <a:xfrm rot="16200000">
            <a:off x="5002200" y="4041720"/>
            <a:ext cx="1548000" cy="1548000"/>
          </a:xfrm>
          <a:custGeom>
            <a:avLst/>
            <a:gdLst>
              <a:gd name="textAreaLeft" fmla="*/ 0 w 1548000"/>
              <a:gd name="textAreaRight" fmla="*/ 1548360 w 1548000"/>
              <a:gd name="textAreaTop" fmla="*/ 0 h 1548000"/>
              <a:gd name="textAreaBottom" fmla="*/ 1548360 h 1548000"/>
            </a:gdLst>
            <a:ahLst/>
            <a:rect l="textAreaLeft" t="textAreaTop" r="textAreaRight" b="textAreaBottom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泪滴形 10"/>
          <p:cNvSpPr/>
          <p:nvPr/>
        </p:nvSpPr>
        <p:spPr>
          <a:xfrm rot="10800000">
            <a:off x="5002200" y="1628640"/>
            <a:ext cx="1548000" cy="1548000"/>
          </a:xfrm>
          <a:custGeom>
            <a:avLst/>
            <a:gdLst>
              <a:gd name="textAreaLeft" fmla="*/ 0 w 1548000"/>
              <a:gd name="textAreaRight" fmla="*/ 1548360 w 1548000"/>
              <a:gd name="textAreaTop" fmla="*/ 0 h 1548000"/>
              <a:gd name="textAreaBottom" fmla="*/ 1548360 h 1548000"/>
            </a:gdLst>
            <a:ahLst/>
            <a:rect l="textAreaLeft" t="textAreaTop" r="textAreaRight" b="textAreaBottom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11"/>
          <p:cNvSpPr/>
          <p:nvPr/>
        </p:nvSpPr>
        <p:spPr>
          <a:xfrm>
            <a:off x="2647800" y="1700280"/>
            <a:ext cx="1405080" cy="1404720"/>
          </a:xfrm>
          <a:prstGeom prst="ellipse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 12"/>
          <p:cNvSpPr/>
          <p:nvPr/>
        </p:nvSpPr>
        <p:spPr>
          <a:xfrm>
            <a:off x="5075280" y="1700280"/>
            <a:ext cx="1403280" cy="1404720"/>
          </a:xfrm>
          <a:prstGeom prst="ellipse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椭圆 13"/>
          <p:cNvSpPr/>
          <p:nvPr/>
        </p:nvSpPr>
        <p:spPr>
          <a:xfrm>
            <a:off x="5075280" y="4113360"/>
            <a:ext cx="1403280" cy="1403280"/>
          </a:xfrm>
          <a:prstGeom prst="ellipse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14"/>
          <p:cNvSpPr/>
          <p:nvPr/>
        </p:nvSpPr>
        <p:spPr>
          <a:xfrm>
            <a:off x="923760" y="2421000"/>
            <a:ext cx="1656000" cy="1440"/>
          </a:xfrm>
          <a:prstGeom prst="line">
            <a:avLst/>
          </a:prstGeom>
          <a:ln w="936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16"/>
          <p:cNvSpPr/>
          <p:nvPr/>
        </p:nvSpPr>
        <p:spPr>
          <a:xfrm>
            <a:off x="6550200" y="2421000"/>
            <a:ext cx="1657080" cy="1440"/>
          </a:xfrm>
          <a:prstGeom prst="line">
            <a:avLst/>
          </a:prstGeom>
          <a:ln w="936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17"/>
          <p:cNvSpPr/>
          <p:nvPr/>
        </p:nvSpPr>
        <p:spPr>
          <a:xfrm>
            <a:off x="933480" y="4797360"/>
            <a:ext cx="1657440" cy="0"/>
          </a:xfrm>
          <a:prstGeom prst="line">
            <a:avLst/>
          </a:prstGeom>
          <a:ln w="936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18"/>
          <p:cNvSpPr/>
          <p:nvPr/>
        </p:nvSpPr>
        <p:spPr>
          <a:xfrm>
            <a:off x="6561000" y="4797360"/>
            <a:ext cx="1656000" cy="0"/>
          </a:xfrm>
          <a:prstGeom prst="line">
            <a:avLst/>
          </a:prstGeom>
          <a:ln w="936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9"/>
          <p:cNvSpPr/>
          <p:nvPr/>
        </p:nvSpPr>
        <p:spPr>
          <a:xfrm>
            <a:off x="6532560" y="207180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0"/>
          <p:cNvSpPr/>
          <p:nvPr/>
        </p:nvSpPr>
        <p:spPr>
          <a:xfrm>
            <a:off x="6478560" y="243360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1"/>
          <p:cNvSpPr/>
          <p:nvPr/>
        </p:nvSpPr>
        <p:spPr>
          <a:xfrm>
            <a:off x="6532560" y="479736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2"/>
          <p:cNvSpPr/>
          <p:nvPr/>
        </p:nvSpPr>
        <p:spPr>
          <a:xfrm>
            <a:off x="6532560" y="387360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3"/>
          <p:cNvSpPr/>
          <p:nvPr/>
        </p:nvSpPr>
        <p:spPr>
          <a:xfrm>
            <a:off x="879480" y="206064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4"/>
          <p:cNvSpPr/>
          <p:nvPr/>
        </p:nvSpPr>
        <p:spPr>
          <a:xfrm>
            <a:off x="868320" y="242100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5"/>
          <p:cNvSpPr/>
          <p:nvPr/>
        </p:nvSpPr>
        <p:spPr>
          <a:xfrm>
            <a:off x="879480" y="479736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6"/>
          <p:cNvSpPr/>
          <p:nvPr/>
        </p:nvSpPr>
        <p:spPr>
          <a:xfrm>
            <a:off x="879480" y="386388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15"/>
          <p:cNvSpPr/>
          <p:nvPr/>
        </p:nvSpPr>
        <p:spPr>
          <a:xfrm>
            <a:off x="3706920" y="2744640"/>
            <a:ext cx="1692000" cy="169236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23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127" name="Group 24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128" name="Group 25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129" name="椭圆 72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矩形 73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>
                    <a:gd name="textAreaLeft" fmla="*/ 0 w 9142200"/>
                    <a:gd name="textAreaRight" fmla="*/ 9142560 w 9142200"/>
                    <a:gd name="textAreaTop" fmla="*/ 360 h 979200"/>
                    <a:gd name="textAreaBottom" fmla="*/ 979920 h 979200"/>
                  </a:gdLst>
                  <a:ahLst/>
                  <a:rect l="textAreaLeft" t="textAreaTop" r="textAreaRight" b="textAreaBottom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椭圆 75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3" name="Group 30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134" name="图片 7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5" name="Picture 3" descr="C:\Documents and Settings\Administrator\My Documents\My Pictures\1659_51.wmf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136" name="Group 33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137" name="图片 6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图片 7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图片 71" descr=""/>
                <p:cNvPicPr/>
                <p:nvPr/>
              </p:nvPicPr>
              <p:blipFill>
                <a:blip r:embed="rId6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TextBox 66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图表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4"/>
          <p:cNvSpPr/>
          <p:nvPr/>
        </p:nvSpPr>
        <p:spPr>
          <a:xfrm>
            <a:off x="1332000" y="2368440"/>
            <a:ext cx="4236840" cy="2212920"/>
          </a:xfrm>
          <a:custGeom>
            <a:avLst/>
            <a:gdLst>
              <a:gd name="textAreaLeft" fmla="*/ 0 w 4236840"/>
              <a:gd name="textAreaRight" fmla="*/ 4237200 w 4236840"/>
              <a:gd name="textAreaTop" fmla="*/ 0 h 2212920"/>
              <a:gd name="textAreaBottom" fmla="*/ 2213280 h 2212920"/>
            </a:gdLst>
            <a:ahLst/>
            <a:rect l="textAreaLeft" t="textAreaTop" r="textAreaRight" b="textAreaBottom"/>
            <a:pathLst>
              <a:path w="1558" h="814">
                <a:moveTo>
                  <a:pt x="1558" y="337"/>
                </a:moveTo>
                <a:lnTo>
                  <a:pt x="1221" y="0"/>
                </a:lnTo>
                <a:lnTo>
                  <a:pt x="407" y="814"/>
                </a:lnTo>
                <a:lnTo>
                  <a:pt x="0" y="407"/>
                </a:lnTo>
                <a:lnTo>
                  <a:pt x="402" y="5"/>
                </a:lnTo>
                <a:lnTo>
                  <a:pt x="734" y="337"/>
                </a:lnTo>
              </a:path>
            </a:pathLst>
          </a:custGeom>
          <a:noFill/>
          <a:ln w="25560">
            <a:solidFill>
              <a:srgbClr val="c782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5"/>
          <p:cNvSpPr/>
          <p:nvPr/>
        </p:nvSpPr>
        <p:spPr>
          <a:xfrm flipH="1" flipV="1">
            <a:off x="3722760" y="2367720"/>
            <a:ext cx="4238640" cy="2212920"/>
          </a:xfrm>
          <a:custGeom>
            <a:avLst/>
            <a:gdLst>
              <a:gd name="textAreaLeft" fmla="*/ 360 w 4238640"/>
              <a:gd name="textAreaRight" fmla="*/ 4239360 w 4238640"/>
              <a:gd name="textAreaTop" fmla="*/ -360 h 2212920"/>
              <a:gd name="textAreaBottom" fmla="*/ 2212920 h 2212920"/>
            </a:gdLst>
            <a:ahLst/>
            <a:rect l="textAreaLeft" t="textAreaTop" r="textAreaRight" b="textAreaBottom"/>
            <a:pathLst>
              <a:path w="1558" h="814">
                <a:moveTo>
                  <a:pt x="1558" y="337"/>
                </a:moveTo>
                <a:lnTo>
                  <a:pt x="1221" y="0"/>
                </a:lnTo>
                <a:lnTo>
                  <a:pt x="407" y="814"/>
                </a:lnTo>
                <a:lnTo>
                  <a:pt x="0" y="407"/>
                </a:lnTo>
                <a:lnTo>
                  <a:pt x="402" y="5"/>
                </a:lnTo>
                <a:lnTo>
                  <a:pt x="734" y="337"/>
                </a:lnTo>
              </a:path>
            </a:pathLst>
          </a:custGeom>
          <a:noFill/>
          <a:ln w="25560">
            <a:solidFill>
              <a:srgbClr val="c782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 rot="18900000">
            <a:off x="1866600" y="2944800"/>
            <a:ext cx="1060560" cy="1062000"/>
          </a:xfrm>
          <a:prstGeom prst="rect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 rot="18900000">
            <a:off x="4111560" y="2946240"/>
            <a:ext cx="1060560" cy="1060560"/>
          </a:xfrm>
          <a:prstGeom prst="rect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 rot="18900000">
            <a:off x="6334200" y="2945880"/>
            <a:ext cx="1060200" cy="1060560"/>
          </a:xfrm>
          <a:prstGeom prst="rect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1"/>
          <p:cNvSpPr/>
          <p:nvPr/>
        </p:nvSpPr>
        <p:spPr>
          <a:xfrm>
            <a:off x="2251080" y="2886120"/>
            <a:ext cx="293760" cy="293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94"/>
          <p:cNvSpPr/>
          <p:nvPr/>
        </p:nvSpPr>
        <p:spPr>
          <a:xfrm>
            <a:off x="4500720" y="2886120"/>
            <a:ext cx="293400" cy="293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椭圆 95"/>
          <p:cNvSpPr/>
          <p:nvPr/>
        </p:nvSpPr>
        <p:spPr>
          <a:xfrm>
            <a:off x="6716880" y="2881440"/>
            <a:ext cx="293400" cy="293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6807960" y="29199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6"/>
          <p:cNvSpPr/>
          <p:nvPr/>
        </p:nvSpPr>
        <p:spPr>
          <a:xfrm>
            <a:off x="4591080" y="29232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2346480" y="29232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3"/>
          <p:cNvSpPr/>
          <p:nvPr/>
        </p:nvSpPr>
        <p:spPr>
          <a:xfrm>
            <a:off x="2004840" y="3308400"/>
            <a:ext cx="8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3"/>
          <p:cNvSpPr/>
          <p:nvPr/>
        </p:nvSpPr>
        <p:spPr>
          <a:xfrm>
            <a:off x="4224240" y="3308400"/>
            <a:ext cx="8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3"/>
          <p:cNvSpPr/>
          <p:nvPr/>
        </p:nvSpPr>
        <p:spPr>
          <a:xfrm>
            <a:off x="6442200" y="330840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16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156" name="Group 17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157" name="Group 18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158" name="椭圆 48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矩形 49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>
                    <a:gd name="textAreaLeft" fmla="*/ 0 w 9142200"/>
                    <a:gd name="textAreaRight" fmla="*/ 9142560 w 9142200"/>
                    <a:gd name="textAreaTop" fmla="*/ 360 h 979200"/>
                    <a:gd name="textAreaBottom" fmla="*/ 979920 h 979200"/>
                  </a:gdLst>
                  <a:ahLst/>
                  <a:rect l="textAreaLeft" t="textAreaTop" r="textAreaRight" b="textAreaBottom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椭圆 51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2" name="Group 23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163" name="图片 5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4" name="Picture 3" descr="C:\Documents and Settings\Administrator\My Documents\My Pictures\1659_51.wmf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165" name="Group 26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166" name="图片 4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图片 4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图片 47" descr=""/>
                <p:cNvPicPr/>
                <p:nvPr/>
              </p:nvPicPr>
              <p:blipFill>
                <a:blip r:embed="rId6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69" name="TextBox 42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图表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流程图: 可选过程 2"/>
          <p:cNvSpPr/>
          <p:nvPr/>
        </p:nvSpPr>
        <p:spPr>
          <a:xfrm>
            <a:off x="1884240" y="2368440"/>
            <a:ext cx="5069160" cy="287280"/>
          </a:xfrm>
          <a:prstGeom prst="flowChartAlternateProcess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流程图: 可选过程 3"/>
          <p:cNvSpPr/>
          <p:nvPr/>
        </p:nvSpPr>
        <p:spPr>
          <a:xfrm>
            <a:off x="1884240" y="2386080"/>
            <a:ext cx="3408480" cy="252360"/>
          </a:xfrm>
          <a:prstGeom prst="flowChartAlternateProcess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圆角矩形标注 4"/>
          <p:cNvSpPr/>
          <p:nvPr/>
        </p:nvSpPr>
        <p:spPr>
          <a:xfrm>
            <a:off x="4368960" y="2835360"/>
            <a:ext cx="504720" cy="252360"/>
          </a:xfrm>
          <a:prstGeom prst="wedgeRoundRectCallout">
            <a:avLst>
              <a:gd name="adj1" fmla="val -24569"/>
              <a:gd name="adj2" fmla="val 69967"/>
              <a:gd name="adj3" fmla="val 16667"/>
            </a:avLst>
          </a:prstGeom>
          <a:solidFill>
            <a:srgbClr val="c78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流程图: 可选过程 5"/>
          <p:cNvSpPr/>
          <p:nvPr/>
        </p:nvSpPr>
        <p:spPr>
          <a:xfrm>
            <a:off x="1884240" y="3160800"/>
            <a:ext cx="5069160" cy="287280"/>
          </a:xfrm>
          <a:prstGeom prst="flowChartAlternateProcess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流程图: 可选过程 6"/>
          <p:cNvSpPr/>
          <p:nvPr/>
        </p:nvSpPr>
        <p:spPr>
          <a:xfrm>
            <a:off x="1884240" y="3178080"/>
            <a:ext cx="2665440" cy="252360"/>
          </a:xfrm>
          <a:prstGeom prst="flowChartAlternateProcess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流程图: 可选过程 7"/>
          <p:cNvSpPr/>
          <p:nvPr/>
        </p:nvSpPr>
        <p:spPr>
          <a:xfrm>
            <a:off x="1920960" y="3879720"/>
            <a:ext cx="5032440" cy="289080"/>
          </a:xfrm>
          <a:prstGeom prst="flowChartAlternateProcess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流程图: 可选过程 8"/>
          <p:cNvSpPr/>
          <p:nvPr/>
        </p:nvSpPr>
        <p:spPr>
          <a:xfrm>
            <a:off x="1920960" y="3898800"/>
            <a:ext cx="3743280" cy="250920"/>
          </a:xfrm>
          <a:prstGeom prst="flowChartAlternateProcess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流程图: 可选过程 9"/>
          <p:cNvSpPr/>
          <p:nvPr/>
        </p:nvSpPr>
        <p:spPr>
          <a:xfrm>
            <a:off x="1920960" y="4672080"/>
            <a:ext cx="5032440" cy="288720"/>
          </a:xfrm>
          <a:prstGeom prst="flowChartAlternateProcess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流程图: 可选过程 10"/>
          <p:cNvSpPr/>
          <p:nvPr/>
        </p:nvSpPr>
        <p:spPr>
          <a:xfrm>
            <a:off x="1920960" y="4689360"/>
            <a:ext cx="4091040" cy="252360"/>
          </a:xfrm>
          <a:prstGeom prst="flowChartAlternateProcess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圆角矩形标注 11"/>
          <p:cNvSpPr/>
          <p:nvPr/>
        </p:nvSpPr>
        <p:spPr>
          <a:xfrm>
            <a:off x="5506920" y="3556080"/>
            <a:ext cx="505080" cy="252360"/>
          </a:xfrm>
          <a:prstGeom prst="wedgeRoundRectCallout">
            <a:avLst>
              <a:gd name="adj1" fmla="val -24569"/>
              <a:gd name="adj2" fmla="val 69967"/>
              <a:gd name="adj3" fmla="val 16667"/>
            </a:avLst>
          </a:prstGeom>
          <a:solidFill>
            <a:srgbClr val="c78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圆角矩形标注 12"/>
          <p:cNvSpPr/>
          <p:nvPr/>
        </p:nvSpPr>
        <p:spPr>
          <a:xfrm>
            <a:off x="5159520" y="2044800"/>
            <a:ext cx="504720" cy="250560"/>
          </a:xfrm>
          <a:prstGeom prst="wedgeRoundRectCallout">
            <a:avLst>
              <a:gd name="adj1" fmla="val -24569"/>
              <a:gd name="adj2" fmla="val 69967"/>
              <a:gd name="adj3" fmla="val 16667"/>
            </a:avLst>
          </a:prstGeom>
          <a:solidFill>
            <a:srgbClr val="c78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圆角矩形标注 13"/>
          <p:cNvSpPr/>
          <p:nvPr/>
        </p:nvSpPr>
        <p:spPr>
          <a:xfrm>
            <a:off x="5854680" y="4311720"/>
            <a:ext cx="504720" cy="252360"/>
          </a:xfrm>
          <a:prstGeom prst="wedgeRoundRectCallout">
            <a:avLst>
              <a:gd name="adj1" fmla="val -24569"/>
              <a:gd name="adj2" fmla="val 69967"/>
              <a:gd name="adj3" fmla="val 16667"/>
            </a:avLst>
          </a:prstGeom>
          <a:solidFill>
            <a:srgbClr val="c78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直接连接符 14"/>
          <p:cNvSpPr/>
          <p:nvPr/>
        </p:nvSpPr>
        <p:spPr>
          <a:xfrm>
            <a:off x="1692360" y="1765440"/>
            <a:ext cx="0" cy="3535200"/>
          </a:xfrm>
          <a:prstGeom prst="line">
            <a:avLst/>
          </a:prstGeom>
          <a:ln w="28440">
            <a:solidFill>
              <a:srgbClr val="625348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接连接符 14"/>
          <p:cNvSpPr/>
          <p:nvPr/>
        </p:nvSpPr>
        <p:spPr>
          <a:xfrm flipH="1">
            <a:off x="1692000" y="5300640"/>
            <a:ext cx="6264360" cy="23760"/>
          </a:xfrm>
          <a:prstGeom prst="line">
            <a:avLst/>
          </a:prstGeom>
          <a:ln w="28440">
            <a:solidFill>
              <a:srgbClr val="625348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直接连接符 14"/>
          <p:cNvSpPr/>
          <p:nvPr/>
        </p:nvSpPr>
        <p:spPr>
          <a:xfrm>
            <a:off x="2397240" y="1765440"/>
            <a:ext cx="1440" cy="3535200"/>
          </a:xfrm>
          <a:prstGeom prst="line">
            <a:avLst/>
          </a:prstGeom>
          <a:ln w="1260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直接连接符 14"/>
          <p:cNvSpPr/>
          <p:nvPr/>
        </p:nvSpPr>
        <p:spPr>
          <a:xfrm>
            <a:off x="3112920" y="1765440"/>
            <a:ext cx="1800" cy="3535200"/>
          </a:xfrm>
          <a:prstGeom prst="line">
            <a:avLst/>
          </a:prstGeom>
          <a:ln w="1260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直接连接符 14"/>
          <p:cNvSpPr/>
          <p:nvPr/>
        </p:nvSpPr>
        <p:spPr>
          <a:xfrm>
            <a:off x="3828960" y="1787400"/>
            <a:ext cx="1800" cy="3537000"/>
          </a:xfrm>
          <a:prstGeom prst="line">
            <a:avLst/>
          </a:prstGeom>
          <a:ln w="1260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14"/>
          <p:cNvSpPr/>
          <p:nvPr/>
        </p:nvSpPr>
        <p:spPr>
          <a:xfrm>
            <a:off x="4549680" y="1787400"/>
            <a:ext cx="0" cy="3537000"/>
          </a:xfrm>
          <a:prstGeom prst="line">
            <a:avLst/>
          </a:prstGeom>
          <a:ln w="1260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接连接符 14"/>
          <p:cNvSpPr/>
          <p:nvPr/>
        </p:nvSpPr>
        <p:spPr>
          <a:xfrm>
            <a:off x="5292720" y="1827360"/>
            <a:ext cx="0" cy="3535200"/>
          </a:xfrm>
          <a:prstGeom prst="line">
            <a:avLst/>
          </a:prstGeom>
          <a:ln w="1260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直接连接符 14"/>
          <p:cNvSpPr/>
          <p:nvPr/>
        </p:nvSpPr>
        <p:spPr>
          <a:xfrm>
            <a:off x="6012000" y="1787400"/>
            <a:ext cx="1440" cy="3537000"/>
          </a:xfrm>
          <a:prstGeom prst="line">
            <a:avLst/>
          </a:prstGeom>
          <a:ln w="1260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直接连接符 14"/>
          <p:cNvSpPr/>
          <p:nvPr/>
        </p:nvSpPr>
        <p:spPr>
          <a:xfrm>
            <a:off x="6737400" y="1787400"/>
            <a:ext cx="1440" cy="3537000"/>
          </a:xfrm>
          <a:prstGeom prst="line">
            <a:avLst/>
          </a:prstGeom>
          <a:ln w="1260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直接连接符 14"/>
          <p:cNvSpPr/>
          <p:nvPr/>
        </p:nvSpPr>
        <p:spPr>
          <a:xfrm>
            <a:off x="7451640" y="1787400"/>
            <a:ext cx="1800" cy="3537000"/>
          </a:xfrm>
          <a:prstGeom prst="line">
            <a:avLst/>
          </a:prstGeom>
          <a:ln w="1260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23"/>
          <p:cNvSpPr/>
          <p:nvPr/>
        </p:nvSpPr>
        <p:spPr>
          <a:xfrm>
            <a:off x="1206360" y="3549600"/>
            <a:ext cx="43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23"/>
          <p:cNvSpPr/>
          <p:nvPr/>
        </p:nvSpPr>
        <p:spPr>
          <a:xfrm>
            <a:off x="1901880" y="536904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26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195" name="Group 27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196" name="Group 28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197" name="椭圆 70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矩形 71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>
                    <a:gd name="textAreaLeft" fmla="*/ 0 w 9142200"/>
                    <a:gd name="textAreaRight" fmla="*/ 9142560 w 9142200"/>
                    <a:gd name="textAreaTop" fmla="*/ 360 h 979200"/>
                    <a:gd name="textAreaBottom" fmla="*/ 979920 h 979200"/>
                  </a:gdLst>
                  <a:ahLst/>
                  <a:rect l="textAreaLeft" t="textAreaTop" r="textAreaRight" b="textAreaBottom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椭圆 73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1" name="Group 33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202" name="图片 7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03" name="Picture 3" descr="C:\Documents and Settings\Administrator\My Documents\My Pictures\1659_51.wmf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204" name="Group 36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205" name="图片 67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6" name="图片 68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7" name="图片 69" descr=""/>
                <p:cNvPicPr/>
                <p:nvPr/>
              </p:nvPicPr>
              <p:blipFill>
                <a:blip r:embed="rId6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08" name="TextBox 64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图表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2"/>
          <p:cNvGrpSpPr/>
          <p:nvPr/>
        </p:nvGrpSpPr>
        <p:grpSpPr>
          <a:xfrm>
            <a:off x="5507640" y="3292560"/>
            <a:ext cx="2331000" cy="2182320"/>
            <a:chOff x="5507640" y="3292560"/>
            <a:chExt cx="2331000" cy="2182320"/>
          </a:xfrm>
        </p:grpSpPr>
        <p:sp>
          <p:nvSpPr>
            <p:cNvPr id="210" name="直接连接符​​ 31"/>
            <p:cNvSpPr/>
            <p:nvPr/>
          </p:nvSpPr>
          <p:spPr>
            <a:xfrm>
              <a:off x="6078240" y="3366360"/>
              <a:ext cx="1524960" cy="0"/>
            </a:xfrm>
            <a:prstGeom prst="line">
              <a:avLst/>
            </a:prstGeom>
            <a:ln w="6480">
              <a:solidFill>
                <a:srgbClr val="a5a5a5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Group 4"/>
            <p:cNvGrpSpPr/>
            <p:nvPr/>
          </p:nvGrpSpPr>
          <p:grpSpPr>
            <a:xfrm>
              <a:off x="5507640" y="3292560"/>
              <a:ext cx="2331000" cy="2182320"/>
              <a:chOff x="5507640" y="3292560"/>
              <a:chExt cx="2331000" cy="2182320"/>
            </a:xfrm>
          </p:grpSpPr>
          <p:sp>
            <p:nvSpPr>
              <p:cNvPr id="212" name="圆角矩形​​ 40"/>
              <p:cNvSpPr/>
              <p:nvPr/>
            </p:nvSpPr>
            <p:spPr>
              <a:xfrm rot="21283200">
                <a:off x="5561640" y="4108680"/>
                <a:ext cx="2223000" cy="12664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直接连接符​​ 41"/>
              <p:cNvSpPr/>
              <p:nvPr/>
            </p:nvSpPr>
            <p:spPr>
              <a:xfrm flipV="1">
                <a:off x="5893560" y="3418560"/>
                <a:ext cx="909000" cy="781560"/>
              </a:xfrm>
              <a:prstGeom prst="line">
                <a:avLst/>
              </a:prstGeom>
              <a:ln w="284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直接连接符​​ 42"/>
              <p:cNvSpPr/>
              <p:nvPr/>
            </p:nvSpPr>
            <p:spPr>
              <a:xfrm>
                <a:off x="7054920" y="3418920"/>
                <a:ext cx="348120" cy="642600"/>
              </a:xfrm>
              <a:prstGeom prst="line">
                <a:avLst/>
              </a:prstGeom>
              <a:ln w="284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椭圆​​ 43"/>
              <p:cNvSpPr/>
              <p:nvPr/>
            </p:nvSpPr>
            <p:spPr>
              <a:xfrm>
                <a:off x="6802920" y="3292560"/>
                <a:ext cx="252000" cy="2520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椭圆​​ 44"/>
              <p:cNvSpPr/>
              <p:nvPr/>
            </p:nvSpPr>
            <p:spPr>
              <a:xfrm>
                <a:off x="6854760" y="3344400"/>
                <a:ext cx="145440" cy="145440"/>
              </a:xfrm>
              <a:prstGeom prst="ellipse">
                <a:avLst/>
              </a:prstGeom>
              <a:solidFill>
                <a:srgbClr val="d8d8d8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同侧圆角矩形 45"/>
              <p:cNvSpPr/>
              <p:nvPr/>
            </p:nvSpPr>
            <p:spPr>
              <a:xfrm rot="21294600">
                <a:off x="5530320" y="4116960"/>
                <a:ext cx="2213640" cy="615240"/>
              </a:xfrm>
              <a:custGeom>
                <a:avLst/>
                <a:gdLst>
                  <a:gd name="textAreaLeft" fmla="*/ 324000 w 2213640"/>
                  <a:gd name="textAreaRight" fmla="*/ 1889640 w 2213640"/>
                  <a:gd name="textAreaTop" fmla="*/ 90000 h 615240"/>
                  <a:gd name="textAreaBottom" fmla="*/ 525240 h 615240"/>
                </a:gdLst>
                <a:ahLst/>
                <a:rect l="textAreaLeft" t="textAreaTop" r="textAreaRight" b="textAreaBottom"/>
                <a:pathLst>
                  <a:path w="24300" h="16200">
                    <a:moveTo>
                      <a:pt x="16200" y="10800"/>
                    </a:moveTo>
                    <a:cubicBezTo>
                      <a:pt x="16200" y="7817"/>
                      <a:pt x="13782" y="5400"/>
                      <a:pt x="10800" y="5400"/>
                    </a:cubicBezTo>
                    <a:cubicBezTo>
                      <a:pt x="7817" y="5400"/>
                      <a:pt x="5400" y="7817"/>
                      <a:pt x="5400" y="10800"/>
                    </a:cubicBezTo>
                    <a:lnTo>
                      <a:pt x="0" y="10800"/>
                    </a:ln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4" y="0"/>
                      <a:pt x="21599" y="4835"/>
                      <a:pt x="21600" y="10799"/>
                    </a:cubicBezTo>
                    <a:lnTo>
                      <a:pt x="21600" y="10800"/>
                    </a:lnTo>
                    <a:lnTo>
                      <a:pt x="24300" y="10800"/>
                    </a:lnTo>
                    <a:lnTo>
                      <a:pt x="18900" y="16200"/>
                    </a:lnTo>
                    <a:lnTo>
                      <a:pt x="13500" y="10800"/>
                    </a:lnTo>
                    <a:lnTo>
                      <a:pt x="1620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圆角矩形​​ 46"/>
              <p:cNvSpPr/>
              <p:nvPr/>
            </p:nvSpPr>
            <p:spPr>
              <a:xfrm rot="21283200">
                <a:off x="5660280" y="4231800"/>
                <a:ext cx="2033640" cy="1044360"/>
              </a:xfrm>
              <a:prstGeom prst="roundRect">
                <a:avLst>
                  <a:gd name="adj" fmla="val 0"/>
                </a:avLst>
              </a:prstGeom>
              <a:solidFill>
                <a:srgbClr val="c79405"/>
              </a:solidFill>
              <a:ln w="1908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marL="343080" indent="-34308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此处输入文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此处输入文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椭圆​​ 47"/>
              <p:cNvSpPr/>
              <p:nvPr/>
            </p:nvSpPr>
            <p:spPr>
              <a:xfrm rot="21283200">
                <a:off x="5851440" y="4200120"/>
                <a:ext cx="92160" cy="9252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椭圆​​ 48"/>
              <p:cNvSpPr/>
              <p:nvPr/>
            </p:nvSpPr>
            <p:spPr>
              <a:xfrm rot="21283200">
                <a:off x="7360920" y="4060800"/>
                <a:ext cx="92160" cy="9252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1" name="Group 14"/>
          <p:cNvGrpSpPr/>
          <p:nvPr/>
        </p:nvGrpSpPr>
        <p:grpSpPr>
          <a:xfrm>
            <a:off x="2369160" y="3033720"/>
            <a:ext cx="2330640" cy="2180880"/>
            <a:chOff x="2369160" y="3033720"/>
            <a:chExt cx="2330640" cy="2180880"/>
          </a:xfrm>
        </p:grpSpPr>
        <p:sp>
          <p:nvSpPr>
            <p:cNvPr id="222" name="直接连接符​​ 31"/>
            <p:cNvSpPr/>
            <p:nvPr/>
          </p:nvSpPr>
          <p:spPr>
            <a:xfrm>
              <a:off x="2939760" y="3107520"/>
              <a:ext cx="1524960" cy="0"/>
            </a:xfrm>
            <a:prstGeom prst="line">
              <a:avLst/>
            </a:prstGeom>
            <a:ln w="6480">
              <a:solidFill>
                <a:srgbClr val="a5a5a5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Group 16"/>
            <p:cNvGrpSpPr/>
            <p:nvPr/>
          </p:nvGrpSpPr>
          <p:grpSpPr>
            <a:xfrm>
              <a:off x="2369160" y="3033720"/>
              <a:ext cx="2330640" cy="2180880"/>
              <a:chOff x="2369160" y="3033720"/>
              <a:chExt cx="2330640" cy="2180880"/>
            </a:xfrm>
          </p:grpSpPr>
          <p:sp>
            <p:nvSpPr>
              <p:cNvPr id="224" name="圆角矩形​​ 40"/>
              <p:cNvSpPr/>
              <p:nvPr/>
            </p:nvSpPr>
            <p:spPr>
              <a:xfrm rot="21283200">
                <a:off x="2423160" y="3849480"/>
                <a:ext cx="2223000" cy="126540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直接连接符​​ 41"/>
              <p:cNvSpPr/>
              <p:nvPr/>
            </p:nvSpPr>
            <p:spPr>
              <a:xfrm flipV="1">
                <a:off x="2755080" y="3160080"/>
                <a:ext cx="909000" cy="781200"/>
              </a:xfrm>
              <a:prstGeom prst="line">
                <a:avLst/>
              </a:prstGeom>
              <a:ln w="284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直接连接符​​ 42"/>
              <p:cNvSpPr/>
              <p:nvPr/>
            </p:nvSpPr>
            <p:spPr>
              <a:xfrm>
                <a:off x="3916440" y="3160080"/>
                <a:ext cx="348120" cy="641880"/>
              </a:xfrm>
              <a:prstGeom prst="line">
                <a:avLst/>
              </a:prstGeom>
              <a:ln w="284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椭圆​​ 43"/>
              <p:cNvSpPr/>
              <p:nvPr/>
            </p:nvSpPr>
            <p:spPr>
              <a:xfrm>
                <a:off x="3664440" y="3033720"/>
                <a:ext cx="252000" cy="2520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椭圆​​ 44"/>
              <p:cNvSpPr/>
              <p:nvPr/>
            </p:nvSpPr>
            <p:spPr>
              <a:xfrm>
                <a:off x="3717720" y="3087000"/>
                <a:ext cx="145440" cy="145440"/>
              </a:xfrm>
              <a:prstGeom prst="ellipse">
                <a:avLst/>
              </a:prstGeom>
              <a:solidFill>
                <a:srgbClr val="d8d8d8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同侧圆角矩形 45"/>
              <p:cNvSpPr/>
              <p:nvPr/>
            </p:nvSpPr>
            <p:spPr>
              <a:xfrm rot="21294600">
                <a:off x="2391840" y="3857400"/>
                <a:ext cx="2213640" cy="614880"/>
              </a:xfrm>
              <a:custGeom>
                <a:avLst/>
                <a:gdLst>
                  <a:gd name="textAreaLeft" fmla="*/ 324000 w 2213640"/>
                  <a:gd name="textAreaRight" fmla="*/ 1889640 w 2213640"/>
                  <a:gd name="textAreaTop" fmla="*/ 90000 h 614880"/>
                  <a:gd name="textAreaBottom" fmla="*/ 524880 h 614880"/>
                </a:gdLst>
                <a:ahLst/>
                <a:rect l="textAreaLeft" t="textAreaTop" r="textAreaRight" b="textAreaBottom"/>
                <a:pathLst>
                  <a:path w="24300" h="16200">
                    <a:moveTo>
                      <a:pt x="16200" y="10800"/>
                    </a:moveTo>
                    <a:cubicBezTo>
                      <a:pt x="16200" y="7817"/>
                      <a:pt x="13782" y="5400"/>
                      <a:pt x="10800" y="5400"/>
                    </a:cubicBezTo>
                    <a:cubicBezTo>
                      <a:pt x="7817" y="5400"/>
                      <a:pt x="5400" y="7817"/>
                      <a:pt x="5400" y="10800"/>
                    </a:cubicBezTo>
                    <a:lnTo>
                      <a:pt x="0" y="10800"/>
                    </a:ln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4" y="0"/>
                      <a:pt x="21599" y="4835"/>
                      <a:pt x="21600" y="10799"/>
                    </a:cubicBezTo>
                    <a:lnTo>
                      <a:pt x="21600" y="10800"/>
                    </a:lnTo>
                    <a:lnTo>
                      <a:pt x="24300" y="10800"/>
                    </a:lnTo>
                    <a:lnTo>
                      <a:pt x="18900" y="16200"/>
                    </a:lnTo>
                    <a:lnTo>
                      <a:pt x="13500" y="10800"/>
                    </a:lnTo>
                    <a:lnTo>
                      <a:pt x="1620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圆角矩形​​ 46"/>
              <p:cNvSpPr/>
              <p:nvPr/>
            </p:nvSpPr>
            <p:spPr>
              <a:xfrm rot="21283200">
                <a:off x="2521800" y="3972600"/>
                <a:ext cx="2033640" cy="1043640"/>
              </a:xfrm>
              <a:prstGeom prst="roundRect">
                <a:avLst>
                  <a:gd name="adj" fmla="val 0"/>
                </a:avLst>
              </a:prstGeom>
              <a:solidFill>
                <a:srgbClr val="c79405"/>
              </a:solidFill>
              <a:ln w="1908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marL="343080" indent="-34308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此处输入文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此处输入文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椭圆​​ 47"/>
              <p:cNvSpPr/>
              <p:nvPr/>
            </p:nvSpPr>
            <p:spPr>
              <a:xfrm rot="21283200">
                <a:off x="2712960" y="3940560"/>
                <a:ext cx="92160" cy="921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椭圆​​ 48"/>
              <p:cNvSpPr/>
              <p:nvPr/>
            </p:nvSpPr>
            <p:spPr>
              <a:xfrm rot="21283200">
                <a:off x="4222440" y="3801240"/>
                <a:ext cx="92160" cy="921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3" name="Group 26"/>
          <p:cNvGrpSpPr/>
          <p:nvPr/>
        </p:nvGrpSpPr>
        <p:grpSpPr>
          <a:xfrm>
            <a:off x="4091040" y="1590840"/>
            <a:ext cx="2256840" cy="2112120"/>
            <a:chOff x="4091040" y="1590840"/>
            <a:chExt cx="2256840" cy="2112120"/>
          </a:xfrm>
        </p:grpSpPr>
        <p:sp>
          <p:nvSpPr>
            <p:cNvPr id="234" name="直接连接符​​ 33"/>
            <p:cNvSpPr/>
            <p:nvPr/>
          </p:nvSpPr>
          <p:spPr>
            <a:xfrm>
              <a:off x="4696560" y="1642320"/>
              <a:ext cx="1400400" cy="0"/>
            </a:xfrm>
            <a:prstGeom prst="line">
              <a:avLst/>
            </a:prstGeom>
            <a:ln w="6480">
              <a:solidFill>
                <a:srgbClr val="a5a5a5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圆角矩形​​ 2"/>
            <p:cNvSpPr/>
            <p:nvPr/>
          </p:nvSpPr>
          <p:spPr>
            <a:xfrm rot="21283200">
              <a:off x="4144320" y="2379960"/>
              <a:ext cx="2151720" cy="12261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直接连接符​​ 11"/>
            <p:cNvSpPr/>
            <p:nvPr/>
          </p:nvSpPr>
          <p:spPr>
            <a:xfrm flipV="1">
              <a:off x="4465080" y="1713240"/>
              <a:ext cx="880200" cy="756360"/>
            </a:xfrm>
            <a:prstGeom prst="line">
              <a:avLst/>
            </a:prstGeom>
            <a:ln w="28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直接连接符​​ 13"/>
            <p:cNvSpPr/>
            <p:nvPr/>
          </p:nvSpPr>
          <p:spPr>
            <a:xfrm>
              <a:off x="5590080" y="1713600"/>
              <a:ext cx="336240" cy="621360"/>
            </a:xfrm>
            <a:prstGeom prst="line">
              <a:avLst/>
            </a:prstGeom>
            <a:ln w="28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椭圆​​ 4"/>
            <p:cNvSpPr/>
            <p:nvPr/>
          </p:nvSpPr>
          <p:spPr>
            <a:xfrm>
              <a:off x="5345640" y="1590840"/>
              <a:ext cx="244440" cy="244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椭圆​​ 6"/>
            <p:cNvSpPr/>
            <p:nvPr/>
          </p:nvSpPr>
          <p:spPr>
            <a:xfrm>
              <a:off x="5396760" y="1642320"/>
              <a:ext cx="140760" cy="140760"/>
            </a:xfrm>
            <a:prstGeom prst="ellipse">
              <a:avLst/>
            </a:prstGeom>
            <a:solidFill>
              <a:srgbClr val="d8d8d8"/>
            </a:soli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同侧圆角矩形 30"/>
            <p:cNvSpPr/>
            <p:nvPr/>
          </p:nvSpPr>
          <p:spPr>
            <a:xfrm rot="21294600">
              <a:off x="4113000" y="2388600"/>
              <a:ext cx="2143440" cy="595080"/>
            </a:xfrm>
            <a:custGeom>
              <a:avLst/>
              <a:gdLst>
                <a:gd name="textAreaLeft" fmla="*/ 313920 w 2143440"/>
                <a:gd name="textAreaRight" fmla="*/ 1829520 w 2143440"/>
                <a:gd name="textAreaTop" fmla="*/ 87120 h 595080"/>
                <a:gd name="textAreaBottom" fmla="*/ 507960 h 595080"/>
              </a:gdLst>
              <a:ahLst/>
              <a:rect l="textAreaLeft" t="textAreaTop" r="textAreaRight" b="textAreaBottom"/>
              <a:pathLst>
                <a:path w="24300" h="162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7817" y="5400"/>
                    <a:pt x="5400" y="7817"/>
                    <a:pt x="5400" y="10800"/>
                  </a:cubicBezTo>
                  <a:lnTo>
                    <a:pt x="0" y="10800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圆角矩形​​ 3"/>
            <p:cNvSpPr/>
            <p:nvPr/>
          </p:nvSpPr>
          <p:spPr>
            <a:xfrm rot="21283200">
              <a:off x="4237920" y="2499840"/>
              <a:ext cx="1969200" cy="101160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1908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此处输入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此处输入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椭圆​​ 8"/>
            <p:cNvSpPr/>
            <p:nvPr/>
          </p:nvSpPr>
          <p:spPr>
            <a:xfrm rot="21283200">
              <a:off x="4423680" y="2469600"/>
              <a:ext cx="89280" cy="892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椭圆​​ 9"/>
            <p:cNvSpPr/>
            <p:nvPr/>
          </p:nvSpPr>
          <p:spPr>
            <a:xfrm rot="21283200">
              <a:off x="5884920" y="2334960"/>
              <a:ext cx="89280" cy="892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37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245" name="Group 38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246" name="Group 39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247" name="椭圆 75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矩形 76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>
                    <a:gd name="textAreaLeft" fmla="*/ 0 w 9142200"/>
                    <a:gd name="textAreaRight" fmla="*/ 9142560 w 9142200"/>
                    <a:gd name="textAreaTop" fmla="*/ 360 h 979200"/>
                    <a:gd name="textAreaBottom" fmla="*/ 979920 h 979200"/>
                  </a:gdLst>
                  <a:ahLst/>
                  <a:rect l="textAreaLeft" t="textAreaTop" r="textAreaRight" b="textAreaBottom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椭圆 78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1" name="Group 44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252" name="图片 8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53" name="Picture 3" descr="C:\Documents and Settings\Administrator\My Documents\My Pictures\1659_51.wmf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254" name="Group 47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255" name="图片 7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6" name="图片 7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7" name="图片 74" descr=""/>
                <p:cNvPicPr/>
                <p:nvPr/>
              </p:nvPicPr>
              <p:blipFill>
                <a:blip r:embed="rId6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58" name="TextBox 69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图表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8"/>
          <p:cNvSpPr/>
          <p:nvPr/>
        </p:nvSpPr>
        <p:spPr>
          <a:xfrm>
            <a:off x="334800" y="59612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AutoShape 3"/>
          <p:cNvSpPr/>
          <p:nvPr/>
        </p:nvSpPr>
        <p:spPr>
          <a:xfrm>
            <a:off x="3657600" y="2900520"/>
            <a:ext cx="1797120" cy="1555560"/>
          </a:xfrm>
          <a:prstGeom prst="triangle">
            <a:avLst>
              <a:gd name="adj" fmla="val 50000"/>
            </a:avLst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4"/>
          <p:cNvSpPr/>
          <p:nvPr/>
        </p:nvSpPr>
        <p:spPr>
          <a:xfrm>
            <a:off x="2587680" y="2082960"/>
            <a:ext cx="2203560" cy="3139920"/>
          </a:xfrm>
          <a:custGeom>
            <a:avLst/>
            <a:gdLst>
              <a:gd name="textAreaLeft" fmla="*/ 0 w 2203560"/>
              <a:gd name="textAreaRight" fmla="*/ 2203920 w 2203560"/>
              <a:gd name="textAreaTop" fmla="*/ 0 h 3139920"/>
              <a:gd name="textAreaBottom" fmla="*/ 3140280 h 3139920"/>
            </a:gdLst>
            <a:ahLst/>
            <a:rect l="textAreaLeft" t="textAreaTop" r="textAreaRight" b="textAreaBottom"/>
            <a:pathLst>
              <a:path w="986" h="1404">
                <a:moveTo>
                  <a:pt x="0" y="1404"/>
                </a:moveTo>
                <a:lnTo>
                  <a:pt x="814" y="0"/>
                </a:lnTo>
                <a:lnTo>
                  <a:pt x="986" y="329"/>
                </a:lnTo>
              </a:path>
            </a:pathLst>
          </a:custGeom>
          <a:noFill/>
          <a:ln w="22320">
            <a:solidFill>
              <a:srgbClr val="c7820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5"/>
          <p:cNvSpPr/>
          <p:nvPr/>
        </p:nvSpPr>
        <p:spPr>
          <a:xfrm>
            <a:off x="3025800" y="4421160"/>
            <a:ext cx="3627360" cy="630360"/>
          </a:xfrm>
          <a:custGeom>
            <a:avLst/>
            <a:gdLst>
              <a:gd name="textAreaLeft" fmla="*/ 0 w 3627360"/>
              <a:gd name="textAreaRight" fmla="*/ 3627720 w 3627360"/>
              <a:gd name="textAreaTop" fmla="*/ 0 h 630360"/>
              <a:gd name="textAreaBottom" fmla="*/ 630720 h 630360"/>
            </a:gdLst>
            <a:ahLst/>
            <a:rect l="textAreaLeft" t="textAreaTop" r="textAreaRight" b="textAreaBottom"/>
            <a:pathLst>
              <a:path w="1623" h="281">
                <a:moveTo>
                  <a:pt x="1623" y="281"/>
                </a:moveTo>
                <a:lnTo>
                  <a:pt x="0" y="277"/>
                </a:lnTo>
                <a:lnTo>
                  <a:pt x="174" y="0"/>
                </a:lnTo>
              </a:path>
            </a:pathLst>
          </a:custGeom>
          <a:noFill/>
          <a:ln w="22320">
            <a:solidFill>
              <a:srgbClr val="c7820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6"/>
          <p:cNvSpPr/>
          <p:nvPr/>
        </p:nvSpPr>
        <p:spPr>
          <a:xfrm>
            <a:off x="4454640" y="1600200"/>
            <a:ext cx="1806480" cy="3149640"/>
          </a:xfrm>
          <a:custGeom>
            <a:avLst/>
            <a:gdLst>
              <a:gd name="textAreaLeft" fmla="*/ 0 w 1806480"/>
              <a:gd name="textAreaRight" fmla="*/ 1806840 w 1806480"/>
              <a:gd name="textAreaTop" fmla="*/ 0 h 3149640"/>
              <a:gd name="textAreaBottom" fmla="*/ 3150000 h 3149640"/>
            </a:gdLst>
            <a:ahLst/>
            <a:rect l="textAreaLeft" t="textAreaTop" r="textAreaRight" b="textAreaBottom"/>
            <a:pathLst>
              <a:path w="808" h="1408">
                <a:moveTo>
                  <a:pt x="0" y="0"/>
                </a:moveTo>
                <a:lnTo>
                  <a:pt x="808" y="1408"/>
                </a:lnTo>
                <a:lnTo>
                  <a:pt x="430" y="1407"/>
                </a:lnTo>
              </a:path>
            </a:pathLst>
          </a:custGeom>
          <a:noFill/>
          <a:ln w="22320">
            <a:solidFill>
              <a:srgbClr val="c7820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12"/>
          <p:cNvSpPr/>
          <p:nvPr/>
        </p:nvSpPr>
        <p:spPr>
          <a:xfrm rot="18108000">
            <a:off x="3562920" y="202428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78205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12"/>
          <p:cNvSpPr/>
          <p:nvPr/>
        </p:nvSpPr>
        <p:spPr>
          <a:xfrm rot="3533400">
            <a:off x="5794920" y="4146120"/>
            <a:ext cx="97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78205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12"/>
          <p:cNvSpPr/>
          <p:nvPr/>
        </p:nvSpPr>
        <p:spPr>
          <a:xfrm>
            <a:off x="2825640" y="5168880"/>
            <a:ext cx="97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78205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3"/>
          <p:cNvSpPr/>
          <p:nvPr/>
        </p:nvSpPr>
        <p:spPr>
          <a:xfrm>
            <a:off x="4143240" y="3700440"/>
            <a:ext cx="8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10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269" name="Group 11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270" name="Group 12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271" name="椭圆 42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矩形 43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>
                    <a:gd name="textAreaLeft" fmla="*/ 0 w 9142200"/>
                    <a:gd name="textAreaRight" fmla="*/ 9142560 w 9142200"/>
                    <a:gd name="textAreaTop" fmla="*/ 360 h 979200"/>
                    <a:gd name="textAreaBottom" fmla="*/ 979920 h 979200"/>
                  </a:gdLst>
                  <a:ahLst/>
                  <a:rect l="textAreaLeft" t="textAreaTop" r="textAreaRight" b="textAreaBottom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椭圆 45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5" name="Group 17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276" name="图片 4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77" name="Picture 3" descr="C:\Documents and Settings\Administrator\My Documents\My Pictures\1659_51.wmf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278" name="Group 20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279" name="图片 3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0" name="图片 4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1" name="图片 41" descr=""/>
                <p:cNvPicPr/>
                <p:nvPr/>
              </p:nvPicPr>
              <p:blipFill>
                <a:blip r:embed="rId6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82" name="TextBox 36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图表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A36D-77F9-4D07-9D9B-BC4FF195B8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5T01:31:00Z</dcterms:created>
  <dc:creator>幻灯片 http://www.eeppt.com</dc:creator>
  <dc:description/>
  <cp:keywords>幻灯片 http:/www.eeppt.com</cp:keywords>
  <dc:language>en-US</dc:language>
  <cp:lastModifiedBy/>
  <dcterms:modified xsi:type="dcterms:W3CDTF">2015-08-12T03:48:4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