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97155962"/>
        <c:axId val="25196674"/>
      </c:barChart>
      <c:catAx>
        <c:axId val="9715596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5196674"/>
        <c:crosses val="autoZero"/>
        <c:auto val="1"/>
        <c:lblAlgn val="ctr"/>
        <c:lblOffset val="100"/>
        <c:noMultiLvlLbl val="0"/>
      </c:catAx>
      <c:valAx>
        <c:axId val="2519667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715596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1941857"/>
        <c:axId val="70888858"/>
      </c:barChart>
      <c:catAx>
        <c:axId val="19418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0888858"/>
        <c:crosses val="autoZero"/>
        <c:auto val="1"/>
        <c:lblAlgn val="ctr"/>
        <c:lblOffset val="100"/>
        <c:noMultiLvlLbl val="0"/>
      </c:catAx>
      <c:valAx>
        <c:axId val="7088885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941857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3655453"/>
        <c:axId val="99963930"/>
      </c:lineChart>
      <c:catAx>
        <c:axId val="936554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9963930"/>
        <c:crosses val="autoZero"/>
        <c:auto val="1"/>
        <c:lblAlgn val="ctr"/>
        <c:lblOffset val="100"/>
        <c:noMultiLvlLbl val="0"/>
      </c:catAx>
      <c:valAx>
        <c:axId val="99963930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365545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9179768"/>
        <c:axId val="84704197"/>
      </c:barChart>
      <c:catAx>
        <c:axId val="391797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4704197"/>
        <c:crosses val="autoZero"/>
        <c:auto val="1"/>
        <c:lblAlgn val="ctr"/>
        <c:lblOffset val="100"/>
        <c:noMultiLvlLbl val="0"/>
      </c:catAx>
      <c:valAx>
        <c:axId val="8470419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9179768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059455-C879-4836-8FE5-11F41839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632E0749-363E-4635-A935-4A4B47BA89C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B48-2365-479F-A655-AD74C123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217-6AEA-43C1-AD9F-5001555F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6C2-E0E4-46CB-80F4-2AF0320F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6AE-9C15-4472-93AA-8D47A8FB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D63C-A70E-43DB-BA4F-82F41AD4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289D-63C4-4CA1-973F-47A0ED8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90DE-C7FA-4AC9-9F6B-CF3AA407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D4AC-3A26-4DDE-89CA-242E0AD2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0B64-4D18-4D99-8CFB-E535AE5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001-53BB-4668-BFED-B2F3454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B74-DD23-4E42-9ACC-591F84E4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F16-407A-4206-8EEF-B4115C4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81A9-89A9-4081-9B3E-093AC65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A4D-DA47-473C-B07A-EFE12E43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06D-59CD-423A-B49F-1419381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3E9-CC03-49E7-B172-1389FF1F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7B2C-C147-4DFE-B87B-3977980F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B09C-24F2-4390-8C00-DC63BF28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0DD6-D41C-487C-834B-7BB8391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4F1F-C1D3-4FC0-A316-5BCF966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7FFC-9EE9-4342-9BFE-AD8AE4BE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2C79-4B43-438D-8ADE-E8D5DA15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89B-6CF2-49C1-84AF-AE99679F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C0DA-45C3-4875-8662-4CA8ACA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AECC-19A5-4B56-B8C9-8720E45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12AF-8707-48F9-A332-D50057E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60B8-B357-49D6-8505-577201E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EC85-6174-45E4-B3B2-41B3BD4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A093-2D49-4391-A3F9-A96BCEE8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585F-E726-43B0-B729-5D76DA8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9E86-720E-4EAA-97AF-826CE9D1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C3DF-AE7B-4AFC-AC14-5A6F22C8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10CF-701F-49DD-8020-D3881ABF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98C-6E5D-4B96-A174-2A13338D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4636-A07A-4431-9579-412DC02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D4C7-53AE-447E-9DE6-0092C1F1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601F-4B3D-4C72-A57E-172A8BA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68BA-A622-4409-99D5-AFCBCAB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3BA6-E34D-43C0-8E14-8D0665D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DAE4-88F9-4008-A936-9E5F993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740A-A9CC-4DE8-ADF6-9214A78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B871-5620-4B83-9A23-DFD4AF2C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B988-3C6F-4267-B45D-1D0D61A1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5D6F-A778-404F-9A42-A53559A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388-E0F2-420E-8940-558A3D5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6B12-4D05-4FFC-927C-A00FE37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93A6A-8543-49D7-95AB-1CB416A0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0E47-BB7D-41C8-A9B2-9E61C3D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DF67-94FB-4F81-BB4C-2C5C83F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9F76-C828-47A7-8B8B-DEBACCDA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71C7-2E14-4FAF-8807-9E64137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4009-CF8E-4505-9C9A-B366817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720A-D8C5-4A04-9B96-3C02289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B737-369C-4C37-854C-AD7E0A78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043A2-44A0-4F62-835B-2A55BDB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C7A-33AA-4414-8689-E9FEF3D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6754-564E-4D2F-B02A-6D7EE4D3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BFBEE-954A-4C2A-B502-35CF4F52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7EDC6-EC99-4898-A865-755CD3D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0B2B-7B06-45DE-B902-5E22413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AA65-332B-4C5A-9C74-7E924218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17E0-3930-4E93-A0FE-71C26A0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1D15-DF30-4580-BB92-0785DBA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E956-61D4-4CD1-8D74-7D9DFB0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31056-63D2-4C96-8194-A20BDD4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1C8A-E482-4381-9E2E-CB96FF0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8B7-1DE8-49D8-805E-B6D9F44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358B-6179-477A-BFD0-4917FE8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0D42-E15C-4383-8E4A-26149CD9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53DE-B43B-4D09-B50B-8F9A9C3F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22463-8CA6-4F67-BFD5-2E52F883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F88E-CA89-4B80-88C3-81C79FFB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906B6-C3E6-4128-A414-19D7FDD0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B125-2559-4DA1-BF68-ADA0BBE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D6BC-22B3-43D7-920C-A7645C7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3B4C-3FB2-427B-9C4A-1ACCFC94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62C1-6C61-442E-9754-F4233DD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DDE-2831-4169-A25E-75716E4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D379C-26F8-43FD-AC9D-2A80883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5F74-1D52-4D60-872B-C48EF62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8E9E6-9F61-4279-B5FC-CE385310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35FB-E551-4DCC-9556-C30A320C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523A-7B2B-4BF3-BEAB-C5709DE6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0D18-262B-497A-ADA2-3E2CA06C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2334-838B-4D51-ACBF-E886671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507F-5E88-41A0-9617-737227A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52B7D-F7EB-46D4-984F-AA1F578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C8BF-4E2A-4365-9588-B24C319D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F68-C9C5-4F72-853F-C81F6B5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772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C102-F0FC-491F-A9A2-02E409B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303E-3FE6-41EB-B494-F5A8FE6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7561-5C3D-4EEF-B4B6-0E60C9F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906E-483D-46DA-8AFD-F484063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93DF-E0EE-444A-9614-81D52EB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A8D8-EDB5-44FD-BB58-9772896F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8E30-5CE1-41D7-BE50-3C3E45CC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新建文件夹 (2)\bg\bg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A48B994-DCC4-41D8-B554-8F6281ED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731E5-9F14-4324-939A-E8C70FA12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2)\bg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F676A1B-8B54-408E-B7D1-190FEDA7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1B544D-C628-4A8B-8F38-17B50726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AF9B7A5-F390-4AD5-879D-A5742CFD4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7345408-1DE4-4DEC-B713-28056BC05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618900-F1F0-4136-B97A-9F05B256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新建文件夹 (2)\bg\bg1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C17001D-A419-4FAF-80C6-DB8D1CD5E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简洁工作总结报告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EC2-1C83-41F9-85E0-F3787C66E6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7950A-B7D7-4880-93DB-06E75020101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2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E925604-4AC0-45B6-AC96-B8B03C013758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77F18-E2E2-44EE-9531-EC0B93649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8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4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1A2-F206-4267-AD12-EE4568C910D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F86E2C-B4B6-413B-86FF-5A7EFE7690E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772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3685-F179-4109-88E3-18045AE00A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4085F3E6-DBD1-4011-AFDA-D772CE3E72EB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94E064C-89C3-4327-9A1C-94D3B139F300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F56EEF-A835-473B-BBEF-3B06FAEB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-180360" y="5949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3AAF-B803-4B5B-8A3F-C90F22F9A4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5BA7050-1BFD-44C8-9083-4B796E1F0F7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27AB-1D1D-4AF1-8E12-0D158DCD4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F6175FB5-6D59-4595-899C-F120C382BE8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0401561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A7B1-EC79-4687-A5B2-1183705062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5821BAC-A82B-4B3C-8D16-B4BA240A16A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89933661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11A84-DF9F-4439-98A5-988228615C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42F7E3ED-2AAB-40F9-A470-CFD993E4A73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0327A-3B1D-4192-9976-AE82897646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0403B1A-E18D-4462-A98D-B6BB4A130B3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81107-DE4E-44B1-B7EE-2801CE888B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2AE8852F-7FF2-49D5-9FAD-58B9340EB65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82A4-F3A1-44C1-A347-0AD6283105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02B02C0-CA3F-44A1-8F44-675D447D114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宝藏_www.pptbz.com_简洁工作报告模板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宝藏_www.pptbz.com_简洁工作报告模板</Template>
  <TotalTime>2</TotalTime>
  <Application>LibreOffice/7.4.7.2$Linux_X86_64 LibreOffice_project/40$Build-2</Application>
  <AppVersion>15.0000</AppVersion>
  <Words>515</Words>
  <Paragraphs>17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4-12-15T10:55:47Z</dcterms:created>
  <dc:creator>微软用户</dc:creator>
  <dc:description>我爱PPT中文网</dc:description>
  <cp:keywords>XS-普屏 4：3 SC-淡蓝色 BG-浅色 DH-静态 XJ-二级</cp:keywords>
  <dc:language>en-US</dc:language>
  <cp:lastModifiedBy>a</cp:lastModifiedBy>
  <dcterms:modified xsi:type="dcterms:W3CDTF">2015-07-24T08:45:20Z</dcterms:modified>
  <cp:revision>2</cp:revision>
  <dc:subject>TP-通用纹理</dc:subject>
  <dc:title>Ppt宝藏_www.pptbz.com_提供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