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2DC-FFA6-46DB-A1DC-7D50F734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790-5E8F-4CF2-9721-184DF18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212-4608-448F-896A-EA1A5292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056-6799-49EC-A1E5-36CF5338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8C9-F772-4950-8C5B-4A8E2D5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8A9-F862-4B8F-B51F-0D8B369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C9C-BF78-430B-831F-A6A6AE0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91-F97D-4E58-B333-8EFC4E16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84D-7524-4625-8D3D-DD5E225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A2F-EFA5-4DEA-A206-46101B4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48B-0869-4552-8C4C-941CE62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79E-A9AA-489B-8F95-CDEF91F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54AF-A88C-4E5B-8150-4FE1708297D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0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4839"/>
                </a:solidFill>
                <a:latin typeface="Calibri"/>
                <a:ea typeface="宋体"/>
              </a:rPr>
              <a:t>简洁书本笔</a:t>
            </a:r>
            <a:r>
              <a:rPr b="0" lang="en-US" sz="4000" spc="-1" strike="noStrike">
                <a:solidFill>
                  <a:srgbClr val="9c4839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9c4839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宝藏</a:t>
            </a:r>
            <a:r>
              <a:rPr b="0" lang="zh-CN" sz="4400" spc="-1" strike="noStrike">
                <a:solidFill>
                  <a:srgbClr val="9c4839"/>
                </a:solidFill>
                <a:latin typeface="Calibri"/>
                <a:ea typeface="宋体"/>
              </a:rPr>
              <a:t>_www.pptbz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c483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c4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c483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6:11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5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