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5A24-9265-4FCD-B111-935593AA9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F963-9A0C-494E-9F08-A9D8AF41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833C-7207-478D-88E9-9F63A7EB0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2444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096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2444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096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E87B-A0B3-4F97-8347-4606F100F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CC58F-BFA5-45EF-BD7C-28F525CD4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6C36-247F-48E7-91E8-157E9C9F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72C5-59D6-4146-BDBC-E62F893F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3532-4C7E-4D64-843F-930BD104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3A42-6DD2-4EB2-A2DD-E10438CE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A280-B7D8-4A70-94A5-2E78E25D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450E-B003-4BCE-9007-2A2A154F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DAB2-0064-4C4D-BEDB-42143022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E042-32A8-425E-AC07-B2143510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3EDA-5B06-4C9D-9421-5AE13391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B259-BB36-4FD5-AF6C-AD49566A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D0BC-A499-41F6-BA73-84E19888E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2444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0096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2444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0096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1EDB-D752-4AC2-9A5C-532970337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17E5-22EB-4B3F-860C-DD6548D9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0A21-8435-4FA5-AFFF-AAE6D2EB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4F94-8FD6-4B04-8A58-5CE9EE25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6BD9-8A02-4D9A-9A69-1B640738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2BFA-3E9F-470C-B27F-873CD0F9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8E93-811E-4B59-BB6F-0D7915F0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5E13-91AA-41E1-8FE0-E0FB9D60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E3C6-F21B-4CF9-B937-0EB5B0FB17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96D9-004F-4E01-B0EC-117B97058B8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汉仪方隶简"/>
                <a:ea typeface="汉仪方隶简"/>
              </a:rPr>
              <a:t>金龙中国风</a:t>
            </a:r>
            <a:r>
              <a:rPr b="0" lang="en-US" sz="4000" spc="-1" strike="noStrike">
                <a:solidFill>
                  <a:srgbClr val="ffffff"/>
                </a:solidFill>
                <a:latin typeface="汉仪方隶简"/>
                <a:ea typeface="汉仪方隶简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汉仪方隶简"/>
                <a:ea typeface="汉仪方隶简"/>
              </a:rPr>
              <a:t>模板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About Agenth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An island off the coast of Lokil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A Tropical Paradise in the Indian Oce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On The Verge of An Economic Overha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Investment Opportunities Gal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Proposed Growth R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7" name="Object 3"/>
          <p:cNvGraphicFramePr/>
          <p:nvPr/>
        </p:nvGraphicFramePr>
        <p:xfrm>
          <a:off x="1447920" y="1600200"/>
          <a:ext cx="76197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600200"/>
                    <a:ext cx="76197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opyright, Concept &amp; Creation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Geetesh Baja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6T05:40:35Z</dcterms:created>
  <dc:creator>幻灯片 http://www.eeppt.com</dc:creator>
  <dc:description/>
  <cp:keywords>幻灯片 http:/www.eeppt.com</cp:keywords>
  <dc:language>en-US</dc:language>
  <cp:lastModifiedBy/>
  <dcterms:modified xsi:type="dcterms:W3CDTF">2015-07-25T11:35:54Z</dcterms:modified>
  <cp:revision>0</cp:revision>
  <dc:subject/>
  <dc:title/>
</cp:coreProperties>
</file>