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311-CC0B-4296-A278-0C6A97BA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5027-9089-4070-A6ED-DD4499D7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FFE-7395-4CBB-AF35-0FC6D578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DE91-1B0A-40C1-BC5C-21BA5E5F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DFD-8A85-46D7-8044-9CFE97A1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0AF-460D-42A3-B70B-0EFF5674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64F9-042C-4665-8598-2A0F5F00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462-D20F-4AF7-B31A-47AB803F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0CA-A415-4C8D-B6B2-6ADA3AD3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787E-5477-4419-A003-51D5BAF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052-76DA-4C42-A118-C17EDF63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657-E21D-41FD-B97E-57ADCE1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CF90-EF41-430D-BFDF-D411479325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6804000" y="3841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4"/>
          <p:cNvSpPr/>
          <p:nvPr/>
        </p:nvSpPr>
        <p:spPr>
          <a:xfrm>
            <a:off x="1575000" y="-853200"/>
            <a:ext cx="850680" cy="81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精美瓷器中国风</a:t>
            </a:r>
            <a:r>
              <a:rPr b="0" lang="en-US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663300"/>
                </a:solidFill>
                <a:latin typeface="华文行楷"/>
                <a:ea typeface="华文行楷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993960" y="163800"/>
            <a:ext cx="5824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3300"/>
                </a:solidFill>
                <a:latin typeface="华文行楷"/>
                <a:ea typeface="华文行楷"/>
              </a:rPr>
              <a:t>静物幻灯片艺术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幻灯片 http://www.eeppt.com</dc:creator>
  <dc:description/>
  <cp:keywords>幻灯片 http:/www.eeppt.com</cp:keywords>
  <dc:language>en-US</dc:language>
  <cp:lastModifiedBy/>
  <cp:lastPrinted>1899-12-30T00:00:00Z</cp:lastPrinted>
  <dcterms:modified xsi:type="dcterms:W3CDTF">2015-07-26T02:27:3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