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专业演出场所</c:v>
                </c:pt>
                <c:pt idx="1">
                  <c:v>实景旅游演出</c:v>
                </c:pt>
                <c:pt idx="2">
                  <c:v>民营团体</c:v>
                </c:pt>
                <c:pt idx="3">
                  <c:v>大型场馆演唱会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列1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专业演出场所</c:v>
                </c:pt>
                <c:pt idx="1">
                  <c:v>实景旅游演出</c:v>
                </c:pt>
                <c:pt idx="2">
                  <c:v>民营团体</c:v>
                </c:pt>
                <c:pt idx="3">
                  <c:v>大型场馆演唱会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54</c:v>
                </c:pt>
                <c:pt idx="1">
                  <c:v>11</c:v>
                </c:pt>
                <c:pt idx="2">
                  <c:v>24</c:v>
                </c:pt>
                <c:pt idx="3">
                  <c:v>11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列2</c:v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专业演出场所</c:v>
                </c:pt>
                <c:pt idx="1">
                  <c:v>实景旅游演出</c:v>
                </c:pt>
                <c:pt idx="2">
                  <c:v>民营团体</c:v>
                </c:pt>
                <c:pt idx="3">
                  <c:v>大型场馆演唱会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</c:numCache>
            </c:numRef>
          </c:val>
        </c:ser>
        <c:gapWidth val="150"/>
        <c:overlap val="0"/>
        <c:axId val="21119772"/>
        <c:axId val="63800515"/>
      </c:barChart>
      <c:catAx>
        <c:axId val="2111977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幼圆"/>
                <a:ea typeface="幼圆"/>
              </a:defRPr>
            </a:pPr>
          </a:p>
        </c:txPr>
        <c:crossAx val="63800515"/>
        <c:crosses val="autoZero"/>
        <c:auto val="1"/>
        <c:lblAlgn val="ctr"/>
        <c:lblOffset val="100"/>
        <c:noMultiLvlLbl val="0"/>
      </c:catAx>
      <c:valAx>
        <c:axId val="63800515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1119772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A30957-9BE3-4F69-A0D2-9D2889ED3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2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7AAEC2-F409-467D-91FC-A1D756D90F21}" type="datetime1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F426DB-AC69-401C-9F2A-780F32501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0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98FC66-D476-494A-8106-6A08DF73C25D}" type="datetime1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CAD7A1-3AD2-4702-89AD-FCBD8BC3C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757-40A8-4861-AD13-6FDF35B6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86C-CA2A-4C52-B2D7-641F5311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FDD-31E4-4F74-9232-5CFC8E9CA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52A4-957B-4B36-9682-B4AF8082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9D1E-0DD3-4067-A9A0-5DCED6E8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9D1E-8583-4149-9852-ACB81056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D6DA-E493-4708-8E51-22B6874A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18EE-63EE-43E2-B1BD-1CFD730C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4DF0-E55C-4F22-8373-87380F38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D785-60C4-452E-8F6D-EFB1B248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0E6E-04F1-4F46-B30C-0F75E044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AAAB-B67E-4C42-9D47-D959A80F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707E-6F70-4BB3-BCA9-82975EA4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EB58-CDAD-4E79-B157-E84DB44A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E9E6-FF6F-4559-A51F-8AC13153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A253-1213-484C-8287-10B2EDF9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B4B0-CA2B-41DF-8458-829CC96A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D2F7-1758-4157-9741-2BB8E6D3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E7E-7B95-49C5-8A3A-5F53D22B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621-D58D-4B7D-B1F2-897F99FB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557-6839-45F0-A39C-C132E2A3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6D8-CB74-4435-9D0B-2277B120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460-22D7-4067-86E3-5D7D69DE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1556-9139-4680-BA14-CC4A453B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CFF6D3-D2B8-4FC1-A45C-4040643C753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5C30F0-1637-4843-A22D-7BFC996A7F5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"/>
          <p:cNvSpPr/>
          <p:nvPr/>
        </p:nvSpPr>
        <p:spPr>
          <a:xfrm>
            <a:off x="177480" y="4010760"/>
            <a:ext cx="323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>
                <a:solidFill>
                  <a:srgbClr val="000040"/>
                </a:solidFill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12" descr=""/>
          <p:cNvPicPr/>
          <p:nvPr/>
        </p:nvPicPr>
        <p:blipFill>
          <a:blip r:embed="rId2"/>
          <a:srcRect l="49263" t="44761" r="0" b="42163"/>
          <a:stretch/>
        </p:blipFill>
        <p:spPr>
          <a:xfrm>
            <a:off x="6404760" y="3598560"/>
            <a:ext cx="2755080" cy="896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花瓣5"/>
          <p:cNvPicPr/>
          <p:nvPr/>
        </p:nvPicPr>
        <p:blipFill>
          <a:blip r:embed="rId3"/>
          <a:srcRect l="33300" t="38005" r="45335" b="44004"/>
          <a:stretch/>
        </p:blipFill>
        <p:spPr>
          <a:xfrm>
            <a:off x="683640" y="2335320"/>
            <a:ext cx="931680" cy="1113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墨山水"/>
          <p:cNvPicPr/>
          <p:nvPr/>
        </p:nvPicPr>
        <p:blipFill>
          <a:blip r:embed="rId4"/>
          <a:srcRect l="0" t="0" r="43914" b="45135"/>
          <a:stretch/>
        </p:blipFill>
        <p:spPr>
          <a:xfrm>
            <a:off x="-20880" y="2681280"/>
            <a:ext cx="4844160" cy="2369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花瓣4"/>
          <p:cNvPicPr/>
          <p:nvPr/>
        </p:nvPicPr>
        <p:blipFill>
          <a:blip r:embed="rId5"/>
          <a:srcRect l="25567" t="89260" r="34865" b="0"/>
          <a:stretch/>
        </p:blipFill>
        <p:spPr>
          <a:xfrm>
            <a:off x="2751840" y="6409440"/>
            <a:ext cx="1162800" cy="448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花瓣"/>
          <p:cNvPicPr/>
          <p:nvPr/>
        </p:nvPicPr>
        <p:blipFill>
          <a:blip r:embed="rId6"/>
          <a:srcRect l="29998" t="30975" r="35884" b="41477"/>
          <a:stretch/>
        </p:blipFill>
        <p:spPr>
          <a:xfrm>
            <a:off x="5508000" y="2784960"/>
            <a:ext cx="813240" cy="93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花瓣2"/>
          <p:cNvPicPr/>
          <p:nvPr/>
        </p:nvPicPr>
        <p:blipFill>
          <a:blip r:embed="rId7"/>
          <a:srcRect l="28501" t="56065" r="23593" b="0"/>
          <a:stretch/>
        </p:blipFill>
        <p:spPr>
          <a:xfrm>
            <a:off x="8034120" y="4897440"/>
            <a:ext cx="1505880" cy="196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花瓣3"/>
          <p:cNvPicPr/>
          <p:nvPr/>
        </p:nvPicPr>
        <p:blipFill>
          <a:blip r:embed="rId8"/>
          <a:srcRect l="0" t="52299" r="50010" b="0"/>
          <a:stretch/>
        </p:blipFill>
        <p:spPr>
          <a:xfrm>
            <a:off x="0" y="5345640"/>
            <a:ext cx="917280" cy="151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C:\Users\owen\Desktop\肖雅婷\未标题-21.png"/>
          <p:cNvPicPr/>
          <p:nvPr/>
        </p:nvPicPr>
        <p:blipFill>
          <a:blip r:embed="rId9"/>
          <a:stretch/>
        </p:blipFill>
        <p:spPr>
          <a:xfrm>
            <a:off x="3395520" y="-459360"/>
            <a:ext cx="2262600" cy="2262600"/>
          </a:xfrm>
          <a:prstGeom prst="rect">
            <a:avLst/>
          </a:prstGeom>
          <a:ln w="0">
            <a:noFill/>
          </a:ln>
        </p:spPr>
      </p:pic>
      <p:sp>
        <p:nvSpPr>
          <p:cNvPr id="97" name="矩形 22"/>
          <p:cNvSpPr/>
          <p:nvPr/>
        </p:nvSpPr>
        <p:spPr>
          <a:xfrm>
            <a:off x="1043640" y="2370960"/>
            <a:ext cx="727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30708"/>
                </a:solidFill>
                <a:latin typeface="华文隶书"/>
                <a:ea typeface="华文隶书"/>
              </a:rPr>
              <a:t>精美水墨画中国风</a:t>
            </a:r>
            <a:r>
              <a:rPr b="0" lang="en-US" sz="4000" spc="-1" strike="noStrike">
                <a:solidFill>
                  <a:srgbClr val="030708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030708"/>
                </a:solidFill>
                <a:latin typeface="华文隶书"/>
                <a:ea typeface="华文隶书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墨山水"/>
          <p:cNvPicPr/>
          <p:nvPr/>
        </p:nvPicPr>
        <p:blipFill>
          <a:blip r:embed="rId1"/>
          <a:srcRect l="0" t="0" r="43914" b="45135"/>
          <a:stretch/>
        </p:blipFill>
        <p:spPr>
          <a:xfrm flipH="1">
            <a:off x="3419640" y="2349000"/>
            <a:ext cx="5724360" cy="23695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1253880" y="3008160"/>
            <a:ext cx="28857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存在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996000" y="1203840"/>
            <a:ext cx="2280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需求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081320" y="1845720"/>
            <a:ext cx="4882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保险费率居高不下，常规演出望而却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保险公司宣传不够，相关险种鲜为人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政府依赖根深蒂固，自主防范意识短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3996000" y="4198680"/>
            <a:ext cx="2282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供给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4081320" y="4870080"/>
            <a:ext cx="4882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保险消费需求不足，大数法则恶性循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演出风险评估困难，新入险种开发受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运作缺乏行业规范，政策实施力度不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2" descr="C:\Users\owen\Desktop\肖雅婷\未标题-21.png"/>
          <p:cNvPicPr/>
          <p:nvPr/>
        </p:nvPicPr>
        <p:blipFill>
          <a:blip r:embed="rId2"/>
          <a:stretch/>
        </p:blipFill>
        <p:spPr>
          <a:xfrm rot="16200000">
            <a:off x="-426960" y="2318400"/>
            <a:ext cx="2262600" cy="226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5"/>
          <p:cNvSpPr/>
          <p:nvPr/>
        </p:nvSpPr>
        <p:spPr>
          <a:xfrm>
            <a:off x="3852000" y="908640"/>
            <a:ext cx="122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2" descr="C:\Users\owen\Desktop\肖雅婷\未标题-21.png"/>
          <p:cNvPicPr/>
          <p:nvPr/>
        </p:nvPicPr>
        <p:blipFill>
          <a:blip r:embed="rId1"/>
          <a:stretch/>
        </p:blipFill>
        <p:spPr>
          <a:xfrm>
            <a:off x="3394080" y="-461160"/>
            <a:ext cx="2262600" cy="2262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C:\Users\owen\Desktop\肖雅婷\未标题-21.png"/>
          <p:cNvPicPr/>
          <p:nvPr/>
        </p:nvPicPr>
        <p:blipFill>
          <a:blip r:embed="rId2"/>
          <a:stretch/>
        </p:blipFill>
        <p:spPr>
          <a:xfrm rot="10800000">
            <a:off x="3317400" y="5054760"/>
            <a:ext cx="2262600" cy="22626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"/>
          <p:cNvSpPr/>
          <p:nvPr/>
        </p:nvSpPr>
        <p:spPr>
          <a:xfrm>
            <a:off x="3826080" y="2421000"/>
            <a:ext cx="92304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存在的问题与解决之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3852000" y="2449800"/>
            <a:ext cx="49212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444444"/>
                </a:solidFill>
                <a:latin typeface="Meiryo"/>
                <a:ea typeface="Meiryo"/>
              </a:rPr>
              <a:t>problems and sol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owen\Desktop\肖雅婷\3.png"/>
          <p:cNvPicPr/>
          <p:nvPr/>
        </p:nvPicPr>
        <p:blipFill>
          <a:blip r:embed="rId1"/>
          <a:srcRect l="0" t="22410" r="0" b="24295"/>
          <a:stretch/>
        </p:blipFill>
        <p:spPr>
          <a:xfrm>
            <a:off x="18360" y="624240"/>
            <a:ext cx="9175320" cy="3261600"/>
          </a:xfrm>
          <a:prstGeom prst="rect">
            <a:avLst/>
          </a:prstGeom>
          <a:ln w="0">
            <a:noFill/>
          </a:ln>
        </p:spPr>
      </p:pic>
      <p:grpSp>
        <p:nvGrpSpPr>
          <p:cNvPr id="198" name="组合 7"/>
          <p:cNvGrpSpPr/>
          <p:nvPr/>
        </p:nvGrpSpPr>
        <p:grpSpPr>
          <a:xfrm>
            <a:off x="827640" y="764640"/>
            <a:ext cx="4626360" cy="2257200"/>
            <a:chOff x="827640" y="764640"/>
            <a:chExt cx="4626360" cy="2257200"/>
          </a:xfrm>
        </p:grpSpPr>
        <p:sp>
          <p:nvSpPr>
            <p:cNvPr id="199" name="Text Box 17"/>
            <p:cNvSpPr/>
            <p:nvPr/>
          </p:nvSpPr>
          <p:spPr>
            <a:xfrm>
              <a:off x="846000" y="1692360"/>
              <a:ext cx="389376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政策落实，立法护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5"/>
            <p:cNvSpPr/>
            <p:nvPr/>
          </p:nvSpPr>
          <p:spPr>
            <a:xfrm>
              <a:off x="827640" y="764640"/>
              <a:ext cx="9540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6"/>
            <p:cNvSpPr/>
            <p:nvPr/>
          </p:nvSpPr>
          <p:spPr>
            <a:xfrm>
              <a:off x="882360" y="2133000"/>
              <a:ext cx="45716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降低行业门槛，扩大供给市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提供政策优惠，吸引资金激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完善文化立法，借助强制手段</a:t>
              </a: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、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9"/>
          <p:cNvGrpSpPr/>
          <p:nvPr/>
        </p:nvGrpSpPr>
        <p:grpSpPr>
          <a:xfrm>
            <a:off x="5129640" y="2133000"/>
            <a:ext cx="4626720" cy="2523240"/>
            <a:chOff x="5129640" y="2133000"/>
            <a:chExt cx="4626720" cy="2523240"/>
          </a:xfrm>
        </p:grpSpPr>
        <p:sp>
          <p:nvSpPr>
            <p:cNvPr id="203" name="Text Box 17"/>
            <p:cNvSpPr/>
            <p:nvPr/>
          </p:nvSpPr>
          <p:spPr>
            <a:xfrm>
              <a:off x="5148000" y="3060360"/>
              <a:ext cx="389376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完善险种，提高服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11"/>
            <p:cNvSpPr/>
            <p:nvPr/>
          </p:nvSpPr>
          <p:spPr>
            <a:xfrm>
              <a:off x="5129640" y="2133000"/>
              <a:ext cx="9540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2"/>
            <p:cNvSpPr/>
            <p:nvPr/>
          </p:nvSpPr>
          <p:spPr>
            <a:xfrm>
              <a:off x="5184720" y="3501000"/>
              <a:ext cx="45716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推出“保险套餐”，节约交易时间成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利用广告效应，促进产品普及和销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完善“再保险”体系，合理调整费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ffffff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、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3"/>
          <p:cNvGrpSpPr/>
          <p:nvPr/>
        </p:nvGrpSpPr>
        <p:grpSpPr>
          <a:xfrm>
            <a:off x="1595520" y="4263120"/>
            <a:ext cx="3912120" cy="1392840"/>
            <a:chOff x="1595520" y="4263120"/>
            <a:chExt cx="3912120" cy="1392840"/>
          </a:xfrm>
        </p:grpSpPr>
        <p:sp>
          <p:nvSpPr>
            <p:cNvPr id="207" name="Text Box 17"/>
            <p:cNvSpPr/>
            <p:nvPr/>
          </p:nvSpPr>
          <p:spPr>
            <a:xfrm>
              <a:off x="1613880" y="5190480"/>
              <a:ext cx="389376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增强意识，促进开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15"/>
            <p:cNvSpPr/>
            <p:nvPr/>
          </p:nvSpPr>
          <p:spPr>
            <a:xfrm>
              <a:off x="1595520" y="4263120"/>
              <a:ext cx="9540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9"/>
          <p:cNvSpPr/>
          <p:nvPr/>
        </p:nvSpPr>
        <p:spPr>
          <a:xfrm>
            <a:off x="827640" y="65232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墨山水"/>
          <p:cNvPicPr/>
          <p:nvPr/>
        </p:nvPicPr>
        <p:blipFill>
          <a:blip r:embed="rId1"/>
          <a:srcRect l="0" t="0" r="43914" b="45135"/>
          <a:stretch/>
        </p:blipFill>
        <p:spPr>
          <a:xfrm flipH="1">
            <a:off x="3419640" y="2697840"/>
            <a:ext cx="5724360" cy="236952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3"/>
          <p:cNvGrpSpPr/>
          <p:nvPr/>
        </p:nvGrpSpPr>
        <p:grpSpPr>
          <a:xfrm>
            <a:off x="899640" y="476640"/>
            <a:ext cx="4574880" cy="1638000"/>
            <a:chOff x="899640" y="476640"/>
            <a:chExt cx="4574880" cy="1638000"/>
          </a:xfrm>
        </p:grpSpPr>
        <p:sp>
          <p:nvSpPr>
            <p:cNvPr id="212" name="Text Box 8"/>
            <p:cNvSpPr/>
            <p:nvPr/>
          </p:nvSpPr>
          <p:spPr>
            <a:xfrm>
              <a:off x="899640" y="476640"/>
              <a:ext cx="45748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一、文化演出保险印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1159920" y="959400"/>
              <a:ext cx="413208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（一）演出保险历史溯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人身意外伤害保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责任保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3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险种开发现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2"/>
          <p:cNvGrpSpPr/>
          <p:nvPr/>
        </p:nvGrpSpPr>
        <p:grpSpPr>
          <a:xfrm>
            <a:off x="899640" y="2315520"/>
            <a:ext cx="6203520" cy="2032200"/>
            <a:chOff x="899640" y="2315520"/>
            <a:chExt cx="6203520" cy="2032200"/>
          </a:xfrm>
        </p:grpSpPr>
        <p:sp>
          <p:nvSpPr>
            <p:cNvPr id="215" name="Text Box 10"/>
            <p:cNvSpPr/>
            <p:nvPr/>
          </p:nvSpPr>
          <p:spPr>
            <a:xfrm>
              <a:off x="899640" y="2315520"/>
              <a:ext cx="62035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二、文化演出保险市场现状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1125000" y="2926080"/>
              <a:ext cx="5967000" cy="14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（一）演出保险供求分析     （二）演出产业链风险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需求分析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资金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供给分析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信用、票务服务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3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演出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4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产品或服务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"/>
          <p:cNvGrpSpPr/>
          <p:nvPr/>
        </p:nvGrpSpPr>
        <p:grpSpPr>
          <a:xfrm>
            <a:off x="971640" y="4440600"/>
            <a:ext cx="6160680" cy="1782360"/>
            <a:chOff x="971640" y="4440600"/>
            <a:chExt cx="6160680" cy="1782360"/>
          </a:xfrm>
        </p:grpSpPr>
        <p:sp>
          <p:nvSpPr>
            <p:cNvPr id="218" name="Text Box 12"/>
            <p:cNvSpPr/>
            <p:nvPr/>
          </p:nvSpPr>
          <p:spPr>
            <a:xfrm>
              <a:off x="971640" y="4440600"/>
              <a:ext cx="4701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三、存在的问题与解决之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3"/>
            <p:cNvSpPr/>
            <p:nvPr/>
          </p:nvSpPr>
          <p:spPr>
            <a:xfrm>
              <a:off x="1123920" y="5067720"/>
              <a:ext cx="60084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（一）存在问题              （二）解决之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需求问题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政策落实，立法护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供给问题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完善险种，提高服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3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增强意识，促进开发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0"/>
          <p:cNvSpPr/>
          <p:nvPr/>
        </p:nvSpPr>
        <p:spPr>
          <a:xfrm>
            <a:off x="3636000" y="2349000"/>
            <a:ext cx="1728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3996000" y="3638520"/>
            <a:ext cx="1728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5228280" y="3625920"/>
            <a:ext cx="4887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您的聆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5292000" y="4046760"/>
            <a:ext cx="32144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444444"/>
                </a:solidFill>
                <a:latin typeface="Calibri"/>
              </a:rPr>
              <a:t>Thanks for listen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花瓣5"/>
          <p:cNvPicPr/>
          <p:nvPr/>
        </p:nvPicPr>
        <p:blipFill>
          <a:blip r:embed="rId1"/>
          <a:srcRect l="33300" t="38005" r="45335" b="44004"/>
          <a:stretch/>
        </p:blipFill>
        <p:spPr>
          <a:xfrm>
            <a:off x="683640" y="2335320"/>
            <a:ext cx="931680" cy="1113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花瓣4"/>
          <p:cNvPicPr/>
          <p:nvPr/>
        </p:nvPicPr>
        <p:blipFill>
          <a:blip r:embed="rId2"/>
          <a:srcRect l="25567" t="89260" r="34865" b="0"/>
          <a:stretch/>
        </p:blipFill>
        <p:spPr>
          <a:xfrm>
            <a:off x="2751840" y="6409440"/>
            <a:ext cx="1162800" cy="448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花瓣"/>
          <p:cNvPicPr/>
          <p:nvPr/>
        </p:nvPicPr>
        <p:blipFill>
          <a:blip r:embed="rId3"/>
          <a:srcRect l="29998" t="30975" r="35884" b="41477"/>
          <a:stretch/>
        </p:blipFill>
        <p:spPr>
          <a:xfrm>
            <a:off x="5508000" y="2784960"/>
            <a:ext cx="813240" cy="931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花瓣2"/>
          <p:cNvPicPr/>
          <p:nvPr/>
        </p:nvPicPr>
        <p:blipFill>
          <a:blip r:embed="rId4"/>
          <a:srcRect l="28501" t="56065" r="23593" b="0"/>
          <a:stretch/>
        </p:blipFill>
        <p:spPr>
          <a:xfrm>
            <a:off x="8034120" y="4897440"/>
            <a:ext cx="1505880" cy="1960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花瓣3"/>
          <p:cNvPicPr/>
          <p:nvPr/>
        </p:nvPicPr>
        <p:blipFill>
          <a:blip r:embed="rId5"/>
          <a:srcRect l="0" t="52299" r="50010" b="0"/>
          <a:stretch/>
        </p:blipFill>
        <p:spPr>
          <a:xfrm>
            <a:off x="0" y="5345640"/>
            <a:ext cx="917280" cy="15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墨山水"/>
          <p:cNvPicPr/>
          <p:nvPr/>
        </p:nvPicPr>
        <p:blipFill>
          <a:blip r:embed="rId1"/>
          <a:srcRect l="0" t="0" r="43914" b="45135"/>
          <a:stretch/>
        </p:blipFill>
        <p:spPr>
          <a:xfrm flipH="1">
            <a:off x="3419640" y="3664800"/>
            <a:ext cx="5724360" cy="23695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" descr=""/>
          <p:cNvPicPr/>
          <p:nvPr/>
        </p:nvPicPr>
        <p:blipFill>
          <a:blip r:embed="rId2"/>
          <a:stretch/>
        </p:blipFill>
        <p:spPr>
          <a:xfrm>
            <a:off x="857160" y="1216080"/>
            <a:ext cx="514080" cy="8776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" descr=""/>
          <p:cNvPicPr/>
          <p:nvPr/>
        </p:nvPicPr>
        <p:blipFill>
          <a:blip r:embed="rId3"/>
          <a:stretch/>
        </p:blipFill>
        <p:spPr>
          <a:xfrm>
            <a:off x="2000160" y="1212840"/>
            <a:ext cx="871200" cy="871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755640" y="3429000"/>
            <a:ext cx="514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二、文化演出保险市场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755640" y="4529880"/>
            <a:ext cx="4000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三、存在的问题与解决之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4"/>
          <p:cNvSpPr/>
          <p:nvPr/>
        </p:nvSpPr>
        <p:spPr>
          <a:xfrm>
            <a:off x="785520" y="2141280"/>
            <a:ext cx="3929040" cy="1800"/>
          </a:xfrm>
          <a:prstGeom prst="line">
            <a:avLst/>
          </a:prstGeom>
          <a:ln w="12700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1429200" y="2709000"/>
            <a:ext cx="32144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444444"/>
                </a:solidFill>
                <a:latin typeface="Meiryo"/>
                <a:ea typeface="Meiryo"/>
              </a:rPr>
              <a:t>int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1403640" y="3789000"/>
            <a:ext cx="34999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444444"/>
                </a:solidFill>
                <a:latin typeface="Meiryo"/>
                <a:ea typeface="Meiryo"/>
              </a:rPr>
              <a:t>market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1403640" y="4931280"/>
            <a:ext cx="2785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444444"/>
                </a:solidFill>
                <a:latin typeface="Meiryo"/>
                <a:ea typeface="Meiryo"/>
              </a:rPr>
              <a:t>problems and sol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770400" y="2337120"/>
            <a:ext cx="6068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一、文化演出保险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C:\Users\owen\Desktop\肖雅婷\未标题-21.png"/>
          <p:cNvPicPr/>
          <p:nvPr/>
        </p:nvPicPr>
        <p:blipFill>
          <a:blip r:embed="rId4"/>
          <a:stretch/>
        </p:blipFill>
        <p:spPr>
          <a:xfrm rot="5400000">
            <a:off x="7308720" y="511200"/>
            <a:ext cx="2262600" cy="22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1"/>
          <p:cNvGrpSpPr/>
          <p:nvPr/>
        </p:nvGrpSpPr>
        <p:grpSpPr>
          <a:xfrm>
            <a:off x="1331640" y="1785960"/>
            <a:ext cx="8058600" cy="3261960"/>
            <a:chOff x="1331640" y="1785960"/>
            <a:chExt cx="8058600" cy="3261960"/>
          </a:xfrm>
        </p:grpSpPr>
        <p:pic>
          <p:nvPicPr>
            <p:cNvPr id="111" name="图片 2" descr=""/>
            <p:cNvPicPr/>
            <p:nvPr/>
          </p:nvPicPr>
          <p:blipFill>
            <a:blip r:embed="rId1"/>
            <a:stretch/>
          </p:blipFill>
          <p:spPr>
            <a:xfrm>
              <a:off x="1752840" y="1785960"/>
              <a:ext cx="2300040" cy="32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15"/>
            <p:cNvSpPr/>
            <p:nvPr/>
          </p:nvSpPr>
          <p:spPr>
            <a:xfrm>
              <a:off x="1331640" y="2421000"/>
              <a:ext cx="321444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8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11"/>
            <p:cNvSpPr/>
            <p:nvPr/>
          </p:nvSpPr>
          <p:spPr>
            <a:xfrm>
              <a:off x="3322080" y="3213000"/>
              <a:ext cx="60681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文化演出保险印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0"/>
            <p:cNvSpPr/>
            <p:nvPr/>
          </p:nvSpPr>
          <p:spPr>
            <a:xfrm>
              <a:off x="3394080" y="3645000"/>
              <a:ext cx="321444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444444"/>
                  </a:solidFill>
                  <a:latin typeface="Meiryo"/>
                  <a:ea typeface="Meiryo"/>
                </a:rPr>
                <a:t>introd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12" descr="C:\Users\owen\Desktop\肖雅婷\未标题-21.png"/>
          <p:cNvPicPr/>
          <p:nvPr/>
        </p:nvPicPr>
        <p:blipFill>
          <a:blip r:embed="rId2"/>
          <a:stretch/>
        </p:blipFill>
        <p:spPr>
          <a:xfrm rot="5400000">
            <a:off x="7308720" y="2386440"/>
            <a:ext cx="2262600" cy="2262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1315800" y="52916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2" descr=""/>
          <p:cNvPicPr/>
          <p:nvPr/>
        </p:nvPicPr>
        <p:blipFill>
          <a:blip r:embed="rId1"/>
          <a:srcRect l="49263" t="44761" r="0" b="42163"/>
          <a:stretch/>
        </p:blipFill>
        <p:spPr>
          <a:xfrm flipH="1">
            <a:off x="360" y="3493440"/>
            <a:ext cx="3070800" cy="89640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合 6"/>
          <p:cNvGrpSpPr/>
          <p:nvPr/>
        </p:nvGrpSpPr>
        <p:grpSpPr>
          <a:xfrm>
            <a:off x="683640" y="33480"/>
            <a:ext cx="2880000" cy="2802240"/>
            <a:chOff x="683640" y="33480"/>
            <a:chExt cx="2880000" cy="2802240"/>
          </a:xfrm>
        </p:grpSpPr>
        <p:sp>
          <p:nvSpPr>
            <p:cNvPr id="119" name="矩形 1"/>
            <p:cNvSpPr/>
            <p:nvPr/>
          </p:nvSpPr>
          <p:spPr>
            <a:xfrm>
              <a:off x="1375200" y="825480"/>
              <a:ext cx="18878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人身意外伤害保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4"/>
            <p:cNvSpPr/>
            <p:nvPr/>
          </p:nvSpPr>
          <p:spPr>
            <a:xfrm>
              <a:off x="755640" y="1414080"/>
              <a:ext cx="2808000" cy="14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929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年，梅兰芳访美演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002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年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F4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演唱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002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年，张学友重庆演唱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008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年，纪念张国荣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-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蓝光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里蓝山继续宠爱演唱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5"/>
            <p:cNvSpPr/>
            <p:nvPr/>
          </p:nvSpPr>
          <p:spPr>
            <a:xfrm>
              <a:off x="683640" y="33480"/>
              <a:ext cx="9540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7"/>
          <p:cNvGrpSpPr/>
          <p:nvPr/>
        </p:nvGrpSpPr>
        <p:grpSpPr>
          <a:xfrm>
            <a:off x="4716000" y="1484640"/>
            <a:ext cx="2880000" cy="2292840"/>
            <a:chOff x="4716000" y="1484640"/>
            <a:chExt cx="2880000" cy="2292840"/>
          </a:xfrm>
        </p:grpSpPr>
        <p:sp>
          <p:nvSpPr>
            <p:cNvPr id="123" name="矩形 2"/>
            <p:cNvSpPr/>
            <p:nvPr/>
          </p:nvSpPr>
          <p:spPr>
            <a:xfrm>
              <a:off x="5081040" y="234900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责任保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20"/>
            <p:cNvSpPr/>
            <p:nvPr/>
          </p:nvSpPr>
          <p:spPr>
            <a:xfrm>
              <a:off x="4788000" y="2888640"/>
              <a:ext cx="28080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001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年，三大男高音紫禁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广场音乐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003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年，滚石工体演唱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21"/>
            <p:cNvSpPr/>
            <p:nvPr/>
          </p:nvSpPr>
          <p:spPr>
            <a:xfrm>
              <a:off x="4716000" y="1484640"/>
              <a:ext cx="9540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8"/>
          <p:cNvGrpSpPr/>
          <p:nvPr/>
        </p:nvGrpSpPr>
        <p:grpSpPr>
          <a:xfrm>
            <a:off x="1691640" y="2709000"/>
            <a:ext cx="4680000" cy="3128040"/>
            <a:chOff x="1691640" y="2709000"/>
            <a:chExt cx="4680000" cy="3128040"/>
          </a:xfrm>
        </p:grpSpPr>
        <p:sp>
          <p:nvSpPr>
            <p:cNvPr id="127" name="矩形 3"/>
            <p:cNvSpPr/>
            <p:nvPr/>
          </p:nvSpPr>
          <p:spPr>
            <a:xfrm>
              <a:off x="2235960" y="358200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险种开发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4"/>
            <p:cNvSpPr/>
            <p:nvPr/>
          </p:nvSpPr>
          <p:spPr>
            <a:xfrm>
              <a:off x="1763640" y="4149000"/>
              <a:ext cx="4608000" cy="16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演艺活动财产保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演艺活动公众责任保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演艺活动取消保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演艺及文化传播人员意外和健康保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文化企业贷款保证保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文化活动公共安全综合保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25"/>
            <p:cNvSpPr/>
            <p:nvPr/>
          </p:nvSpPr>
          <p:spPr>
            <a:xfrm>
              <a:off x="1691640" y="2709000"/>
              <a:ext cx="9540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矩形 9"/>
          <p:cNvSpPr/>
          <p:nvPr/>
        </p:nvSpPr>
        <p:spPr>
          <a:xfrm>
            <a:off x="3780000" y="5877360"/>
            <a:ext cx="666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《关于保险业支持文化产业发展有关工作的通知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2" descr="C:\Users\owen\Desktop\肖雅婷\未标题-21.png"/>
          <p:cNvPicPr/>
          <p:nvPr/>
        </p:nvPicPr>
        <p:blipFill>
          <a:blip r:embed="rId2"/>
          <a:stretch/>
        </p:blipFill>
        <p:spPr>
          <a:xfrm rot="5400000">
            <a:off x="7308720" y="2386440"/>
            <a:ext cx="2262600" cy="226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3" descr=""/>
          <p:cNvPicPr/>
          <p:nvPr/>
        </p:nvPicPr>
        <p:blipFill>
          <a:blip r:embed="rId1"/>
          <a:srcRect l="0" t="28940" r="0" b="0"/>
          <a:stretch/>
        </p:blipFill>
        <p:spPr>
          <a:xfrm>
            <a:off x="0" y="3611880"/>
            <a:ext cx="7596000" cy="64126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5"/>
          <p:cNvSpPr/>
          <p:nvPr/>
        </p:nvSpPr>
        <p:spPr>
          <a:xfrm>
            <a:off x="3056040" y="2205000"/>
            <a:ext cx="3214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4254480" y="2925000"/>
            <a:ext cx="6068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文化演出保险市场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4282200" y="3395880"/>
            <a:ext cx="34999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444444"/>
                </a:solidFill>
                <a:latin typeface="Meiryo"/>
                <a:ea typeface="Meiryo"/>
              </a:rPr>
              <a:t>market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C:\Users\owen\Desktop\肖雅婷\未标题-21.png"/>
          <p:cNvPicPr/>
          <p:nvPr/>
        </p:nvPicPr>
        <p:blipFill>
          <a:blip r:embed="rId2"/>
          <a:stretch/>
        </p:blipFill>
        <p:spPr>
          <a:xfrm rot="16200000">
            <a:off x="-468360" y="1917360"/>
            <a:ext cx="2262600" cy="22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3"/>
          <p:cNvSpPr/>
          <p:nvPr/>
        </p:nvSpPr>
        <p:spPr>
          <a:xfrm>
            <a:off x="447840" y="3049920"/>
            <a:ext cx="60681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需求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91840" y="3842640"/>
            <a:ext cx="4896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投保行为集中于涉外演出，国内鲜有重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投保行为集中于大型商演，常态剧院少有参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12" descr=""/>
          <p:cNvPicPr/>
          <p:nvPr/>
        </p:nvPicPr>
        <p:blipFill>
          <a:blip r:embed="rId1"/>
          <a:srcRect l="49263" t="44761" r="0" b="42163"/>
          <a:stretch/>
        </p:blipFill>
        <p:spPr>
          <a:xfrm>
            <a:off x="6131160" y="4509000"/>
            <a:ext cx="3012480" cy="89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图表 7"/>
          <p:cNvGraphicFramePr/>
          <p:nvPr/>
        </p:nvGraphicFramePr>
        <p:xfrm>
          <a:off x="467640" y="1382040"/>
          <a:ext cx="5904360" cy="360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41" name="Text Box 8"/>
          <p:cNvSpPr/>
          <p:nvPr/>
        </p:nvSpPr>
        <p:spPr>
          <a:xfrm>
            <a:off x="2699640" y="5400000"/>
            <a:ext cx="2338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专业演出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009400" y="5005800"/>
            <a:ext cx="34506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幼圆"/>
                <a:ea typeface="幼圆"/>
              </a:rPr>
              <a:t>54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467640" y="923760"/>
            <a:ext cx="396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国演出市场收入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93640" y="3904200"/>
            <a:ext cx="375552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2011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7055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个艺术团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演出</a:t>
            </a: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154.72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万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增加</a:t>
            </a: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17.57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万场增长</a:t>
            </a: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12.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艺术团体总收入</a:t>
            </a: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155.46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亿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增长</a:t>
            </a: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31.53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亿元增长</a:t>
            </a: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25.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2" descr="C:\Users\owen\Desktop\肖雅婷\未标题-21.png"/>
          <p:cNvPicPr/>
          <p:nvPr/>
        </p:nvPicPr>
        <p:blipFill>
          <a:blip r:embed="rId1"/>
          <a:stretch/>
        </p:blipFill>
        <p:spPr>
          <a:xfrm rot="5400000">
            <a:off x="7308720" y="2386440"/>
            <a:ext cx="2262600" cy="2262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C:\Users\owen\Desktop\肖雅婷\未标题-21.png"/>
          <p:cNvPicPr/>
          <p:nvPr/>
        </p:nvPicPr>
        <p:blipFill>
          <a:blip r:embed="rId2"/>
          <a:stretch/>
        </p:blipFill>
        <p:spPr>
          <a:xfrm rot="16200000">
            <a:off x="-426960" y="2390400"/>
            <a:ext cx="2262600" cy="2262600"/>
          </a:xfrm>
          <a:prstGeom prst="rect">
            <a:avLst/>
          </a:prstGeom>
          <a:ln w="0">
            <a:noFill/>
          </a:ln>
        </p:spPr>
      </p:pic>
      <p:sp>
        <p:nvSpPr>
          <p:cNvPr id="147" name="矩形 22"/>
          <p:cNvSpPr/>
          <p:nvPr/>
        </p:nvSpPr>
        <p:spPr>
          <a:xfrm>
            <a:off x="5344200" y="3112200"/>
            <a:ext cx="60681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供求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0"/>
          <p:cNvSpPr/>
          <p:nvPr/>
        </p:nvSpPr>
        <p:spPr>
          <a:xfrm>
            <a:off x="4228560" y="3842640"/>
            <a:ext cx="36356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政策颁布时日已久，鲜有公司试水落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险种条例尚未成熟，新入险种市场空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1187640" y="1917000"/>
            <a:ext cx="6863760" cy="4203000"/>
          </a:xfrm>
          <a:prstGeom prst="rect">
            <a:avLst/>
          </a:prstGeom>
          <a:ln w="0">
            <a:noFill/>
          </a:ln>
        </p:spPr>
      </p:pic>
      <p:sp>
        <p:nvSpPr>
          <p:cNvPr id="150" name="矩形 11"/>
          <p:cNvSpPr/>
          <p:nvPr/>
        </p:nvSpPr>
        <p:spPr>
          <a:xfrm>
            <a:off x="5709240" y="1269720"/>
            <a:ext cx="1827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意外险保费收入和增幅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4365360" y="548640"/>
            <a:ext cx="3983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2000-2011</a:t>
            </a:r>
            <a:r>
              <a:rPr b="0" lang="zh-CN" sz="4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15"/>
          <p:cNvGrpSpPr/>
          <p:nvPr/>
        </p:nvGrpSpPr>
        <p:grpSpPr>
          <a:xfrm>
            <a:off x="2376360" y="3107160"/>
            <a:ext cx="4571640" cy="1104120"/>
            <a:chOff x="2376360" y="3107160"/>
            <a:chExt cx="4571640" cy="1104120"/>
          </a:xfrm>
        </p:grpSpPr>
        <p:sp>
          <p:nvSpPr>
            <p:cNvPr id="153" name="矩形 13"/>
            <p:cNvSpPr/>
            <p:nvPr/>
          </p:nvSpPr>
          <p:spPr>
            <a:xfrm>
              <a:off x="2376360" y="3420720"/>
              <a:ext cx="457164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334.12 </a:t>
              </a:r>
              <a:r>
                <a:rPr b="0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亿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14"/>
            <p:cNvSpPr/>
            <p:nvPr/>
          </p:nvSpPr>
          <p:spPr>
            <a:xfrm>
              <a:off x="3961440" y="3107160"/>
              <a:ext cx="29228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</a:t>
              </a: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1.5%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2" descr="C:\Users\owen\Desktop\肖雅婷\未标题-21.png"/>
          <p:cNvPicPr/>
          <p:nvPr/>
        </p:nvPicPr>
        <p:blipFill>
          <a:blip r:embed="rId1"/>
          <a:stretch/>
        </p:blipFill>
        <p:spPr>
          <a:xfrm rot="5400000">
            <a:off x="7308720" y="2386440"/>
            <a:ext cx="2262600" cy="2262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C:\Users\owen\Desktop\肖雅婷\未标题-21.png"/>
          <p:cNvPicPr/>
          <p:nvPr/>
        </p:nvPicPr>
        <p:blipFill>
          <a:blip r:embed="rId2"/>
          <a:stretch/>
        </p:blipFill>
        <p:spPr>
          <a:xfrm rot="16200000">
            <a:off x="-426960" y="2390400"/>
            <a:ext cx="2262600" cy="2262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3"/>
          <a:stretch/>
        </p:blipFill>
        <p:spPr>
          <a:xfrm>
            <a:off x="1331640" y="1628640"/>
            <a:ext cx="6473520" cy="3866760"/>
          </a:xfrm>
          <a:prstGeom prst="rect">
            <a:avLst/>
          </a:prstGeom>
          <a:ln w="0">
            <a:noFill/>
          </a:ln>
        </p:spPr>
      </p:pic>
      <p:sp>
        <p:nvSpPr>
          <p:cNvPr id="158" name="矩形 7"/>
          <p:cNvSpPr/>
          <p:nvPr/>
        </p:nvSpPr>
        <p:spPr>
          <a:xfrm>
            <a:off x="5565240" y="1197720"/>
            <a:ext cx="1827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财产险保费收入和增幅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4221360" y="476640"/>
            <a:ext cx="3983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2000-2011</a:t>
            </a:r>
            <a:r>
              <a:rPr b="0" lang="zh-CN" sz="4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9"/>
          <p:cNvGrpSpPr/>
          <p:nvPr/>
        </p:nvGrpSpPr>
        <p:grpSpPr>
          <a:xfrm>
            <a:off x="2376360" y="3107160"/>
            <a:ext cx="4697280" cy="1004040"/>
            <a:chOff x="2376360" y="3107160"/>
            <a:chExt cx="4697280" cy="1004040"/>
          </a:xfrm>
        </p:grpSpPr>
        <p:sp>
          <p:nvSpPr>
            <p:cNvPr id="161" name="矩形 10"/>
            <p:cNvSpPr/>
            <p:nvPr/>
          </p:nvSpPr>
          <p:spPr>
            <a:xfrm>
              <a:off x="2376360" y="3420720"/>
              <a:ext cx="4571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4617.82</a:t>
              </a:r>
              <a:r>
                <a:rPr b="0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亿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11"/>
            <p:cNvSpPr/>
            <p:nvPr/>
          </p:nvSpPr>
          <p:spPr>
            <a:xfrm>
              <a:off x="4150800" y="3107160"/>
              <a:ext cx="29228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8.54%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墨山水"/>
          <p:cNvPicPr/>
          <p:nvPr/>
        </p:nvPicPr>
        <p:blipFill>
          <a:blip r:embed="rId1"/>
          <a:srcRect l="0" t="0" r="43914" b="45135"/>
          <a:stretch/>
        </p:blipFill>
        <p:spPr>
          <a:xfrm flipH="1">
            <a:off x="3419640" y="3573000"/>
            <a:ext cx="5724360" cy="23695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467640" y="1795320"/>
            <a:ext cx="5328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演出产业链风险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4100"/>
          <p:cNvGrpSpPr/>
          <p:nvPr/>
        </p:nvGrpSpPr>
        <p:grpSpPr>
          <a:xfrm>
            <a:off x="611640" y="2997000"/>
            <a:ext cx="4680720" cy="2808000"/>
            <a:chOff x="611640" y="2997000"/>
            <a:chExt cx="4680720" cy="2808000"/>
          </a:xfrm>
        </p:grpSpPr>
        <p:grpSp>
          <p:nvGrpSpPr>
            <p:cNvPr id="166" name="组合 4096"/>
            <p:cNvGrpSpPr/>
            <p:nvPr/>
          </p:nvGrpSpPr>
          <p:grpSpPr>
            <a:xfrm>
              <a:off x="611640" y="2997000"/>
              <a:ext cx="4680720" cy="2592000"/>
              <a:chOff x="611640" y="2997000"/>
              <a:chExt cx="4680720" cy="2592000"/>
            </a:xfrm>
          </p:grpSpPr>
          <p:sp>
            <p:nvSpPr>
              <p:cNvPr id="167" name="矩形 7"/>
              <p:cNvSpPr/>
              <p:nvPr/>
            </p:nvSpPr>
            <p:spPr>
              <a:xfrm>
                <a:off x="611640" y="4005000"/>
                <a:ext cx="2160000" cy="719640"/>
              </a:xfrm>
              <a:prstGeom prst="rect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演出保险行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矩形 9"/>
              <p:cNvSpPr/>
              <p:nvPr/>
            </p:nvSpPr>
            <p:spPr>
              <a:xfrm>
                <a:off x="3419280" y="2997000"/>
                <a:ext cx="1872360" cy="467640"/>
              </a:xfrm>
              <a:prstGeom prst="rect">
                <a:avLst/>
              </a:prstGeom>
              <a:solidFill>
                <a:schemeClr val="tx1">
                  <a:lumMod val="95000"/>
                  <a:lumOff val="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资金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矩形 10"/>
              <p:cNvSpPr/>
              <p:nvPr/>
            </p:nvSpPr>
            <p:spPr>
              <a:xfrm>
                <a:off x="3420000" y="3573000"/>
                <a:ext cx="1872360" cy="467640"/>
              </a:xfrm>
              <a:prstGeom prst="rect">
                <a:avLst/>
              </a:prstGeom>
              <a:solidFill>
                <a:schemeClr val="tx1">
                  <a:lumMod val="95000"/>
                  <a:lumOff val="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演出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矩形 11"/>
              <p:cNvSpPr/>
              <p:nvPr/>
            </p:nvSpPr>
            <p:spPr>
              <a:xfrm>
                <a:off x="3419280" y="4149000"/>
                <a:ext cx="1872360" cy="467640"/>
              </a:xfrm>
              <a:prstGeom prst="rect">
                <a:avLst/>
              </a:prstGeom>
              <a:solidFill>
                <a:schemeClr val="tx1">
                  <a:lumMod val="95000"/>
                  <a:lumOff val="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产品或服务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矩形 12"/>
              <p:cNvSpPr/>
              <p:nvPr/>
            </p:nvSpPr>
            <p:spPr>
              <a:xfrm>
                <a:off x="3420000" y="4725360"/>
                <a:ext cx="1872360" cy="467640"/>
              </a:xfrm>
              <a:prstGeom prst="rect">
                <a:avLst/>
              </a:prstGeom>
              <a:solidFill>
                <a:schemeClr val="tx1">
                  <a:lumMod val="95000"/>
                  <a:lumOff val="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信用或票务服务链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72" name="直接连接符 13"/>
              <p:cNvCxnSpPr/>
              <p:nvPr/>
            </p:nvCxnSpPr>
            <p:spPr>
              <a:xfrm>
                <a:off x="4355280" y="3465000"/>
                <a:ext cx="1080" cy="108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73" name="直接连接符 15"/>
              <p:cNvCxnSpPr/>
              <p:nvPr/>
            </p:nvCxnSpPr>
            <p:spPr>
              <a:xfrm flipH="1">
                <a:off x="4355280" y="4041000"/>
                <a:ext cx="720" cy="108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74" name="直接连接符 16"/>
              <p:cNvCxnSpPr/>
              <p:nvPr/>
            </p:nvCxnSpPr>
            <p:spPr>
              <a:xfrm>
                <a:off x="4355640" y="4617000"/>
                <a:ext cx="720" cy="108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75" name="直接连接符 20"/>
              <p:cNvCxnSpPr/>
              <p:nvPr/>
            </p:nvCxnSpPr>
            <p:spPr>
              <a:xfrm flipH="1">
                <a:off x="3130920" y="3230640"/>
                <a:ext cx="1080" cy="235872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76" name="直接连接符 24"/>
              <p:cNvCxnSpPr/>
              <p:nvPr/>
            </p:nvCxnSpPr>
            <p:spPr>
              <a:xfrm>
                <a:off x="3131640" y="3230640"/>
                <a:ext cx="28764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77" name="直接连接符 27"/>
              <p:cNvCxnSpPr/>
              <p:nvPr/>
            </p:nvCxnSpPr>
            <p:spPr>
              <a:xfrm>
                <a:off x="3132360" y="3825000"/>
                <a:ext cx="28764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78" name="直接连接符 28"/>
              <p:cNvCxnSpPr/>
              <p:nvPr/>
            </p:nvCxnSpPr>
            <p:spPr>
              <a:xfrm>
                <a:off x="3131640" y="4401000"/>
                <a:ext cx="28764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79" name="直接连接符 29"/>
              <p:cNvCxnSpPr/>
              <p:nvPr/>
            </p:nvCxnSpPr>
            <p:spPr>
              <a:xfrm>
                <a:off x="3131640" y="4977000"/>
                <a:ext cx="28764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80" name="直接连接符 30"/>
              <p:cNvCxnSpPr/>
              <p:nvPr/>
            </p:nvCxnSpPr>
            <p:spPr>
              <a:xfrm>
                <a:off x="2771640" y="4383720"/>
                <a:ext cx="35964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</p:grpSp>
        <p:sp>
          <p:nvSpPr>
            <p:cNvPr id="181" name="矩形 34"/>
            <p:cNvSpPr/>
            <p:nvPr/>
          </p:nvSpPr>
          <p:spPr>
            <a:xfrm>
              <a:off x="3420000" y="5337360"/>
              <a:ext cx="1872360" cy="467640"/>
            </a:xfrm>
            <a:prstGeom prst="rect">
              <a:avLst/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宏观环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直接连接符 35"/>
            <p:cNvCxnSpPr>
              <a:endCxn id="181" idx="0"/>
            </p:cNvCxnSpPr>
            <p:nvPr/>
          </p:nvCxnSpPr>
          <p:spPr>
            <a:xfrm>
              <a:off x="4356000" y="5193000"/>
              <a:ext cx="360" cy="144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83" name="直接连接符 36"/>
            <p:cNvCxnSpPr/>
            <p:nvPr/>
          </p:nvCxnSpPr>
          <p:spPr>
            <a:xfrm>
              <a:off x="3131640" y="5589000"/>
              <a:ext cx="28764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pic>
        <p:nvPicPr>
          <p:cNvPr id="184" name="Picture 12" descr="C:\Users\owen\Desktop\肖雅婷\未标题-21.png"/>
          <p:cNvPicPr/>
          <p:nvPr/>
        </p:nvPicPr>
        <p:blipFill>
          <a:blip r:embed="rId2"/>
          <a:stretch/>
        </p:blipFill>
        <p:spPr>
          <a:xfrm rot="5400000">
            <a:off x="7308720" y="1048320"/>
            <a:ext cx="2262600" cy="226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  <Words>617</Words>
  <Paragraphs>1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9:35:37Z</dcterms:created>
  <dc:creator>owen</dc:creator>
  <dc:description/>
  <dc:language>en-US</dc:language>
  <cp:lastModifiedBy>a</cp:lastModifiedBy>
  <dcterms:modified xsi:type="dcterms:W3CDTF">2015-07-25T11:53:26Z</dcterms:modified>
  <cp:revision>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4</vt:r8>
  </property>
</Properties>
</file>