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7E3-0FD9-4447-BBDB-2495F6C6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F2C-B133-43D7-9B2D-7B303012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8A3-26C8-4099-A209-45E1ECF1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E19-189F-4551-BF55-FD9AFBA2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52F0-DA0E-4E9F-81B6-5FBB2352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FF4E-11C6-4000-AAAA-CE42024C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B7B7-DBFA-43D8-9279-495BF4E1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4D8C-C102-47D2-9307-366B8E44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947E-B9AD-4DAA-8843-4F4A46A1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968C-8B90-4398-A892-8B60E379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7E8C-7816-4611-848A-592E3E71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DCD-637E-488B-9EF2-3A409E6B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D4CC-7879-484D-AD35-D880D29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C2C4-BD8D-4ABF-9D95-043E266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20E3-80AE-47F8-A114-BC2139A2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022E-AB04-4E6B-A204-F580A94D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1960-BF55-4447-A867-576FB24B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B65-37AA-4B9E-BDAC-8B1F9464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780-CAB4-437C-9E2A-FB75C040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683-A45C-4B72-A3E2-33E5A576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1DF-7555-40B7-8146-BEC85CB2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258-F5A7-4B5B-A528-3C48A99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2C1-ECDB-4B87-8828-7838CD35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0202-E12B-48EF-809D-352733FD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FF4D-420D-4140-84D9-1A2ADFBC0D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514F-DD87-4752-8B0F-0AC10D54D2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2574720" y="20574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江南春晓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幻灯片 http://www.eeppt.com</dc:creator>
  <dc:description/>
  <cp:keywords>幻灯片 http:/www.eeppt.com</cp:keywords>
  <dc:language>en-US</dc:language>
  <cp:lastModifiedBy/>
  <dcterms:modified xsi:type="dcterms:W3CDTF">2015-07-25T11:39:22Z</dcterms:modified>
  <cp:revision>0</cp:revision>
  <dc:subject/>
  <dc:title/>
</cp:coreProperties>
</file>