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4EB-4BD8-461B-AAB7-C5DC4DFD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609-5582-4E2C-B721-CD06AD6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D1C-7B03-4CA7-A1A1-4548DCD3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BCA-1AB3-4789-A468-EA06AE65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E6C-C6BC-4D69-BF54-846B7BAE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1319-B73C-4290-93CC-F6246B0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0A6B-790E-4352-AADA-2766BF8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B0E-11DB-4735-8A5F-551FF8D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49F-2695-4A3B-99C5-2DA314B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7772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155F-1A6A-4CFF-8F00-60D4DD7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F829-0621-41AC-841F-50D1E6D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0AC-A955-438F-9065-AAA4AE29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DB2-1D88-4B6E-8DC7-3D27EAE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A0B2-84FA-491A-8870-D4E7883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77A-90D3-4B42-90BF-0C799D2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9D7-BFCC-437E-A4A6-14BF5BA1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64F-71D2-4D40-9B2E-60DC409B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6D1-2D2C-4A16-9E85-AE1ED74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F8C-56A6-4FFF-A327-545E9AD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CEB-7EA6-4A70-A6E8-3CD91EA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7772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E55-827D-4ADA-BFD4-ADC8CFF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F91-A8B2-46C7-A93C-381A990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421-9D78-454D-887C-760F1E5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DF6-9835-49B3-AFF1-EDE77D8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3600" spc="-1" strike="noStrike">
                <a:solidFill>
                  <a:srgbClr val="ffffff"/>
                </a:solidFill>
                <a:latin typeface="Arial Black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A41C9-D02F-4260-9888-CA41046AF4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a1401d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a1401d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a1401d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a1401d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a1401d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3600" spc="-1" strike="noStrike">
                <a:solidFill>
                  <a:srgbClr val="ffffff"/>
                </a:solidFill>
                <a:latin typeface="Arial Black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a1401d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1401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a1401d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a1401d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a1401d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a1401d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a1401d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a1401d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a1401d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FC1873-D26A-47A3-B428-0A184B1BB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简约创意设计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181480"/>
            <a:ext cx="77720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a1401d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63396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_the_classroom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_the_classroom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_the_classroom</Template>
  <TotalTime>3</TotalTime>
  <Application>LibreOffice/7.4.7.2$Linux_X86_64 LibreOffice_project/40$Build-2</Application>
  <AppVersion>15.0000</AppVersion>
  <Words>49</Words>
  <Paragraphs>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06:12:11Z</dcterms:created>
  <dc:creator>微软中国</dc:creator>
  <dc:description/>
  <dc:language>en-US</dc:language>
  <cp:lastModifiedBy>a</cp:lastModifiedBy>
  <dcterms:modified xsi:type="dcterms:W3CDTF">2015-07-24T07:14:46Z</dcterms:modified>
  <cp:revision>2</cp:revision>
  <dc:subject/>
  <dc:title>IN TH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