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A05-369E-4BF2-803E-D3886092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7AE-CE22-4FF8-A4BE-18E10A5C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0B0-4BB9-4020-9DE9-8F364C61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5852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9776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1964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5852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9776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940-58EA-4BB3-A40A-3C426B2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68DE-2396-4D7E-934C-71D9A683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86D8-DC75-448F-89E5-5B87B369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5E6-D52A-4CD5-BA9F-23519D6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0AD1-FCE7-4DED-AF09-8F2E8B76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F96E-75B3-40D5-A9DD-8E645940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124-DABD-4DC9-8E87-12EF081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A95-6220-4CF1-BDC4-02B37F3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CBD-BE41-48B5-B1FA-3C51DC94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E19B-F4A4-4C8D-912E-C1B63DB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B3D0-6B7B-41DA-921C-B8FAD21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DA3-A1EF-4372-9424-61307C7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D829-6E20-4CDA-9EBB-7366411D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852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7760" y="162864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1964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5852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7760" y="2042280"/>
            <a:ext cx="26082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25C6-870B-4D6C-A1BA-FE3A01C5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70C-AC25-4486-8407-1CB18CE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235-531C-476A-9549-BAC57AD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3D4-C1BB-488B-A53C-54A820E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708-0E1E-4818-990E-BEF359E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A84-7C04-4E61-AABF-8F347CF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70440" y="204228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D0F-B7C3-4D81-BBA2-D51D84D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6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0440" y="1628640"/>
            <a:ext cx="395280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9640" y="2042280"/>
            <a:ext cx="8100720" cy="3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FB0-06CE-4D81-AE52-0CC108E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1052640"/>
            <a:ext cx="9143640" cy="54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90792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3" name="图片 6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" name="矩形 7"/>
          <p:cNvSpPr/>
          <p:nvPr/>
        </p:nvSpPr>
        <p:spPr>
          <a:xfrm>
            <a:off x="0" y="4797360"/>
            <a:ext cx="9143640" cy="1726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0" y="465300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" name="直接连接符 12"/>
          <p:cNvCxnSpPr/>
          <p:nvPr/>
        </p:nvCxnSpPr>
        <p:spPr>
          <a:xfrm>
            <a:off x="0" y="4832280"/>
            <a:ext cx="9144360" cy="360"/>
          </a:xfrm>
          <a:prstGeom prst="straightConnector1">
            <a:avLst/>
          </a:prstGeom>
          <a:ln w="3175">
            <a:solidFill>
              <a:srgbClr val="4a7ebb"/>
            </a:solidFill>
            <a:prstDash val="lgDash"/>
            <a:round/>
          </a:ln>
        </p:spPr>
      </p:cxnSp>
      <p:cxnSp>
        <p:nvCxnSpPr>
          <p:cNvPr id="7" name="直接连接符 14"/>
          <p:cNvCxnSpPr/>
          <p:nvPr/>
        </p:nvCxnSpPr>
        <p:spPr>
          <a:xfrm>
            <a:off x="0" y="6484680"/>
            <a:ext cx="9144360" cy="360"/>
          </a:xfrm>
          <a:prstGeom prst="straightConnector1">
            <a:avLst/>
          </a:prstGeom>
          <a:ln w="3175">
            <a:solidFill>
              <a:srgbClr val="4a7ebb"/>
            </a:solidFill>
            <a:prstDash val="lgDash"/>
            <a:round/>
          </a:ln>
        </p:spPr>
      </p:cxn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71964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275280" y="2709000"/>
            <a:ext cx="583308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0C3A96-69A1-40F3-ADD5-7091926BD2BF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1" name="矩形 7"/>
          <p:cNvSpPr/>
          <p:nvPr/>
        </p:nvSpPr>
        <p:spPr>
          <a:xfrm>
            <a:off x="0" y="1052640"/>
            <a:ext cx="9143640" cy="54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0" y="907920"/>
            <a:ext cx="9143640" cy="14400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7030a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5060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57FECD-2DFD-44E9-A9B0-0414C1CF3524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Num" idx="7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4986A1-D190-44DD-9E28-67710D7367F8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928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简约蓝色底纹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74920" y="2708280"/>
            <a:ext cx="583380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母版附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268360" y="5084640"/>
            <a:ext cx="431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演讲人』</a:t>
            </a: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休得放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340000" y="5732640"/>
            <a:ext cx="431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时   间』</a:t>
            </a:r>
            <a:r>
              <a:rPr b="0" lang="en-US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2011.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7561440" y="6156360"/>
            <a:ext cx="16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ID:ashui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5060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  录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Num" idx="8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E359D-2ACD-471A-BFC6-CB69DE3CAD31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组合 12"/>
          <p:cNvGrpSpPr/>
          <p:nvPr/>
        </p:nvGrpSpPr>
        <p:grpSpPr>
          <a:xfrm>
            <a:off x="1347840" y="1989000"/>
            <a:ext cx="6279480" cy="502920"/>
            <a:chOff x="1347840" y="1989000"/>
            <a:chExt cx="6279480" cy="502920"/>
          </a:xfrm>
        </p:grpSpPr>
        <p:cxnSp>
          <p:nvCxnSpPr>
            <p:cNvPr id="104" name="直接连接符 7"/>
            <p:cNvCxnSpPr/>
            <p:nvPr/>
          </p:nvCxnSpPr>
          <p:spPr>
            <a:xfrm>
              <a:off x="1419120" y="2477880"/>
              <a:ext cx="568980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05" name="圆角矩形 5"/>
            <p:cNvSpPr/>
            <p:nvPr/>
          </p:nvSpPr>
          <p:spPr>
            <a:xfrm>
              <a:off x="1347840" y="1989000"/>
              <a:ext cx="502920" cy="50292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连接符 8"/>
            <p:cNvCxnSpPr/>
            <p:nvPr/>
          </p:nvCxnSpPr>
          <p:spPr>
            <a:xfrm>
              <a:off x="7108560" y="2450880"/>
              <a:ext cx="50364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07" name="TextBox 10"/>
            <p:cNvSpPr/>
            <p:nvPr/>
          </p:nvSpPr>
          <p:spPr>
            <a:xfrm>
              <a:off x="1995840" y="1989000"/>
              <a:ext cx="51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1"/>
            <p:cNvSpPr/>
            <p:nvPr/>
          </p:nvSpPr>
          <p:spPr>
            <a:xfrm>
              <a:off x="7196040" y="1989000"/>
              <a:ext cx="431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3"/>
          <p:cNvGrpSpPr/>
          <p:nvPr/>
        </p:nvGrpSpPr>
        <p:grpSpPr>
          <a:xfrm>
            <a:off x="1347840" y="2949480"/>
            <a:ext cx="6279480" cy="502920"/>
            <a:chOff x="1347840" y="2949480"/>
            <a:chExt cx="6279480" cy="502920"/>
          </a:xfrm>
        </p:grpSpPr>
        <p:cxnSp>
          <p:nvCxnSpPr>
            <p:cNvPr id="110" name="直接连接符 14"/>
            <p:cNvCxnSpPr/>
            <p:nvPr/>
          </p:nvCxnSpPr>
          <p:spPr>
            <a:xfrm>
              <a:off x="1419120" y="3438360"/>
              <a:ext cx="568980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11" name="圆角矩形 15"/>
            <p:cNvSpPr/>
            <p:nvPr/>
          </p:nvSpPr>
          <p:spPr>
            <a:xfrm>
              <a:off x="1347840" y="2949480"/>
              <a:ext cx="502920" cy="50292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连接符 16"/>
            <p:cNvCxnSpPr/>
            <p:nvPr/>
          </p:nvCxnSpPr>
          <p:spPr>
            <a:xfrm>
              <a:off x="7108560" y="3411360"/>
              <a:ext cx="50364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13" name="TextBox 17"/>
            <p:cNvSpPr/>
            <p:nvPr/>
          </p:nvSpPr>
          <p:spPr>
            <a:xfrm>
              <a:off x="1995840" y="2949480"/>
              <a:ext cx="51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8"/>
            <p:cNvSpPr/>
            <p:nvPr/>
          </p:nvSpPr>
          <p:spPr>
            <a:xfrm>
              <a:off x="7196040" y="2949480"/>
              <a:ext cx="431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9"/>
          <p:cNvGrpSpPr/>
          <p:nvPr/>
        </p:nvGrpSpPr>
        <p:grpSpPr>
          <a:xfrm>
            <a:off x="1347840" y="3908520"/>
            <a:ext cx="6319440" cy="504360"/>
            <a:chOff x="1347840" y="3908520"/>
            <a:chExt cx="6319440" cy="504360"/>
          </a:xfrm>
        </p:grpSpPr>
        <p:cxnSp>
          <p:nvCxnSpPr>
            <p:cNvPr id="116" name="直接连接符 20"/>
            <p:cNvCxnSpPr/>
            <p:nvPr/>
          </p:nvCxnSpPr>
          <p:spPr>
            <a:xfrm>
              <a:off x="1419120" y="4398840"/>
              <a:ext cx="568836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17" name="圆角矩形 21"/>
            <p:cNvSpPr/>
            <p:nvPr/>
          </p:nvSpPr>
          <p:spPr>
            <a:xfrm>
              <a:off x="1347840" y="3908520"/>
              <a:ext cx="502920" cy="50436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直接连接符 22"/>
            <p:cNvCxnSpPr/>
            <p:nvPr/>
          </p:nvCxnSpPr>
          <p:spPr>
            <a:xfrm>
              <a:off x="7107120" y="4371840"/>
              <a:ext cx="50508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19" name="TextBox 23"/>
            <p:cNvSpPr/>
            <p:nvPr/>
          </p:nvSpPr>
          <p:spPr>
            <a:xfrm>
              <a:off x="1995840" y="3908520"/>
              <a:ext cx="5183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4"/>
            <p:cNvSpPr/>
            <p:nvPr/>
          </p:nvSpPr>
          <p:spPr>
            <a:xfrm>
              <a:off x="7107120" y="3908520"/>
              <a:ext cx="560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5"/>
          <p:cNvGrpSpPr/>
          <p:nvPr/>
        </p:nvGrpSpPr>
        <p:grpSpPr>
          <a:xfrm>
            <a:off x="1347840" y="4869000"/>
            <a:ext cx="6319440" cy="504360"/>
            <a:chOff x="1347840" y="4869000"/>
            <a:chExt cx="6319440" cy="504360"/>
          </a:xfrm>
        </p:grpSpPr>
        <p:cxnSp>
          <p:nvCxnSpPr>
            <p:cNvPr id="122" name="直接连接符 26"/>
            <p:cNvCxnSpPr/>
            <p:nvPr/>
          </p:nvCxnSpPr>
          <p:spPr>
            <a:xfrm>
              <a:off x="1419120" y="5359320"/>
              <a:ext cx="5688360" cy="360"/>
            </a:xfrm>
            <a:prstGeom prst="straightConnector1">
              <a:avLst/>
            </a:prstGeom>
            <a:ln w="6350"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23" name="圆角矩形 27"/>
            <p:cNvSpPr/>
            <p:nvPr/>
          </p:nvSpPr>
          <p:spPr>
            <a:xfrm>
              <a:off x="1347840" y="4869000"/>
              <a:ext cx="502920" cy="504360"/>
            </a:xfrm>
            <a:prstGeom prst="roundRect">
              <a:avLst>
                <a:gd name="adj" fmla="val 8243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直接连接符 28"/>
            <p:cNvCxnSpPr/>
            <p:nvPr/>
          </p:nvCxnSpPr>
          <p:spPr>
            <a:xfrm>
              <a:off x="7107120" y="5332320"/>
              <a:ext cx="505080" cy="360"/>
            </a:xfrm>
            <a:prstGeom prst="straightConnector1">
              <a:avLst/>
            </a:prstGeom>
            <a:ln w="76200">
              <a:solidFill>
                <a:srgbClr val="4f81bd">
                  <a:lumMod val="75000"/>
                </a:srgbClr>
              </a:solidFill>
              <a:round/>
            </a:ln>
          </p:spPr>
        </p:cxnSp>
        <p:sp>
          <p:nvSpPr>
            <p:cNvPr id="125" name="TextBox 29"/>
            <p:cNvSpPr/>
            <p:nvPr/>
          </p:nvSpPr>
          <p:spPr>
            <a:xfrm>
              <a:off x="1995840" y="4869000"/>
              <a:ext cx="5183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0"/>
            <p:cNvSpPr/>
            <p:nvPr/>
          </p:nvSpPr>
          <p:spPr>
            <a:xfrm>
              <a:off x="7107120" y="4869000"/>
              <a:ext cx="560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1"/>
                  </a:solidFill>
                  <a:latin typeface="DFPYeaSong-B5"/>
                  <a:ea typeface="DFPYeaSong-B5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Num" idx="9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25A35C-BE22-4B02-B6F9-AD331072E03A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XINYANGMIAN\AppData\Local\Microsoft\Windows\Temporary Internet Files\Content.IE5\1S5MGU5L\8eab9e8ac3d0694c3b4b8048d4_560[1].jpg"/>
          <p:cNvPicPr/>
          <p:nvPr/>
        </p:nvPicPr>
        <p:blipFill>
          <a:blip r:embed="rId1"/>
          <a:stretch/>
        </p:blipFill>
        <p:spPr>
          <a:xfrm>
            <a:off x="108000" y="2097000"/>
            <a:ext cx="3024000" cy="377964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高考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132000" y="2511360"/>
            <a:ext cx="5471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小孩会问：高考好吃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小孩会说：高考打得过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outman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5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学生会说：还有几年才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7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高中学说：不是人干的事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岁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我说：高考比过日子简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10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BA639D-151A-4F85-9F17-B06E7150644B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你的高考蛋疼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900000" y="1989000"/>
            <a:ext cx="367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鸣惊人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默默无闻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皆大欢喜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郁郁而终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次搞定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卷土复读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无人问津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是</a:t>
            </a: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路人皆知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ufo-1.cn/uploadfile/201010/12/93733401.JPG"/>
          <p:cNvPicPr/>
          <p:nvPr/>
        </p:nvPicPr>
        <p:blipFill>
          <a:blip r:embed="rId1"/>
          <a:stretch/>
        </p:blipFill>
        <p:spPr>
          <a:xfrm>
            <a:off x="5457960" y="3573360"/>
            <a:ext cx="3685680" cy="293328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13"/>
          <p:cNvSpPr/>
          <p:nvPr/>
        </p:nvSpPr>
        <p:spPr>
          <a:xfrm>
            <a:off x="932040" y="4583160"/>
            <a:ext cx="395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无论结果如何，都蛋疼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 rot="397200">
            <a:off x="4554720" y="245088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JUST  EGG PA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8760" y="115920"/>
            <a:ext cx="6716520" cy="71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那年头没高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 GK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Num" idx="11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1C4BF6-DC23-4DF3-B952-D522B6A4E60D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7164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7596360" y="1052640"/>
            <a:ext cx="4312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8028000" y="1052640"/>
            <a:ext cx="431280" cy="431280"/>
          </a:xfrm>
          <a:prstGeom prst="rect">
            <a:avLst/>
          </a:prstGeom>
          <a:solidFill>
            <a:schemeClr val="accent4"/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8459640" y="1052640"/>
            <a:ext cx="433080" cy="431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317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71280" y="620640"/>
            <a:ext cx="1404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971640" y="1197000"/>
            <a:ext cx="4752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高考在你梦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397200">
            <a:off x="4947120" y="19620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NIGHTMARE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a4.att.hudong.com/74/02/300000868259129367026963028_950.jpg"/>
          <p:cNvPicPr/>
          <p:nvPr/>
        </p:nvPicPr>
        <p:blipFill>
          <a:blip r:embed="rId1"/>
          <a:srcRect l="0" t="0" r="0" b="6841"/>
          <a:stretch/>
        </p:blipFill>
        <p:spPr>
          <a:xfrm>
            <a:off x="5003640" y="2924280"/>
            <a:ext cx="3809520" cy="3549240"/>
          </a:xfrm>
          <a:prstGeom prst="rect">
            <a:avLst/>
          </a:prstGeom>
          <a:ln w="9525">
            <a:noFill/>
          </a:ln>
        </p:spPr>
      </p:pic>
      <p:grpSp>
        <p:nvGrpSpPr>
          <p:cNvPr id="159" name="组合 17"/>
          <p:cNvGrpSpPr/>
          <p:nvPr/>
        </p:nvGrpSpPr>
        <p:grpSpPr>
          <a:xfrm>
            <a:off x="684360" y="2133720"/>
            <a:ext cx="3887280" cy="533880"/>
            <a:chOff x="684360" y="2133720"/>
            <a:chExt cx="3887280" cy="533880"/>
          </a:xfrm>
        </p:grpSpPr>
        <p:sp>
          <p:nvSpPr>
            <p:cNvPr id="160" name="矩形 16"/>
            <p:cNvSpPr/>
            <p:nvPr/>
          </p:nvSpPr>
          <p:spPr>
            <a:xfrm rot="21411000">
              <a:off x="788760" y="2414520"/>
              <a:ext cx="2700000" cy="1789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矩形 15"/>
            <p:cNvSpPr/>
            <p:nvPr/>
          </p:nvSpPr>
          <p:spPr>
            <a:xfrm>
              <a:off x="684360" y="2133720"/>
              <a:ext cx="3887280" cy="4305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老师还在喋喋不休讲解真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8"/>
          <p:cNvGrpSpPr/>
          <p:nvPr/>
        </p:nvGrpSpPr>
        <p:grpSpPr>
          <a:xfrm>
            <a:off x="684360" y="3068640"/>
            <a:ext cx="3887280" cy="535680"/>
            <a:chOff x="684360" y="3068640"/>
            <a:chExt cx="3887280" cy="535680"/>
          </a:xfrm>
        </p:grpSpPr>
        <p:sp>
          <p:nvSpPr>
            <p:cNvPr id="163" name="矩形 19"/>
            <p:cNvSpPr/>
            <p:nvPr/>
          </p:nvSpPr>
          <p:spPr>
            <a:xfrm rot="21411000">
              <a:off x="788760" y="3349440"/>
              <a:ext cx="2700000" cy="1807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矩形 20"/>
            <p:cNvSpPr/>
            <p:nvPr/>
          </p:nvSpPr>
          <p:spPr>
            <a:xfrm>
              <a:off x="684360" y="3068640"/>
              <a:ext cx="3887280" cy="4323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考场上有道数学题做不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684360" y="4005360"/>
            <a:ext cx="3887280" cy="535680"/>
            <a:chOff x="684360" y="4005360"/>
            <a:chExt cx="3887280" cy="535680"/>
          </a:xfrm>
        </p:grpSpPr>
        <p:sp>
          <p:nvSpPr>
            <p:cNvPr id="166" name="矩形 22"/>
            <p:cNvSpPr/>
            <p:nvPr/>
          </p:nvSpPr>
          <p:spPr>
            <a:xfrm rot="21411000">
              <a:off x="788760" y="4286160"/>
              <a:ext cx="2700000" cy="1807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矩形 23"/>
            <p:cNvSpPr/>
            <p:nvPr/>
          </p:nvSpPr>
          <p:spPr>
            <a:xfrm>
              <a:off x="684360" y="4005360"/>
              <a:ext cx="3887280" cy="432360"/>
            </a:xfrm>
            <a:prstGeom prst="rect">
              <a:avLst/>
            </a:prstGeom>
            <a:gradFill rotWithShape="0">
              <a:gsLst>
                <a:gs pos="0">
                  <a:srgbClr val="467fc4"/>
                </a:gs>
                <a:gs pos="100000">
                  <a:srgbClr val="294c74"/>
                </a:gs>
              </a:gsLst>
              <a:lin ang="2700000"/>
            </a:gradFill>
            <a:ln w="3175">
              <a:solidFill>
                <a:srgbClr val="4f81bd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你没有考上你心仪的大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5"/>
          <p:cNvGrpSpPr/>
          <p:nvPr/>
        </p:nvGrpSpPr>
        <p:grpSpPr>
          <a:xfrm>
            <a:off x="684360" y="5013360"/>
            <a:ext cx="3887280" cy="759240"/>
            <a:chOff x="684360" y="5013360"/>
            <a:chExt cx="3887280" cy="759240"/>
          </a:xfrm>
        </p:grpSpPr>
        <p:sp>
          <p:nvSpPr>
            <p:cNvPr id="169" name="矩形 26"/>
            <p:cNvSpPr/>
            <p:nvPr/>
          </p:nvSpPr>
          <p:spPr>
            <a:xfrm rot="21411000">
              <a:off x="788760" y="5519520"/>
              <a:ext cx="2700000" cy="1789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684360" y="5013360"/>
              <a:ext cx="3887280" cy="64728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977100"/>
                </a:gs>
              </a:gsLst>
              <a:lin ang="27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考的梦一遍又一遍的重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6"/>
          <p:cNvSpPr/>
          <p:nvPr/>
        </p:nvSpPr>
        <p:spPr>
          <a:xfrm>
            <a:off x="71280" y="60379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Num" idx="12"/>
          </p:nvPr>
        </p:nvSpPr>
        <p:spPr>
          <a:xfrm>
            <a:off x="6831000" y="65199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61C36-BC3B-4B5B-9D54-858A27623C96}" type="slidenum">
              <a:rPr b="0" lang="en-US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1628640"/>
            <a:ext cx="81007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HANKS FOR YOUR LINSTE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867280" y="2708280"/>
            <a:ext cx="28094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聆听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303640" y="5084640"/>
            <a:ext cx="432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休得放肆无聊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303640" y="5732640"/>
            <a:ext cx="432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喜欢且下不喜顶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7561440" y="6156360"/>
            <a:ext cx="16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ID:ashui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占位符 16"/>
          <p:cNvSpPr/>
          <p:nvPr/>
        </p:nvSpPr>
        <p:spPr>
          <a:xfrm>
            <a:off x="611280" y="404640"/>
            <a:ext cx="810072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endParaRPr b="1" lang="en-US" sz="36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  <Words>294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3:19:03Z</dcterms:created>
  <dc:creator>ppt宝藏</dc:creator>
  <dc:description/>
  <dc:language>en-US</dc:language>
  <cp:lastModifiedBy>a</cp:lastModifiedBy>
  <dcterms:modified xsi:type="dcterms:W3CDTF">2015-07-24T08:51:31Z</dcterms:modified>
  <cp:revision>1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