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B5C-4ED3-43BB-96C0-7AC64FE9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C35-664E-4651-9FDF-EA3D75D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90E-FE90-40E3-83B3-6322F712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684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532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684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532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3E2-74C7-44AB-8134-35C48D5A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AA84-A669-482D-A3D4-D247A796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CF47-E90F-44A3-9A03-2DDB6D98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CC6F-92FB-4360-ACAA-1299C11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2E7-D724-4A95-9F2B-911F483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47D-805E-48A5-97AC-B6482163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115920"/>
            <a:ext cx="78375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5CA9-EEAB-42B3-B2CD-F2328B8A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3CF-0C86-4409-96DF-2484A3E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0A6-6C10-4068-A80C-AA759F8D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CDB4-2018-458C-A681-929C8E88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B7C4-2285-4111-B999-1884C25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E869-4273-4B22-823F-3A73DB70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6076-12C9-47F7-9343-6CF634EE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684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532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00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684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532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957C-5B6F-4630-84DC-4C80DECD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2F6-A840-472C-90A7-723A0E3A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E5A-89C3-4F66-BB9E-BF7F873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2C3-2940-4136-BF2A-0330084B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115920"/>
            <a:ext cx="78375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E7A-3BE5-4310-8FE7-88E53C49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165-13AC-446F-B104-995CFC4B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86F-460D-4230-95FF-EA299F5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B51-F0C8-4CBB-AFCE-3334CE3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72363"/>
              </a:gs>
              <a:gs pos="100000">
                <a:srgbClr val="0f4c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4"/>
          <p:cNvSpPr/>
          <p:nvPr/>
        </p:nvSpPr>
        <p:spPr>
          <a:xfrm>
            <a:off x="0" y="838080"/>
            <a:ext cx="9144000" cy="152640"/>
          </a:xfrm>
          <a:prstGeom prst="rect">
            <a:avLst/>
          </a:prstGeom>
          <a:gradFill rotWithShape="0">
            <a:gsLst>
              <a:gs pos="0">
                <a:srgbClr val="0f4cd5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35"/>
          <p:cNvSpPr/>
          <p:nvPr/>
        </p:nvSpPr>
        <p:spPr>
          <a:xfrm>
            <a:off x="8001000" y="457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f4c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6" descr="g1"/>
          <p:cNvPicPr/>
          <p:nvPr/>
        </p:nvPicPr>
        <p:blipFill>
          <a:blip r:embed="rId2"/>
          <a:stretch/>
        </p:blipFill>
        <p:spPr>
          <a:xfrm>
            <a:off x="8129520" y="584280"/>
            <a:ext cx="619200" cy="6332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37"/>
          <p:cNvGrpSpPr/>
          <p:nvPr/>
        </p:nvGrpSpPr>
        <p:grpSpPr>
          <a:xfrm>
            <a:off x="7162920" y="-380880"/>
            <a:ext cx="2514600" cy="2514600"/>
            <a:chOff x="7162920" y="-380880"/>
            <a:chExt cx="2514600" cy="2514600"/>
          </a:xfrm>
        </p:grpSpPr>
        <p:sp>
          <p:nvSpPr>
            <p:cNvPr id="5" name="Oval 38"/>
            <p:cNvSpPr/>
            <p:nvPr/>
          </p:nvSpPr>
          <p:spPr>
            <a:xfrm>
              <a:off x="7827840" y="297000"/>
              <a:ext cx="1184400" cy="113328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39"/>
            <p:cNvSpPr/>
            <p:nvPr/>
          </p:nvSpPr>
          <p:spPr>
            <a:xfrm>
              <a:off x="7569360" y="-4680"/>
              <a:ext cx="1701720" cy="173988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40"/>
            <p:cNvSpPr/>
            <p:nvPr/>
          </p:nvSpPr>
          <p:spPr>
            <a:xfrm>
              <a:off x="7162920" y="-380880"/>
              <a:ext cx="2514600" cy="251460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D733-80C8-47E2-BF54-FEF0DE0029C3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gradFill rotWithShape="0">
            <a:gsLst>
              <a:gs pos="0">
                <a:srgbClr val="072363"/>
              </a:gs>
              <a:gs pos="100000">
                <a:srgbClr val="0f4c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0" y="3276720"/>
            <a:ext cx="9144000" cy="152280"/>
          </a:xfrm>
          <a:prstGeom prst="rect">
            <a:avLst/>
          </a:prstGeom>
          <a:gradFill rotWithShape="0">
            <a:gsLst>
              <a:gs pos="0">
                <a:srgbClr val="0f4cd5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33"/>
          <p:cNvSpPr/>
          <p:nvPr/>
        </p:nvSpPr>
        <p:spPr>
          <a:xfrm>
            <a:off x="4114800" y="2965320"/>
            <a:ext cx="9144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f4c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4" descr="g1"/>
          <p:cNvPicPr/>
          <p:nvPr/>
        </p:nvPicPr>
        <p:blipFill>
          <a:blip r:embed="rId2"/>
          <a:stretch/>
        </p:blipFill>
        <p:spPr>
          <a:xfrm>
            <a:off x="4233960" y="3086280"/>
            <a:ext cx="674640" cy="650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5"/>
          <p:cNvGrpSpPr/>
          <p:nvPr/>
        </p:nvGrpSpPr>
        <p:grpSpPr>
          <a:xfrm>
            <a:off x="1981080" y="914400"/>
            <a:ext cx="5181840" cy="5025960"/>
            <a:chOff x="1981080" y="914400"/>
            <a:chExt cx="5181840" cy="5025960"/>
          </a:xfrm>
        </p:grpSpPr>
        <p:sp>
          <p:nvSpPr>
            <p:cNvPr id="54" name="Oval 36"/>
            <p:cNvSpPr/>
            <p:nvPr/>
          </p:nvSpPr>
          <p:spPr>
            <a:xfrm>
              <a:off x="3733920" y="2629080"/>
              <a:ext cx="1676160" cy="160020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37"/>
            <p:cNvSpPr/>
            <p:nvPr/>
          </p:nvSpPr>
          <p:spPr>
            <a:xfrm>
              <a:off x="3352680" y="2270160"/>
              <a:ext cx="2438640" cy="22636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38"/>
            <p:cNvSpPr/>
            <p:nvPr/>
          </p:nvSpPr>
          <p:spPr>
            <a:xfrm>
              <a:off x="2819520" y="1666800"/>
              <a:ext cx="3504960" cy="3476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39"/>
            <p:cNvSpPr/>
            <p:nvPr/>
          </p:nvSpPr>
          <p:spPr>
            <a:xfrm>
              <a:off x="1981080" y="914400"/>
              <a:ext cx="5181840" cy="502596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40"/>
          <p:cNvSpPr/>
          <p:nvPr/>
        </p:nvSpPr>
        <p:spPr>
          <a:xfrm>
            <a:off x="3886200" y="51814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  <a:ea typeface="Gulim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4DA4-4148-4172-992A-95D69FB2241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413000"/>
            <a:ext cx="81532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简约蓝色风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458136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Gulim"/>
              </a:rPr>
              <a:t>Click to add titl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25:44Z</dcterms:created>
  <dc:creator>幻灯片 http://www.eeppt.com</dc:creator>
  <dc:description/>
  <cp:keywords>幻灯片 http:/www.eeppt.com</cp:keywords>
  <dc:language>en-US</dc:language>
  <cp:lastModifiedBy/>
  <dcterms:modified xsi:type="dcterms:W3CDTF">2015-07-24T08:16:32Z</dcterms:modified>
  <cp:revision>0</cp:revision>
  <dc:subject/>
  <dc:title/>
</cp:coreProperties>
</file>