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B082-F38B-4DBC-B28E-C917D1F1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FC1D-8EB3-46DC-AFDD-4930C135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F3E7-4296-4E42-A537-15AA9365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FD6-EF2C-4556-88F0-2D5A733A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8FEB-26CE-49E3-B74F-8A060A04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071B-1379-489E-B1B6-95C7CCF1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C833-FB25-4BC2-A6F6-28A27C57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3546-52CD-40B5-AA32-A8B1FFB1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AA3E-5799-4C95-91CB-19A7987F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B092-FA74-49AF-95A5-4D5177C5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EB26-4F67-42F1-8B4A-D2012FBC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311-EAD0-4630-A50F-B9018C41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64D2-DA6B-44D6-B28C-05F7E100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D8D5-4871-466C-AB43-102E3AA0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5252-C1EC-404E-8078-EB348A7E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2C17-A475-4DFC-91C9-92BFC712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F28A-34CC-46F1-86C6-95391BA2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2F025-56B2-4A12-86E0-04ABC245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B263C-AC6A-4021-8790-0B4DAEDA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A995D-4F34-4FA7-9125-D1EA391D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4FA87-CC4F-4C91-891E-3D4752DF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8BD91-A286-4AD5-98AD-4F345692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C8C3-0724-4457-B90C-B46100AA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C5D28-2FBC-4089-8CCD-64AE7DD9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C31F0-E723-4AF8-B8FE-E937ACCE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F3F42-635F-4FCE-93AD-35352148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FD31C-F6B5-480D-B2AC-B4868AAA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B3748-314D-4BF4-BD46-7CC3399B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95012-CD67-43A8-9FA8-ED70E8F7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9D4D5-5E47-4A74-B9D2-F4B58D15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42EE-3B58-4473-B8C1-70B129D1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B05E-F8D6-4918-8232-E2C913EB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5FA5-31E9-4796-8EEB-9B4D574A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E42B-81E8-4BD1-8352-00FBE2D4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1680-5044-4AA9-90C5-A3F2C405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E29C-F37D-4729-B96E-7FCA403E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BE8C-30E3-4037-BAB3-7909D0B8D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12_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1D1D-C697-4A90-9EA4-AB2B3443E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12_副本_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7AF2-45E8-4E59-BD1E-4B761A0DC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爱卡通简约风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09:04:58Z</dcterms:created>
  <dc:creator>幻灯片 http://www.eeppt.com</dc:creator>
  <dc:description/>
  <cp:keywords>幻灯片 http:/www.eeppt.com</cp:keywords>
  <dc:language>en-US</dc:language>
  <cp:lastModifiedBy/>
  <cp:lastPrinted>1899-12-30T00:00:00Z</cp:lastPrinted>
  <dcterms:modified xsi:type="dcterms:W3CDTF">2015-07-24T08:54:1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