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E2D-2516-4820-8B96-078E2203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D56-A951-476B-9917-F0F23BA9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174-0F91-4217-A990-975EC0BF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480-CD53-44A9-B056-25C08CC3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41C3-1845-4B97-941F-F6E8D3D7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E591-0EA8-4C50-AB71-EEF275F6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D122-BBC8-4EC6-A096-BCC225C9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FA4C-8BD1-4246-A6D5-85E4D4E7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A8C5-0FAD-4FEE-A4DD-9908544B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4CD8-CBA3-4F25-AF79-B1617FC1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9DBC-E81C-4AB2-8980-291A2336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EB8-E674-4AE0-AF79-FA80BEF0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29F0-EA49-4640-92D9-E2095080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2A2F-F36F-4CE5-83A7-2657E7A5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2E2C-C6A3-4941-92AF-2406C832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EE27-ECCA-4388-B43A-5F3E9CB0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AFB0-241F-4464-AF80-4D0FB7AA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0B759-4D16-4512-A21E-0963ED4D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EB25-74E5-4541-B267-EF970392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2F189-96F2-4912-A8A6-5A4E67AB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1A1E7-3A5D-4324-8BEB-AB0508ED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1ECE-D5A3-4B6D-8C70-CD44433C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40B-31E9-405D-8728-2E168FD5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C985A-5E7D-44A2-941D-4B62B5B6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1361F-DA95-43CE-9924-7E78B36E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6CE71-3FF8-4E7F-A6E0-0C1C0B7B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B40A-8045-4452-B674-8A611950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B8DB-0E26-4BF0-9924-717ECD45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1C0B-6A8B-441E-9358-0A29C14E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7961C-619C-447A-8812-2991A011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81CB8-9EE4-4801-9872-BFD4C3AE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4B783-42DB-4972-BF4D-CB27EC25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33A9-A0B4-4182-9F3B-58ED65BD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14A-B998-4C5A-8BBC-2B9D8243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40FC7-4DB9-4F3C-8280-32D64CF2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39252-5C73-4A16-AAB4-571AAACC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E9944-7ECE-4BB7-A4BD-42BD3711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EA04C-7A11-46A7-A32E-02421FAA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61702-E8C7-4C84-A688-C38B55DF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88518-A091-467E-8273-8A5CADE5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6E654-12B4-4DCD-99BF-73892A77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EBDB6-E442-45BD-AC49-634A21EB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8366A-1231-4826-A234-828BEA25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47CEF-0E8C-4A00-A300-B481C911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A5C-8923-4EEF-83CB-9BD26612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F2E48-9C8A-4BB4-8A21-50FB996F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0BB76-AE66-417D-9920-7BBEF0A4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7619F-7E09-47D1-9FF9-65FF8EB2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169DF-C0AA-46F0-8D12-76D4B0F8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729C4-B063-4B6D-AF2B-6138AE90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E1BE8-2C48-497B-9887-C46AB56F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E9F5D-DE95-4760-A219-12B5EABB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8107F-9769-4ED0-926E-9C4B55E7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2EB6E-B70B-47FC-8A0A-E37386C6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4E8DD-374F-488A-B83F-8607489D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0E9-D301-4522-918E-7967417D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05C97-2D30-4EC4-B1AF-BE664207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68583-DE51-4BD9-A3CB-0857B66E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891C9-0781-423B-81C2-F798BFF8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16AB9-7FF8-4025-BFDB-8A7D95C7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1D9FE-41BC-4A07-8D06-B9D436F1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8FBE2-E9C6-40B8-B4EB-A67A9B84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1BEDF-20B8-49BC-8D6B-CB0D89EE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E78E2-1C32-4451-A076-449F2200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21BC7-2EC9-4D8A-A6E5-9D1AA001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FFDC5-BA92-49CC-8474-A0091266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730-028A-4BA3-89CD-4FB27FFA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050EA-F691-4593-AD1D-D1D16EBD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08E25-8226-4342-A67D-5E7D356F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1235D-E686-4B3C-889E-5DC66052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C9041-AC5B-4AD0-8574-FD41C9A0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94925-A7A7-4E49-9546-66EC5847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394E6-148C-4753-98DC-43AB0DF0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FBD91-A722-4E9A-8BCB-3086EC96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93610-6146-46CA-BC87-827A5456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BD89B-95A8-4232-9660-003A3629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375C3-3CC0-4412-A304-B9DFA67A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B86-5E6E-419B-8B76-0908F163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2B49B-62D5-46AE-88F5-C88D1170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6E0CF-596B-40CB-9160-3CF8B1B8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C26E4-F2D2-4A5A-BB8E-7088D397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81E8F-8CF1-4594-882D-0970B5DA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41A1C-A2D8-43C3-82BB-FF8B9F80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81E-7E2A-43EB-ACE7-52067E91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Triangle rectangle 6"/>
          <p:cNvGrpSpPr/>
          <p:nvPr/>
        </p:nvGrpSpPr>
        <p:grpSpPr>
          <a:xfrm>
            <a:off x="6480" y="12600"/>
            <a:ext cx="9131040" cy="6838920"/>
            <a:chOff x="6480" y="12600"/>
            <a:chExt cx="9131040" cy="6838920"/>
          </a:xfrm>
        </p:grpSpPr>
        <p:pic>
          <p:nvPicPr>
            <p:cNvPr id="1" name="Triangle rectangle 6" descr=""/>
            <p:cNvPicPr/>
            <p:nvPr/>
          </p:nvPicPr>
          <p:blipFill>
            <a:blip r:embed="rId2"/>
            <a:stretch/>
          </p:blipFill>
          <p:spPr>
            <a:xfrm>
              <a:off x="6480" y="12600"/>
              <a:ext cx="9131040" cy="68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66800" y="4002120"/>
              <a:ext cx="4565520" cy="22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3CB4-93E3-42C2-A237-68C86B2ED164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8A6A-603A-4251-9854-75A809025B7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Triangle rectangle 6"/>
          <p:cNvGrpSpPr/>
          <p:nvPr/>
        </p:nvGrpSpPr>
        <p:grpSpPr>
          <a:xfrm>
            <a:off x="6480" y="12600"/>
            <a:ext cx="9131040" cy="6838920"/>
            <a:chOff x="6480" y="12600"/>
            <a:chExt cx="9131040" cy="6838920"/>
          </a:xfrm>
        </p:grpSpPr>
        <p:pic>
          <p:nvPicPr>
            <p:cNvPr id="47" name="Triangle rectangle 6" descr=""/>
            <p:cNvPicPr/>
            <p:nvPr/>
          </p:nvPicPr>
          <p:blipFill>
            <a:blip r:embed="rId2"/>
            <a:stretch/>
          </p:blipFill>
          <p:spPr>
            <a:xfrm>
              <a:off x="6480" y="12600"/>
              <a:ext cx="9131040" cy="68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66800" y="4002120"/>
              <a:ext cx="4565520" cy="22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orme 9"/>
          <p:cNvSpPr/>
          <p:nvPr/>
        </p:nvSpPr>
        <p:spPr>
          <a:xfrm rot="16200000">
            <a:off x="7553880" y="5254920"/>
            <a:ext cx="189252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CED6-48F8-47F3-A147-875BBDC64A01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F558-922A-4B87-A0F9-91797C766DC6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Triangle rectangle 6"/>
          <p:cNvGrpSpPr/>
          <p:nvPr/>
        </p:nvGrpSpPr>
        <p:grpSpPr>
          <a:xfrm>
            <a:off x="6480" y="12600"/>
            <a:ext cx="9131040" cy="6838920"/>
            <a:chOff x="6480" y="12600"/>
            <a:chExt cx="9131040" cy="6838920"/>
          </a:xfrm>
        </p:grpSpPr>
        <p:pic>
          <p:nvPicPr>
            <p:cNvPr id="94" name="Triangle rectangle 6" descr=""/>
            <p:cNvPicPr/>
            <p:nvPr/>
          </p:nvPicPr>
          <p:blipFill>
            <a:blip r:embed="rId2"/>
            <a:stretch/>
          </p:blipFill>
          <p:spPr>
            <a:xfrm>
              <a:off x="6480" y="12600"/>
              <a:ext cx="9131040" cy="68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66800" y="4002120"/>
              <a:ext cx="4565520" cy="22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1859-EE97-4128-BB02-7A84631DBD1D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2897-E4CA-412F-93B3-704B3F1568F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rme 6"/>
          <p:cNvSpPr/>
          <p:nvPr/>
        </p:nvSpPr>
        <p:spPr>
          <a:xfrm flipV="1" rot="5400000">
            <a:off x="7554240" y="310320"/>
            <a:ext cx="18921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Triangle rectangle 7"/>
          <p:cNvGrpSpPr/>
          <p:nvPr/>
        </p:nvGrpSpPr>
        <p:grpSpPr>
          <a:xfrm>
            <a:off x="6480" y="6480"/>
            <a:ext cx="9131040" cy="6838920"/>
            <a:chOff x="6480" y="6480"/>
            <a:chExt cx="9131040" cy="6838920"/>
          </a:xfrm>
        </p:grpSpPr>
        <p:pic>
          <p:nvPicPr>
            <p:cNvPr id="141" name="Triangle rectangle 7" descr=""/>
            <p:cNvPicPr/>
            <p:nvPr/>
          </p:nvPicPr>
          <p:blipFill>
            <a:blip r:embed="rId2"/>
            <a:stretch/>
          </p:blipFill>
          <p:spPr>
            <a:xfrm>
              <a:off x="6480" y="6480"/>
              <a:ext cx="9131040" cy="68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 rot="10800000">
              <a:off x="766800" y="576000"/>
              <a:ext cx="4565520" cy="22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Connecteur droit 8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Connecteur droit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7441-6D60-4306-8C2D-F0A224CC43E7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DF44-70ED-42C9-8B1B-23C83AA6B363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326E-59D1-4BC1-9414-25A7E6667A43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1093-189C-4D63-951A-97AC94FA116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5E65-A6B0-41BE-8A5A-CBBAC3AC30B5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AEC3-F3FF-4C77-ACE2-215DB189C34B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9AE4-492F-4BCE-9D08-65F83A1B0710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83D1-A4FB-43D5-80F8-E2868250032F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6"/>
          <p:cNvSpPr/>
          <p:nvPr/>
        </p:nvSpPr>
        <p:spPr>
          <a:xfrm>
            <a:off x="5511960" y="3068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矩形 1"/>
          <p:cNvSpPr/>
          <p:nvPr/>
        </p:nvSpPr>
        <p:spPr>
          <a:xfrm>
            <a:off x="2176920" y="1413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黄世界简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rme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Century Gothic"/>
              </a:rPr>
              <a:t>Con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2486160" y="47628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7f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55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Century Gothic"/>
              </a:rPr>
              <a:t>Conte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2486160" y="47628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20:13:44Z</dcterms:created>
  <dc:creator>幻灯片 http://www.eeppt.com</dc:creator>
  <dc:description/>
  <cp:keywords>幻灯片 http:/www.eeppt.com</cp:keywords>
  <dc:language>en-US</dc:language>
  <cp:lastModifiedBy/>
  <dcterms:modified xsi:type="dcterms:W3CDTF">2015-07-24T08:15:46Z</dcterms:modified>
  <cp:revision>0</cp:revision>
  <dc:subject/>
  <dc:title/>
</cp:coreProperties>
</file>