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401-D7C5-476F-81A9-48AFDD63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EBA-59CB-4E98-8D65-2AFF7F2D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C3A-4650-4623-9FCD-CC0C8124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568-E782-429D-853D-57166F6C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9D1-1BF1-4505-99B9-8266D89F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044-1828-400A-A13A-3B368DB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D29-B796-4CB3-A5D3-309CE76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D71-6325-4FCB-94F1-05C9D0A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0C4-DF70-4698-90A5-A44ECBD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B3C-669B-48F2-B343-555B142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EDF-A51E-49F1-9B2B-35FFE31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AA7-52A0-474C-8078-678741B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C640-1657-4367-9262-FB7D2FC3A7C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3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5F8-176A-4AD0-9EF5-BAC77799FC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直角三角形 4"/>
            <p:cNvSpPr/>
            <p:nvPr/>
          </p:nvSpPr>
          <p:spPr>
            <a:xfrm flipV="1">
              <a:off x="0" y="0"/>
              <a:ext cx="9144000" cy="685800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角三角形 5"/>
            <p:cNvSpPr/>
            <p:nvPr/>
          </p:nvSpPr>
          <p:spPr>
            <a:xfrm flipV="1" rot="10800000">
              <a:off x="0" y="0"/>
              <a:ext cx="9144000" cy="6858000"/>
            </a:xfrm>
            <a:prstGeom prst="rtTriangle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0" y="1357200"/>
            <a:ext cx="9144000" cy="4143600"/>
            <a:chOff x="0" y="1357200"/>
            <a:chExt cx="9144000" cy="4143600"/>
          </a:xfrm>
        </p:grpSpPr>
        <p:sp>
          <p:nvSpPr>
            <p:cNvPr id="45" name="圆角矩形 8"/>
            <p:cNvSpPr/>
            <p:nvPr/>
          </p:nvSpPr>
          <p:spPr>
            <a:xfrm>
              <a:off x="214200" y="1357200"/>
              <a:ext cx="8715600" cy="264348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0" y="209664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蓝黄双色</a:t>
              </a:r>
              <a:r>
                <a:rPr b="0" lang="en-US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PPT</a:t>
              </a:r>
              <a:r>
                <a:rPr b="0" lang="zh-CN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11"/>
            <p:cNvSpPr/>
            <p:nvPr/>
          </p:nvSpPr>
          <p:spPr>
            <a:xfrm>
              <a:off x="1785960" y="4357800"/>
              <a:ext cx="5429160" cy="114300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0"/>
            <p:cNvSpPr/>
            <p:nvPr/>
          </p:nvSpPr>
          <p:spPr>
            <a:xfrm>
              <a:off x="0" y="4437360"/>
              <a:ext cx="9144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228760" y="1378080"/>
          <a:ext cx="5400720" cy="4054320"/>
        </p:xfrm>
        <a:graphic>
          <a:graphicData uri="http://schemas.openxmlformats.org/drawingml/2006/table">
            <a:tbl>
              <a:tblPr/>
              <a:tblGrid>
                <a:gridCol w="1857600"/>
                <a:gridCol w="354312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52" name="云形标注 6"/>
          <p:cNvSpPr/>
          <p:nvPr/>
        </p:nvSpPr>
        <p:spPr>
          <a:xfrm rot="809400">
            <a:off x="4149360" y="2330280"/>
            <a:ext cx="2971800" cy="2149560"/>
          </a:xfrm>
          <a:prstGeom prst="cloudCallout">
            <a:avLst>
              <a:gd name="adj1" fmla="val -28152"/>
              <a:gd name="adj2" fmla="val 861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292720" y="426960"/>
            <a:ext cx="38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VERAL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292720" y="42696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Design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7" name="椭圆 11"/>
          <p:cNvSpPr/>
          <p:nvPr/>
        </p:nvSpPr>
        <p:spPr>
          <a:xfrm>
            <a:off x="3519360" y="2781360"/>
            <a:ext cx="2132280" cy="2131920"/>
          </a:xfrm>
          <a:prstGeom prst="ellipse">
            <a:avLst/>
          </a:prstGeom>
          <a:solidFill>
            <a:srgbClr val="0070c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08000" y="104760"/>
            <a:ext cx="6285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直角三角形 4"/>
            <p:cNvSpPr/>
            <p:nvPr/>
          </p:nvSpPr>
          <p:spPr>
            <a:xfrm flipV="1">
              <a:off x="0" y="0"/>
              <a:ext cx="9144000" cy="685800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角三角形 5"/>
            <p:cNvSpPr/>
            <p:nvPr/>
          </p:nvSpPr>
          <p:spPr>
            <a:xfrm flipV="1" rot="10800000">
              <a:off x="0" y="0"/>
              <a:ext cx="9144000" cy="6858000"/>
            </a:xfrm>
            <a:prstGeom prst="rtTriangle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0" y="1357200"/>
            <a:ext cx="9144000" cy="4143600"/>
            <a:chOff x="0" y="1357200"/>
            <a:chExt cx="9144000" cy="4143600"/>
          </a:xfrm>
        </p:grpSpPr>
        <p:sp>
          <p:nvSpPr>
            <p:cNvPr id="64" name="圆角矩形 10"/>
            <p:cNvSpPr/>
            <p:nvPr/>
          </p:nvSpPr>
          <p:spPr>
            <a:xfrm>
              <a:off x="214200" y="1357200"/>
              <a:ext cx="8715600" cy="264348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0" y="210492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THANK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12"/>
            <p:cNvSpPr/>
            <p:nvPr/>
          </p:nvSpPr>
          <p:spPr>
            <a:xfrm>
              <a:off x="1785960" y="4357800"/>
              <a:ext cx="5429160" cy="114300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9"/>
          <p:cNvSpPr/>
          <p:nvPr/>
        </p:nvSpPr>
        <p:spPr>
          <a:xfrm>
            <a:off x="2487600" y="4917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9:23:00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28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