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6664-E503-4AD2-B2FA-10A217DD6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D5D4-0C06-43EF-8CC0-6B1426F3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A85F-11B8-4DE1-9BBB-C128A0138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9B26-724B-4D0E-9CFF-AB8F22942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E5B6-73E7-48C7-A60E-EF9745D1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4980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18880" y="19872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98072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514980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318880" y="4329000"/>
            <a:ext cx="301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06CF-CF17-49B9-B070-735F90E9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8868-A5DD-4E8E-87C7-397F76AE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DB23-62D0-4262-9BD7-B10E5651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0720" y="380520"/>
            <a:ext cx="93726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4BAB-0554-4847-B435-303EECCC4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4B1F-4CDF-4376-A124-300A0902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83480" y="43290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5998-2EB0-4F97-905A-57029882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072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83480" y="1987200"/>
            <a:ext cx="4573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0720" y="4329000"/>
            <a:ext cx="93726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9D39-30C0-4043-9B0B-C440CCC3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631240" y="5690880"/>
            <a:ext cx="28116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631240" y="364680"/>
            <a:ext cx="281160" cy="51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12840" y="6269040"/>
            <a:ext cx="7221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c8c8c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15CE-A8DC-4A46-A242-3DFD3DD15824}" type="slidenum">
              <a:rPr b="0" lang="en-US" sz="800" spc="-1" strike="noStrike">
                <a:solidFill>
                  <a:srgbClr val="8c8c8c"/>
                </a:solidFill>
                <a:latin typeface="Times New Roman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8580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2333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1461960" indent="-18252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755640"/>
            <a:ext cx="745992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蓝色简约毕业答辩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模板下载</a:t>
            </a:r>
            <a:endParaRPr b="0" lang="en-US" sz="40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480" y="3955680"/>
            <a:ext cx="68580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宋体"/>
              </a:rPr>
              <a:t>Subtitl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40404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  <a:ea typeface="宋体"/>
              </a:rPr>
              <a:t>TITLE AND CONTENT LAYOUT WITH LIS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980720" y="1987200"/>
            <a:ext cx="93726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Add your first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Add your secon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Add your thir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  <a:ea typeface="宋体"/>
              </a:rPr>
              <a:t>TITLE AND CONTENT LAYOUT WITH CHAR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graphicFrame>
        <p:nvGraphicFramePr>
          <p:cNvPr id="85" name="Content Placeholder 5"/>
          <p:cNvGraphicFramePr/>
          <p:nvPr/>
        </p:nvGraphicFramePr>
        <p:xfrm>
          <a:off x="1930320" y="1936800"/>
          <a:ext cx="9474120" cy="45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Content Placeholder 5" descr="Clustered Column Chart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0320" y="1936800"/>
                    <a:ext cx="947412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  <a:ea typeface="宋体"/>
              </a:rPr>
              <a:t>TWO CONTENT LAYOUT WITH TABLE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981080" y="1980720"/>
            <a:ext cx="4572000" cy="44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First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Secon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Thir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781680" y="1981080"/>
          <a:ext cx="4572000" cy="208944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</a:tblGrid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d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Group 1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d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Group 2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dcff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82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95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76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88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9ff"/>
                    </a:solidFill>
                  </a:tcPr>
                </a:tc>
              </a:tr>
              <a:tr h="52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84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040"/>
                          </a:solidFill>
                          <a:latin typeface="Calibri"/>
                          <a:ea typeface="宋体"/>
                        </a:rPr>
                        <a:t>90</a:t>
                      </a:r>
                      <a:endParaRPr b="0" lang="en-US" sz="1800" spc="-1" strike="noStrike">
                        <a:solidFill>
                          <a:srgbClr val="40404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2ff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5"/>
          <p:cNvSpPr/>
          <p:nvPr/>
        </p:nvSpPr>
        <p:spPr>
          <a:xfrm>
            <a:off x="378000" y="643104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17e1f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40404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40404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80720" y="380520"/>
            <a:ext cx="93726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bdcff"/>
                </a:solidFill>
                <a:latin typeface="Calibri"/>
                <a:ea typeface="宋体"/>
              </a:rPr>
              <a:t>TWO CONTENT LAYOUT WITH SMARTART</a:t>
            </a:r>
            <a:endParaRPr b="0" lang="en-US" sz="4400" spc="-1" strike="noStrike">
              <a:solidFill>
                <a:srgbClr val="1bdc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981080" y="1980720"/>
            <a:ext cx="4572000" cy="44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First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Secon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800"/>
              </a:spcBef>
              <a:buClr>
                <a:srgbClr val="40404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宋体"/>
              </a:rPr>
              <a:t>Third bullet point he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93" name="Content Placeholder 4" descr="Interconnected Block Process"/>
          <p:cNvPicPr/>
          <p:nvPr/>
        </p:nvPicPr>
        <p:blipFill>
          <a:blip r:embed="rId1"/>
          <a:stretch/>
        </p:blipFill>
        <p:spPr>
          <a:xfrm>
            <a:off x="6778800" y="1981080"/>
            <a:ext cx="4730400" cy="4480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9T12:50:02Z</dcterms:created>
  <dc:creator>幻灯片 http://www.eeppt.com</dc:creator>
  <dc:description/>
  <cp:keywords>幻灯片 http:/www.eeppt.com</cp:keywords>
  <dc:language>en-US</dc:language>
  <cp:lastModifiedBy/>
  <dcterms:modified xsi:type="dcterms:W3CDTF">2015-07-24T07:50:3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  <property fmtid="{D5CDD505-2E9C-101B-9397-08002B2CF9AE}" pid="3" name="_TemplateID">
    <vt:lpwstr>TC030310279991</vt:lpwstr>
  </property>
</Properties>
</file>