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hdphoto1.wdp" ContentType="image/vnd.ms-photo"/>
  <Override PartName="/ppt/media/image2.png" ContentType="image/png"/>
  <Override PartName="/ppt/media/image4.png" ContentType="image/png"/>
  <Override PartName="/ppt/media/hdphoto2.wdp" ContentType="image/vnd.ms-photo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0CD8-7F92-47F4-A001-F3F742A54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0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01480"/>
            <a:ext cx="77720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DB61-8AE8-4F4F-A9E0-50635798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0148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0148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6FED-3BF0-4E77-83D1-A08D7A4B3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01480"/>
            <a:ext cx="25023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01480"/>
            <a:ext cx="25023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01480"/>
            <a:ext cx="25023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B583-1666-4932-B170-187679EBC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C445-C046-4B15-9926-A8719441C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0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3467-39BC-4F6A-AAB1-C736686E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0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4824-7031-4324-BEA8-A3E100AB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9121-BDAD-49E6-9172-0CD3539F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EAC50-3E69-4E5F-B25A-0F02F9F8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365760"/>
            <a:ext cx="77720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F073-0344-4020-A7C0-1B765BFA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0148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6A80-ECFB-49D1-B331-5554690E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0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9EFF-231E-4361-9E25-6CEFD1CF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410148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8CEF-0361-4176-A1BF-F4F08269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01480"/>
            <a:ext cx="77720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904E-B1A3-4F9A-926C-07AA79B5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0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4101480"/>
            <a:ext cx="77720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EEDA-BAA4-45EE-80B8-FAC8A117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0148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410148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6979-C5A7-40EC-89C8-5D3489C98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4101480"/>
            <a:ext cx="25023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4101480"/>
            <a:ext cx="25023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4101480"/>
            <a:ext cx="25023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4F5C-CF9E-4374-BFD3-553B7D4FB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0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E315-D7B8-432A-BD31-7D4BAAD1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9DF5-1083-4E5A-93E7-EBEF45F0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0BE7-0B99-4FDC-9D36-8529F2D4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65760"/>
            <a:ext cx="77720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00F4-E12B-4DC4-8A1B-A31A568B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0148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C711-76DE-4EBC-88FE-83C71D17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0148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8BA9-C528-4FB0-8179-EC46EB8A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01480"/>
            <a:ext cx="77720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423B-6811-4795-BDC0-DBD38547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microsoft.com/office/2007/relationships/hdphoto" Target="../media/hdphoto1.wdp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microsoft.com/office/2007/relationships/hdphoto" Target="../media/hdphoto2.wdp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sat="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7" hidden="1"/>
          <p:cNvSpPr/>
          <p:nvPr/>
        </p:nvSpPr>
        <p:spPr>
          <a:xfrm>
            <a:off x="0" y="0"/>
            <a:ext cx="9143640" cy="689220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404040">
                  <a:alpha val="50196"/>
                </a:srgbClr>
              </a:gs>
            </a:gsLst>
            <a:path path="circle">
              <a:fillToRect l="50000" t="0" r="50000" b="10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" name="Picture 11" descr=""/>
          <p:cNvPicPr/>
          <p:nvPr/>
        </p:nvPicPr>
        <p:blipFill>
          <a:blip r:embed="rId4"/>
          <a:srcRect l="22333" t="0" r="21878" b="8"/>
          <a:stretch/>
        </p:blipFill>
        <p:spPr>
          <a:xfrm>
            <a:off x="7557480" y="2392560"/>
            <a:ext cx="1586160" cy="44650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3" descr=""/>
          <p:cNvPicPr/>
          <p:nvPr/>
        </p:nvPicPr>
        <p:blipFill>
          <a:blip r:embed="rId5"/>
          <a:stretch/>
        </p:blipFill>
        <p:spPr>
          <a:xfrm>
            <a:off x="0" y="0"/>
            <a:ext cx="9143640" cy="68922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7"/>
          <p:cNvSpPr/>
          <p:nvPr/>
        </p:nvSpPr>
        <p:spPr>
          <a:xfrm>
            <a:off x="0" y="0"/>
            <a:ext cx="9143640" cy="6892200"/>
          </a:xfrm>
          <a:prstGeom prst="rect">
            <a:avLst/>
          </a:prstGeom>
          <a:solidFill>
            <a:schemeClr val="bg1">
              <a:lumMod val="50000"/>
              <a:alpha val="67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0" y="2303280"/>
            <a:ext cx="9143640" cy="1576080"/>
          </a:xfrm>
          <a:prstGeom prst="rect">
            <a:avLst/>
          </a:prstGeom>
          <a:gradFill rotWithShape="0">
            <a:gsLst>
              <a:gs pos="0">
                <a:srgbClr val="f2f2f2">
                  <a:alpha val="0"/>
                </a:srgbClr>
              </a:gs>
              <a:gs pos="100000">
                <a:srgbClr val="ffffff">
                  <a:alpha val="75294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2307240"/>
            <a:ext cx="9143640" cy="91800"/>
          </a:xfrm>
          <a:prstGeom prst="rect">
            <a:avLst/>
          </a:prstGeom>
          <a:gradFill rotWithShape="0">
            <a:gsLst>
              <a:gs pos="32000">
                <a:srgbClr val="808080">
                  <a:alpha val="0"/>
                </a:srgbClr>
              </a:gs>
              <a:gs pos="100000">
                <a:srgbClr val="80808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Rectangle 10"/>
          <p:cNvSpPr/>
          <p:nvPr/>
        </p:nvSpPr>
        <p:spPr>
          <a:xfrm flipV="1">
            <a:off x="0" y="3788280"/>
            <a:ext cx="9143640" cy="91800"/>
          </a:xfrm>
          <a:prstGeom prst="rect">
            <a:avLst/>
          </a:prstGeom>
          <a:gradFill rotWithShape="0">
            <a:gsLst>
              <a:gs pos="32000">
                <a:srgbClr val="808080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399400"/>
            <a:ext cx="7772040" cy="138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Click to edit Master title sty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68580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595959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303156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640080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4587A1-EBAD-409E-B17D-870E8E6EF6A1}" type="slidenum">
              <a:rPr b="0" lang="en-US" sz="11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14" descr=""/>
          <p:cNvPicPr/>
          <p:nvPr/>
        </p:nvPicPr>
        <p:blipFill>
          <a:blip r:embed="rId6">
            <a:extLst>
              <a:ext uri="{BEBA8EAE-BF5A-486C-A8C5-ECC9F3942E4B}">
                <a14:imgProps xmlns:a14="http://schemas.microsoft.com/office/drawing/2010/main">
                  <a14:imgLayer r:embed="rId7">
                    <a14:imgEffect>
                      <a14:saturation sat="0"/>
                    </a14:imgEffect>
                  </a14:imgLayer>
                </a14:imgProps>
              </a:ext>
            </a:extLst>
          </a:blip>
          <a:srcRect l="22327" t="0" r="21881" b="9334"/>
          <a:stretch/>
        </p:blipFill>
        <p:spPr>
          <a:xfrm>
            <a:off x="6440040" y="640080"/>
            <a:ext cx="2703600" cy="6217560"/>
          </a:xfrm>
          <a:prstGeom prst="rect">
            <a:avLst/>
          </a:prstGeom>
          <a:ln w="0">
            <a:noFill/>
          </a:ln>
        </p:spPr>
      </p:pic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ffffff"/>
                </a:solidFill>
                <a:latin typeface="华文楷体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华文楷体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华文楷体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华文楷体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华文楷体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华文楷体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华文楷体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华文楷体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华文楷体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华文楷体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华文楷体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华文楷体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华文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sat="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7"/>
          <p:cNvSpPr/>
          <p:nvPr/>
        </p:nvSpPr>
        <p:spPr>
          <a:xfrm>
            <a:off x="0" y="0"/>
            <a:ext cx="9143640" cy="689220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404040">
                  <a:alpha val="50196"/>
                </a:srgbClr>
              </a:gs>
            </a:gsLst>
            <a:path path="circle">
              <a:fillToRect l="50000" t="0" r="50000" b="10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Picture 11" descr=""/>
          <p:cNvPicPr/>
          <p:nvPr/>
        </p:nvPicPr>
        <p:blipFill>
          <a:blip r:embed="rId3"/>
          <a:srcRect l="22333" t="0" r="21878" b="8"/>
          <a:stretch/>
        </p:blipFill>
        <p:spPr>
          <a:xfrm>
            <a:off x="7557480" y="2392560"/>
            <a:ext cx="1586160" cy="44650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0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Click to edit Master text styles</a:t>
            </a: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华文楷体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2000" spc="-1" strike="noStrike">
                <a:solidFill>
                  <a:srgbClr val="ffffff"/>
                </a:solidFill>
                <a:latin typeface="华文楷体"/>
                <a:ea typeface="华文楷体"/>
              </a:rPr>
              <a:t>Third level</a:t>
            </a:r>
            <a:endParaRPr b="0" lang="en-US" sz="2000" spc="-1" strike="noStrike">
              <a:solidFill>
                <a:srgbClr val="ffffff"/>
              </a:solidFill>
              <a:latin typeface="华文楷体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Fourth level</a:t>
            </a:r>
            <a:endParaRPr b="0" lang="en-US" sz="1800" spc="-1" strike="noStrike">
              <a:solidFill>
                <a:srgbClr val="ffffff"/>
              </a:solidFill>
              <a:latin typeface="华文楷体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Fifth level</a:t>
            </a:r>
            <a:endParaRPr b="0" lang="en-US" sz="1800" spc="-1" strike="noStrike">
              <a:solidFill>
                <a:srgbClr val="ffffff"/>
              </a:solidFill>
              <a:latin typeface="华文楷体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8580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595959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03156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40080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926220-4D88-4437-B9CB-AD00E006CF39}" type="slidenum">
              <a:rPr b="0" lang="en-US" sz="11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399400"/>
            <a:ext cx="8235360" cy="138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历史专业毕业答辩</a:t>
            </a: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4046400"/>
            <a:ext cx="6857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1" lang="en-US" sz="2400" spc="-1" strike="noStrike">
              <a:solidFill>
                <a:srgbClr val="ffffff"/>
              </a:solidFill>
              <a:latin typeface="华文楷体"/>
              <a:ea typeface="华文楷体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此处添加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0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此处添加文本</a:t>
            </a:r>
            <a:endParaRPr b="0" lang="en-US" sz="2800" spc="-1" strike="noStrike">
              <a:solidFill>
                <a:srgbClr val="ffffff"/>
              </a:solidFill>
              <a:latin typeface="华文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Office Theme">
  <a:themeElements>
    <a:clrScheme name="Flow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1_Office Theme">
  <a:themeElements>
    <a:clrScheme name="Flow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71</TotalTime>
  <Application>LibreOffice/7.4.7.2$Linux_X86_64 LibreOffice_project/40$Build-2</Application>
  <AppVersion>15.0000</AppVersion>
  <Words>18</Words>
  <Paragraphs>4</Paragraphs>
  <Company>Sky123.Org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UDi-主题模板</cp:category>
  <dcterms:created xsi:type="dcterms:W3CDTF">2012-07-30T12:54:55Z</dcterms:created>
  <dc:creator>果因PPT工作室;lenovo</dc:creator>
  <dc:description/>
  <cp:keywords>XS-普屏 4：3 SC-淡灰色 BG-浅色 DH-静态</cp:keywords>
  <dc:language>en-US</dc:language>
  <cp:lastModifiedBy>a</cp:lastModifiedBy>
  <dcterms:modified xsi:type="dcterms:W3CDTF">2015-07-24T07:46:21Z</dcterms:modified>
  <cp:revision>14</cp:revision>
  <dc:subject>TP-人文风俗</dc:subject>
  <dc:title>大学生学术系列2——兰亭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</vt:r8>
  </property>
</Properties>
</file>