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724280" y="1066680"/>
            <a:ext cx="327636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Bold ITC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Eras Bold ITC"/>
                <a:ea typeface="宋体"/>
              </a:rPr>
              <a:t>YOUR</a:t>
            </a:r>
            <a:r>
              <a:rPr b="1" lang="en-US" sz="3200" spc="-1" strike="noStrike">
                <a:solidFill>
                  <a:srgbClr val="000000"/>
                </a:solidFill>
                <a:latin typeface="Eras Bold ITC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Eras Bold ITC"/>
                <a:ea typeface="宋体"/>
              </a:rPr>
              <a:t>SUBTITLE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Eras Bold ITC"/>
                <a:ea typeface="宋体"/>
              </a:rPr>
              <a:t>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609480" y="990720"/>
            <a:ext cx="3428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879"/>
              </a:spcBef>
              <a:tabLst>
                <a:tab algn="l" pos="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ras Bold ITC"/>
                <a:ea typeface="宋体"/>
              </a:rPr>
              <a:t>MEDIE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879"/>
              </a:spcBef>
              <a:tabLst>
                <a:tab algn="l" pos="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ras Bold ITC"/>
                <a:ea typeface="宋体"/>
              </a:rPr>
              <a:t>CH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>
            <a:off x="2342160" y="284040"/>
            <a:ext cx="47635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菱形设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90920" y="9144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000000"/>
                </a:solidFill>
                <a:latin typeface="Eras Bold ITC"/>
                <a:ea typeface="宋体"/>
              </a:rPr>
              <a:t>YOUR TITLE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81080" y="1371600"/>
            <a:ext cx="5105160" cy="380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Eras Bold ITC"/>
                <a:ea typeface="宋体"/>
              </a:rPr>
              <a:t>YOUR SUBTOPIC GOE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8280" y="1066680"/>
            <a:ext cx="4038120" cy="609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000000"/>
                </a:solidFill>
                <a:latin typeface="Eras Bold ITC"/>
                <a:ea typeface="宋体"/>
              </a:rPr>
              <a:t>TRANSI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edieval_chains">
  <a:themeElements>
    <a:clrScheme name="goodvsevil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edieval_chains">
  <a:themeElements>
    <a:clrScheme name="goodvsevil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medieval_chains</Template>
  <TotalTime>6</TotalTime>
  <Application>LibreOffice/7.4.7.2$Linux_X86_64 LibreOffice_project/40$Build-2</Application>
  <AppVersion>15.0000</AppVersion>
  <Words>27</Words>
  <Paragraphs>8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02:19:31Z</dcterms:created>
  <dc:creator>微软中国</dc:creator>
  <dc:description/>
  <dc:language>en-US</dc:language>
  <cp:lastModifiedBy>a</cp:lastModifiedBy>
  <dcterms:modified xsi:type="dcterms:W3CDTF">2015-07-24T07:07:28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